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 id="328" r:id="rId231"/>
    <p:sldId id="329" r:id="rId232"/>
    <p:sldId id="330" r:id="rId233"/>
    <p:sldId id="331" r:id="rId234"/>
    <p:sldId id="332" r:id="rId235"/>
    <p:sldId id="333" r:id="rId236"/>
    <p:sldId id="334" r:id="rId237"/>
    <p:sldId id="335" r:id="rId238"/>
    <p:sldId id="336" r:id="rId239"/>
    <p:sldId id="337" r:id="rId240"/>
    <p:sldId id="338" r:id="rId241"/>
    <p:sldId id="339" r:id="rId242"/>
    <p:sldId id="340" r:id="rId243"/>
    <p:sldId id="341" r:id="rId244"/>
    <p:sldId id="342" r:id="rId245"/>
    <p:sldId id="343" r:id="rId246"/>
    <p:sldId id="344" r:id="rId247"/>
    <p:sldId id="345" r:id="rId248"/>
    <p:sldId id="346" r:id="rId249"/>
    <p:sldId id="347" r:id="rId250"/>
    <p:sldId id="348" r:id="rId251"/>
    <p:sldId id="349" r:id="rId252"/>
    <p:sldId id="350" r:id="rId253"/>
    <p:sldId id="351" r:id="rId254"/>
    <p:sldId id="352" r:id="rId255"/>
    <p:sldId id="353" r:id="rId256"/>
    <p:sldId id="354" r:id="rId257"/>
    <p:sldId id="355" r:id="rId258"/>
    <p:sldId id="356" r:id="rId259"/>
    <p:sldId id="357" r:id="rId260"/>
    <p:sldId id="358" r:id="rId261"/>
    <p:sldId id="359" r:id="rId262"/>
    <p:sldId id="360" r:id="rId263"/>
    <p:sldId id="361" r:id="rId264"/>
    <p:sldId id="362" r:id="rId265"/>
    <p:sldId id="363" r:id="rId266"/>
    <p:sldId id="364" r:id="rId267"/>
    <p:sldId id="365" r:id="rId268"/>
    <p:sldId id="366" r:id="rId269"/>
    <p:sldId id="367" r:id="rId270"/>
    <p:sldId id="368" r:id="rId271"/>
    <p:sldId id="369" r:id="rId272"/>
    <p:sldId id="370" r:id="rId273"/>
    <p:sldId id="371" r:id="rId274"/>
    <p:sldId id="372" r:id="rId275"/>
    <p:sldId id="373" r:id="rId276"/>
    <p:sldId id="374" r:id="rId277"/>
    <p:sldId id="375" r:id="rId27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slide" Target="slides/slide73.xml"/><Relationship Id="rId232" Type="http://schemas.openxmlformats.org/officeDocument/2006/relationships/slide" Target="slides/slide74.xml"/><Relationship Id="rId233" Type="http://schemas.openxmlformats.org/officeDocument/2006/relationships/slide" Target="slides/slide75.xml"/><Relationship Id="rId234" Type="http://schemas.openxmlformats.org/officeDocument/2006/relationships/slide" Target="slides/slide76.xml"/><Relationship Id="rId235" Type="http://schemas.openxmlformats.org/officeDocument/2006/relationships/slide" Target="slides/slide77.xml"/><Relationship Id="rId236" Type="http://schemas.openxmlformats.org/officeDocument/2006/relationships/slide" Target="slides/slide78.xml"/><Relationship Id="rId237" Type="http://schemas.openxmlformats.org/officeDocument/2006/relationships/slide" Target="slides/slide79.xml"/><Relationship Id="rId238" Type="http://schemas.openxmlformats.org/officeDocument/2006/relationships/slide" Target="slides/slide80.xml"/><Relationship Id="rId239" Type="http://schemas.openxmlformats.org/officeDocument/2006/relationships/slide" Target="slides/slide81.xml"/><Relationship Id="rId240" Type="http://schemas.openxmlformats.org/officeDocument/2006/relationships/slide" Target="slides/slide82.xml"/><Relationship Id="rId241" Type="http://schemas.openxmlformats.org/officeDocument/2006/relationships/slide" Target="slides/slide83.xml"/><Relationship Id="rId242" Type="http://schemas.openxmlformats.org/officeDocument/2006/relationships/slide" Target="slides/slide84.xml"/><Relationship Id="rId243" Type="http://schemas.openxmlformats.org/officeDocument/2006/relationships/slide" Target="slides/slide85.xml"/><Relationship Id="rId244" Type="http://schemas.openxmlformats.org/officeDocument/2006/relationships/slide" Target="slides/slide86.xml"/><Relationship Id="rId245" Type="http://schemas.openxmlformats.org/officeDocument/2006/relationships/slide" Target="slides/slide87.xml"/><Relationship Id="rId246" Type="http://schemas.openxmlformats.org/officeDocument/2006/relationships/slide" Target="slides/slide88.xml"/><Relationship Id="rId247" Type="http://schemas.openxmlformats.org/officeDocument/2006/relationships/slide" Target="slides/slide89.xml"/><Relationship Id="rId248" Type="http://schemas.openxmlformats.org/officeDocument/2006/relationships/slide" Target="slides/slide90.xml"/><Relationship Id="rId249" Type="http://schemas.openxmlformats.org/officeDocument/2006/relationships/slide" Target="slides/slide91.xml"/><Relationship Id="rId250" Type="http://schemas.openxmlformats.org/officeDocument/2006/relationships/slide" Target="slides/slide92.xml"/><Relationship Id="rId251" Type="http://schemas.openxmlformats.org/officeDocument/2006/relationships/slide" Target="slides/slide93.xml"/><Relationship Id="rId252" Type="http://schemas.openxmlformats.org/officeDocument/2006/relationships/slide" Target="slides/slide94.xml"/><Relationship Id="rId253" Type="http://schemas.openxmlformats.org/officeDocument/2006/relationships/slide" Target="slides/slide95.xml"/><Relationship Id="rId254" Type="http://schemas.openxmlformats.org/officeDocument/2006/relationships/slide" Target="slides/slide96.xml"/><Relationship Id="rId255" Type="http://schemas.openxmlformats.org/officeDocument/2006/relationships/slide" Target="slides/slide97.xml"/><Relationship Id="rId256" Type="http://schemas.openxmlformats.org/officeDocument/2006/relationships/slide" Target="slides/slide98.xml"/><Relationship Id="rId257" Type="http://schemas.openxmlformats.org/officeDocument/2006/relationships/slide" Target="slides/slide99.xml"/><Relationship Id="rId258" Type="http://schemas.openxmlformats.org/officeDocument/2006/relationships/slide" Target="slides/slide100.xml"/><Relationship Id="rId259" Type="http://schemas.openxmlformats.org/officeDocument/2006/relationships/slide" Target="slides/slide101.xml"/><Relationship Id="rId260" Type="http://schemas.openxmlformats.org/officeDocument/2006/relationships/slide" Target="slides/slide102.xml"/><Relationship Id="rId261" Type="http://schemas.openxmlformats.org/officeDocument/2006/relationships/slide" Target="slides/slide103.xml"/><Relationship Id="rId262" Type="http://schemas.openxmlformats.org/officeDocument/2006/relationships/slide" Target="slides/slide104.xml"/><Relationship Id="rId263" Type="http://schemas.openxmlformats.org/officeDocument/2006/relationships/slide" Target="slides/slide105.xml"/><Relationship Id="rId264" Type="http://schemas.openxmlformats.org/officeDocument/2006/relationships/slide" Target="slides/slide106.xml"/><Relationship Id="rId265" Type="http://schemas.openxmlformats.org/officeDocument/2006/relationships/slide" Target="slides/slide107.xml"/><Relationship Id="rId266" Type="http://schemas.openxmlformats.org/officeDocument/2006/relationships/slide" Target="slides/slide108.xml"/><Relationship Id="rId267" Type="http://schemas.openxmlformats.org/officeDocument/2006/relationships/slide" Target="slides/slide109.xml"/><Relationship Id="rId268" Type="http://schemas.openxmlformats.org/officeDocument/2006/relationships/slide" Target="slides/slide110.xml"/><Relationship Id="rId269" Type="http://schemas.openxmlformats.org/officeDocument/2006/relationships/slide" Target="slides/slide111.xml"/><Relationship Id="rId270" Type="http://schemas.openxmlformats.org/officeDocument/2006/relationships/slide" Target="slides/slide112.xml"/><Relationship Id="rId271" Type="http://schemas.openxmlformats.org/officeDocument/2006/relationships/slide" Target="slides/slide113.xml"/><Relationship Id="rId272" Type="http://schemas.openxmlformats.org/officeDocument/2006/relationships/slide" Target="slides/slide114.xml"/><Relationship Id="rId273" Type="http://schemas.openxmlformats.org/officeDocument/2006/relationships/slide" Target="slides/slide115.xml"/><Relationship Id="rId274" Type="http://schemas.openxmlformats.org/officeDocument/2006/relationships/slide" Target="slides/slide116.xml"/><Relationship Id="rId275" Type="http://schemas.openxmlformats.org/officeDocument/2006/relationships/slide" Target="slides/slide117.xml"/><Relationship Id="rId276" Type="http://schemas.openxmlformats.org/officeDocument/2006/relationships/slide" Target="slides/slide118.xml"/><Relationship Id="rId277" Type="http://schemas.openxmlformats.org/officeDocument/2006/relationships/slide" Target="slides/slide119.xml"/><Relationship Id="rId278" Type="http://schemas.openxmlformats.org/officeDocument/2006/relationships/slide" Target="slides/slide120.xml"/><Relationship Id="rId2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DC2AC-A9CC-4C12-9181-6BFED74A2340}"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8D838-D740-41D0-9192-A11149F4766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0" name="PlaceHolder 1"/>
          <p:cNvSpPr>
            <a:spLocks noGrp="1"/>
          </p:cNvSpPr>
          <p:nvPr>
            <p:ph type="sldImg"/>
          </p:nvPr>
        </p:nvSpPr>
        <p:spPr>
          <a:xfrm>
            <a:off x="985680" y="733320"/>
            <a:ext cx="4886640" cy="3665520"/>
          </a:xfrm>
          <a:prstGeom prst="rect">
            <a:avLst/>
          </a:prstGeom>
          <a:ln w="0">
            <a:noFill/>
          </a:ln>
        </p:spPr>
      </p:sp>
      <p:sp>
        <p:nvSpPr>
          <p:cNvPr id="747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1F4B2-DC4F-456F-BEB7-173F311034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B8B8B-E81C-4167-8E43-E2B3EC6E6CA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6" name="PlaceHolder 1"/>
          <p:cNvSpPr>
            <a:spLocks noGrp="1"/>
          </p:cNvSpPr>
          <p:nvPr>
            <p:ph type="sldImg"/>
          </p:nvPr>
        </p:nvSpPr>
        <p:spPr>
          <a:xfrm>
            <a:off x="985680" y="741240"/>
            <a:ext cx="4886640" cy="3665520"/>
          </a:xfrm>
          <a:prstGeom prst="rect">
            <a:avLst/>
          </a:prstGeom>
          <a:ln w="0">
            <a:noFill/>
          </a:ln>
        </p:spPr>
      </p:sp>
      <p:sp>
        <p:nvSpPr>
          <p:cNvPr id="75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EAD86-AE1F-4482-815B-18550D68AA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27D41-BEB6-42BD-8A90-F68C697588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6" name="PlaceHolder 1"/>
          <p:cNvSpPr>
            <a:spLocks noGrp="1"/>
          </p:cNvSpPr>
          <p:nvPr>
            <p:ph type="sldImg"/>
          </p:nvPr>
        </p:nvSpPr>
        <p:spPr>
          <a:xfrm>
            <a:off x="985680" y="741240"/>
            <a:ext cx="4886640" cy="3665520"/>
          </a:xfrm>
          <a:prstGeom prst="rect">
            <a:avLst/>
          </a:prstGeom>
          <a:ln w="0">
            <a:noFill/>
          </a:ln>
        </p:spPr>
      </p:sp>
      <p:sp>
        <p:nvSpPr>
          <p:cNvPr id="7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1EF4C-86F1-4FA5-8EFC-65E725B734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B314B-173A-4B17-8750-4457F24544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0" name="PlaceHolder 1"/>
          <p:cNvSpPr>
            <a:spLocks noGrp="1"/>
          </p:cNvSpPr>
          <p:nvPr>
            <p:ph type="sldImg"/>
          </p:nvPr>
        </p:nvSpPr>
        <p:spPr>
          <a:xfrm>
            <a:off x="985680" y="741240"/>
            <a:ext cx="4886640" cy="3665520"/>
          </a:xfrm>
          <a:prstGeom prst="rect">
            <a:avLst/>
          </a:prstGeom>
          <a:ln w="0">
            <a:noFill/>
          </a:ln>
        </p:spPr>
      </p:sp>
      <p:sp>
        <p:nvSpPr>
          <p:cNvPr id="7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022175-1A7A-4F41-BFEF-5C6E7C91B6C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DD6064-4A84-4CBA-8CC7-A4533B28FDB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4" name="PlaceHolder 1"/>
          <p:cNvSpPr>
            <a:spLocks noGrp="1"/>
          </p:cNvSpPr>
          <p:nvPr>
            <p:ph type="sldImg"/>
          </p:nvPr>
        </p:nvSpPr>
        <p:spPr>
          <a:xfrm>
            <a:off x="985680" y="741240"/>
            <a:ext cx="4886640" cy="3665520"/>
          </a:xfrm>
          <a:prstGeom prst="rect">
            <a:avLst/>
          </a:prstGeom>
          <a:ln w="0">
            <a:noFill/>
          </a:ln>
        </p:spPr>
      </p:sp>
      <p:sp>
        <p:nvSpPr>
          <p:cNvPr id="7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7B24A3-BC3D-4BC9-8772-46DF3391363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2A395-4589-4A99-BDFD-9AFCF15D12B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78" name="PlaceHolder 1"/>
          <p:cNvSpPr>
            <a:spLocks noGrp="1"/>
          </p:cNvSpPr>
          <p:nvPr>
            <p:ph type="sldImg"/>
          </p:nvPr>
        </p:nvSpPr>
        <p:spPr>
          <a:xfrm>
            <a:off x="985680" y="741240"/>
            <a:ext cx="4886640" cy="3665520"/>
          </a:xfrm>
          <a:prstGeom prst="rect">
            <a:avLst/>
          </a:prstGeom>
          <a:ln w="0">
            <a:noFill/>
          </a:ln>
        </p:spPr>
      </p:sp>
      <p:sp>
        <p:nvSpPr>
          <p:cNvPr id="7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AAC0E-7CC8-4FD6-BD40-BB884396689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73A0D-16D1-4A9D-839D-CB39069A7A5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2" name="PlaceHolder 1"/>
          <p:cNvSpPr>
            <a:spLocks noGrp="1"/>
          </p:cNvSpPr>
          <p:nvPr>
            <p:ph type="sldImg"/>
          </p:nvPr>
        </p:nvSpPr>
        <p:spPr>
          <a:xfrm>
            <a:off x="985680" y="741240"/>
            <a:ext cx="4886640" cy="3665520"/>
          </a:xfrm>
          <a:prstGeom prst="rect">
            <a:avLst/>
          </a:prstGeom>
          <a:ln w="0">
            <a:noFill/>
          </a:ln>
        </p:spPr>
      </p:sp>
      <p:sp>
        <p:nvSpPr>
          <p:cNvPr id="7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B477A-0141-4228-8B53-180744A884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2F395-551C-4F23-9ACE-68C86CC8C0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86" name="PlaceHolder 1"/>
          <p:cNvSpPr>
            <a:spLocks noGrp="1"/>
          </p:cNvSpPr>
          <p:nvPr>
            <p:ph type="sldImg"/>
          </p:nvPr>
        </p:nvSpPr>
        <p:spPr>
          <a:xfrm>
            <a:off x="985680" y="741240"/>
            <a:ext cx="4886640" cy="3665520"/>
          </a:xfrm>
          <a:prstGeom prst="rect">
            <a:avLst/>
          </a:prstGeom>
          <a:ln w="0">
            <a:noFill/>
          </a:ln>
        </p:spPr>
      </p:sp>
      <p:sp>
        <p:nvSpPr>
          <p:cNvPr id="7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3FD3D-F61B-4CFF-B060-9324667851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E76D1-3E01-4217-B82C-A5D9008653B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0" name="PlaceHolder 1"/>
          <p:cNvSpPr>
            <a:spLocks noGrp="1"/>
          </p:cNvSpPr>
          <p:nvPr>
            <p:ph type="sldImg"/>
          </p:nvPr>
        </p:nvSpPr>
        <p:spPr>
          <a:xfrm>
            <a:off x="985680" y="741240"/>
            <a:ext cx="4886640" cy="3665520"/>
          </a:xfrm>
          <a:prstGeom prst="rect">
            <a:avLst/>
          </a:prstGeom>
          <a:ln w="0">
            <a:noFill/>
          </a:ln>
        </p:spPr>
      </p:sp>
      <p:sp>
        <p:nvSpPr>
          <p:cNvPr id="7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A715C-2DDA-45DF-B998-89977B2614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CA7A3-03A9-4F9B-813C-F94091A55D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4" name="PlaceHolder 1"/>
          <p:cNvSpPr>
            <a:spLocks noGrp="1"/>
          </p:cNvSpPr>
          <p:nvPr>
            <p:ph type="sldImg"/>
          </p:nvPr>
        </p:nvSpPr>
        <p:spPr>
          <a:xfrm>
            <a:off x="985680" y="741240"/>
            <a:ext cx="4886640" cy="3665520"/>
          </a:xfrm>
          <a:prstGeom prst="rect">
            <a:avLst/>
          </a:prstGeom>
          <a:ln w="0">
            <a:noFill/>
          </a:ln>
        </p:spPr>
      </p:sp>
      <p:sp>
        <p:nvSpPr>
          <p:cNvPr id="7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0EC5B-02B7-44C8-A3E0-5A793274973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95B9B-5C74-42C2-A650-713298439A8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98" name="PlaceHolder 1"/>
          <p:cNvSpPr>
            <a:spLocks noGrp="1"/>
          </p:cNvSpPr>
          <p:nvPr>
            <p:ph type="sldImg"/>
          </p:nvPr>
        </p:nvSpPr>
        <p:spPr>
          <a:xfrm>
            <a:off x="985680" y="741240"/>
            <a:ext cx="4886640" cy="3665520"/>
          </a:xfrm>
          <a:prstGeom prst="rect">
            <a:avLst/>
          </a:prstGeom>
          <a:ln w="0">
            <a:noFill/>
          </a:ln>
        </p:spPr>
      </p:sp>
      <p:sp>
        <p:nvSpPr>
          <p:cNvPr id="7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75CCD-965F-4C90-A7A6-ABE1D2192B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FB2FD-CCC2-4991-B5D0-E6F1FA16148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2" name="PlaceHolder 1"/>
          <p:cNvSpPr>
            <a:spLocks noGrp="1"/>
          </p:cNvSpPr>
          <p:nvPr>
            <p:ph type="sldImg"/>
          </p:nvPr>
        </p:nvSpPr>
        <p:spPr>
          <a:xfrm>
            <a:off x="985680" y="741240"/>
            <a:ext cx="4886640" cy="3665520"/>
          </a:xfrm>
          <a:prstGeom prst="rect">
            <a:avLst/>
          </a:prstGeom>
          <a:ln w="0">
            <a:noFill/>
          </a:ln>
        </p:spPr>
      </p:sp>
      <p:sp>
        <p:nvSpPr>
          <p:cNvPr id="7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69621-FE2A-4FD8-A371-4250C176899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23773-F47A-4B4D-AAFD-5281C4F5C49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0" name="PlaceHolder 1"/>
          <p:cNvSpPr>
            <a:spLocks noGrp="1"/>
          </p:cNvSpPr>
          <p:nvPr>
            <p:ph type="sldImg"/>
          </p:nvPr>
        </p:nvSpPr>
        <p:spPr>
          <a:xfrm>
            <a:off x="985680" y="741240"/>
            <a:ext cx="4886640" cy="3665520"/>
          </a:xfrm>
          <a:prstGeom prst="rect">
            <a:avLst/>
          </a:prstGeom>
          <a:ln w="0">
            <a:noFill/>
          </a:ln>
        </p:spPr>
      </p:sp>
      <p:sp>
        <p:nvSpPr>
          <p:cNvPr id="75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7C42B-D145-46EC-BB41-F2DEC045F6D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1C76D-5AD6-40C2-8D8F-5CCF878772F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06" name="PlaceHolder 1"/>
          <p:cNvSpPr>
            <a:spLocks noGrp="1"/>
          </p:cNvSpPr>
          <p:nvPr>
            <p:ph type="sldImg"/>
          </p:nvPr>
        </p:nvSpPr>
        <p:spPr>
          <a:xfrm>
            <a:off x="985680" y="741240"/>
            <a:ext cx="4886640" cy="3665520"/>
          </a:xfrm>
          <a:prstGeom prst="rect">
            <a:avLst/>
          </a:prstGeom>
          <a:ln w="0">
            <a:noFill/>
          </a:ln>
        </p:spPr>
      </p:sp>
      <p:sp>
        <p:nvSpPr>
          <p:cNvPr id="7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D6291-6DD0-4C78-B7E9-AA82CD5A392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F5853-EC1E-459C-AE05-93B2DDC7B1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0" name="PlaceHolder 1"/>
          <p:cNvSpPr>
            <a:spLocks noGrp="1"/>
          </p:cNvSpPr>
          <p:nvPr>
            <p:ph type="sldImg"/>
          </p:nvPr>
        </p:nvSpPr>
        <p:spPr>
          <a:xfrm>
            <a:off x="985680" y="741240"/>
            <a:ext cx="4886640" cy="3665520"/>
          </a:xfrm>
          <a:prstGeom prst="rect">
            <a:avLst/>
          </a:prstGeom>
          <a:ln w="0">
            <a:noFill/>
          </a:ln>
        </p:spPr>
      </p:sp>
      <p:sp>
        <p:nvSpPr>
          <p:cNvPr id="7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31E723-0FCD-4283-8845-CDFDD82FB87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26572-FA2C-420A-9B29-124B907006E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4" name="PlaceHolder 1"/>
          <p:cNvSpPr>
            <a:spLocks noGrp="1"/>
          </p:cNvSpPr>
          <p:nvPr>
            <p:ph type="sldImg"/>
          </p:nvPr>
        </p:nvSpPr>
        <p:spPr>
          <a:xfrm>
            <a:off x="985680" y="741240"/>
            <a:ext cx="4886640" cy="3665520"/>
          </a:xfrm>
          <a:prstGeom prst="rect">
            <a:avLst/>
          </a:prstGeom>
          <a:ln w="0">
            <a:noFill/>
          </a:ln>
        </p:spPr>
      </p:sp>
      <p:sp>
        <p:nvSpPr>
          <p:cNvPr id="7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A9564-2935-4345-B1F9-B4B5B60B61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C11B1-B99B-4C29-81DF-90B7EC46AF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18" name="PlaceHolder 1"/>
          <p:cNvSpPr>
            <a:spLocks noGrp="1"/>
          </p:cNvSpPr>
          <p:nvPr>
            <p:ph type="sldImg"/>
          </p:nvPr>
        </p:nvSpPr>
        <p:spPr>
          <a:xfrm>
            <a:off x="985680" y="741240"/>
            <a:ext cx="4886640" cy="3665520"/>
          </a:xfrm>
          <a:prstGeom prst="rect">
            <a:avLst/>
          </a:prstGeom>
          <a:ln w="0">
            <a:noFill/>
          </a:ln>
        </p:spPr>
      </p:sp>
      <p:sp>
        <p:nvSpPr>
          <p:cNvPr id="7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B695E-6FF4-45F1-A58F-1355245B14F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1191C-9699-415C-98E1-4DD5EF31309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2" name="PlaceHolder 1"/>
          <p:cNvSpPr>
            <a:spLocks noGrp="1"/>
          </p:cNvSpPr>
          <p:nvPr>
            <p:ph type="sldImg"/>
          </p:nvPr>
        </p:nvSpPr>
        <p:spPr>
          <a:xfrm>
            <a:off x="985680" y="741240"/>
            <a:ext cx="4886640" cy="3665520"/>
          </a:xfrm>
          <a:prstGeom prst="rect">
            <a:avLst/>
          </a:prstGeom>
          <a:ln w="0">
            <a:noFill/>
          </a:ln>
        </p:spPr>
      </p:sp>
      <p:sp>
        <p:nvSpPr>
          <p:cNvPr id="7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7374C-D752-4243-B502-3191905073F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0E8DE3-A073-421D-AF27-CC2511D732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26" name="PlaceHolder 1"/>
          <p:cNvSpPr>
            <a:spLocks noGrp="1"/>
          </p:cNvSpPr>
          <p:nvPr>
            <p:ph type="sldImg"/>
          </p:nvPr>
        </p:nvSpPr>
        <p:spPr>
          <a:xfrm>
            <a:off x="985680" y="741240"/>
            <a:ext cx="4886640" cy="3665520"/>
          </a:xfrm>
          <a:prstGeom prst="rect">
            <a:avLst/>
          </a:prstGeom>
          <a:ln w="0">
            <a:noFill/>
          </a:ln>
        </p:spPr>
      </p:sp>
      <p:sp>
        <p:nvSpPr>
          <p:cNvPr id="7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32375-186E-43B2-BE9E-3ED9E5AAD78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93497-3B0C-430A-873E-35B432BD11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0" name="PlaceHolder 1"/>
          <p:cNvSpPr>
            <a:spLocks noGrp="1"/>
          </p:cNvSpPr>
          <p:nvPr>
            <p:ph type="sldImg"/>
          </p:nvPr>
        </p:nvSpPr>
        <p:spPr>
          <a:xfrm>
            <a:off x="985680" y="741240"/>
            <a:ext cx="4886640" cy="3665520"/>
          </a:xfrm>
          <a:prstGeom prst="rect">
            <a:avLst/>
          </a:prstGeom>
          <a:ln w="0">
            <a:noFill/>
          </a:ln>
        </p:spPr>
      </p:sp>
      <p:sp>
        <p:nvSpPr>
          <p:cNvPr id="7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C3177-4685-45AC-B600-B320F53DACA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A7946-78D5-43B8-A7A5-F523386EA5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4" name="PlaceHolder 1"/>
          <p:cNvSpPr>
            <a:spLocks noGrp="1"/>
          </p:cNvSpPr>
          <p:nvPr>
            <p:ph type="sldImg"/>
          </p:nvPr>
        </p:nvSpPr>
        <p:spPr>
          <a:xfrm>
            <a:off x="985680" y="741240"/>
            <a:ext cx="4886640" cy="3665520"/>
          </a:xfrm>
          <a:prstGeom prst="rect">
            <a:avLst/>
          </a:prstGeom>
          <a:ln w="0">
            <a:noFill/>
          </a:ln>
        </p:spPr>
      </p:sp>
      <p:sp>
        <p:nvSpPr>
          <p:cNvPr id="7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7F9D2-5D6A-484A-B957-D301D55497F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42C0A-4C59-42EB-8C60-143F0D1895D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38" name="PlaceHolder 1"/>
          <p:cNvSpPr>
            <a:spLocks noGrp="1"/>
          </p:cNvSpPr>
          <p:nvPr>
            <p:ph type="sldImg"/>
          </p:nvPr>
        </p:nvSpPr>
        <p:spPr>
          <a:xfrm>
            <a:off x="985680" y="741240"/>
            <a:ext cx="4886640" cy="3665520"/>
          </a:xfrm>
          <a:prstGeom prst="rect">
            <a:avLst/>
          </a:prstGeom>
          <a:ln w="0">
            <a:noFill/>
          </a:ln>
        </p:spPr>
      </p:sp>
      <p:sp>
        <p:nvSpPr>
          <p:cNvPr id="7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BC1E7C-DE09-43BB-BF05-145A5EE9B2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41268-5CC9-44AC-AD7C-7E8E0227DFC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942" name="PlaceHolder 1"/>
          <p:cNvSpPr>
            <a:spLocks noGrp="1"/>
          </p:cNvSpPr>
          <p:nvPr>
            <p:ph type="sldImg"/>
          </p:nvPr>
        </p:nvSpPr>
        <p:spPr>
          <a:xfrm>
            <a:off x="985680" y="741240"/>
            <a:ext cx="4886640" cy="3665520"/>
          </a:xfrm>
          <a:prstGeom prst="rect">
            <a:avLst/>
          </a:prstGeom>
          <a:ln w="0">
            <a:noFill/>
          </a:ln>
        </p:spPr>
      </p:sp>
      <p:sp>
        <p:nvSpPr>
          <p:cNvPr id="7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257D9-A970-41B9-BB4C-4E40C7C3C6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520EE-E566-4905-B803-AB970D12227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4" name="PlaceHolder 1"/>
          <p:cNvSpPr>
            <a:spLocks noGrp="1"/>
          </p:cNvSpPr>
          <p:nvPr>
            <p:ph type="sldImg"/>
          </p:nvPr>
        </p:nvSpPr>
        <p:spPr>
          <a:xfrm>
            <a:off x="985680" y="741240"/>
            <a:ext cx="4886640" cy="3665520"/>
          </a:xfrm>
          <a:prstGeom prst="rect">
            <a:avLst/>
          </a:prstGeom>
          <a:ln w="0">
            <a:noFill/>
          </a:ln>
        </p:spPr>
      </p:sp>
      <p:sp>
        <p:nvSpPr>
          <p:cNvPr id="75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673C3-2BDF-48A5-8038-D90CC5B8C24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945" name="PlaceHolder 1"/>
          <p:cNvSpPr>
            <a:spLocks noGrp="1"/>
          </p:cNvSpPr>
          <p:nvPr>
            <p:ph type="sldImg"/>
          </p:nvPr>
        </p:nvSpPr>
        <p:spPr>
          <a:xfrm>
            <a:off x="985680" y="733320"/>
            <a:ext cx="4886640" cy="3665520"/>
          </a:xfrm>
          <a:prstGeom prst="rect">
            <a:avLst/>
          </a:prstGeom>
          <a:ln w="0">
            <a:noFill/>
          </a:ln>
        </p:spPr>
      </p:sp>
      <p:sp>
        <p:nvSpPr>
          <p:cNvPr id="794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BD0EE-0A50-40CA-8B13-3AA3D22F073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F9528-241B-46F3-8684-0CE005A98D4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8" name="PlaceHolder 1"/>
          <p:cNvSpPr>
            <a:spLocks noGrp="1"/>
          </p:cNvSpPr>
          <p:nvPr>
            <p:ph type="sldImg"/>
          </p:nvPr>
        </p:nvSpPr>
        <p:spPr>
          <a:xfrm>
            <a:off x="985680" y="741240"/>
            <a:ext cx="4886640" cy="3665520"/>
          </a:xfrm>
          <a:prstGeom prst="rect">
            <a:avLst/>
          </a:prstGeom>
          <a:ln w="0">
            <a:noFill/>
          </a:ln>
        </p:spPr>
      </p:sp>
      <p:sp>
        <p:nvSpPr>
          <p:cNvPr id="75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71CD1-2801-44A8-9AA2-C5247B0341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609BB-F18F-48D4-94BC-14B7BC3CA54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2" name="PlaceHolder 1"/>
          <p:cNvSpPr>
            <a:spLocks noGrp="1"/>
          </p:cNvSpPr>
          <p:nvPr>
            <p:ph type="sldImg"/>
          </p:nvPr>
        </p:nvSpPr>
        <p:spPr>
          <a:xfrm>
            <a:off x="985680" y="741240"/>
            <a:ext cx="4886640" cy="3665520"/>
          </a:xfrm>
          <a:prstGeom prst="rect">
            <a:avLst/>
          </a:prstGeom>
          <a:ln w="0">
            <a:noFill/>
          </a:ln>
        </p:spPr>
      </p:sp>
      <p:sp>
        <p:nvSpPr>
          <p:cNvPr id="75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3698C-A5DD-4E96-A7F7-17D37D71F7F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404D25-D3E4-4C25-A17D-F669956B4F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6" name="PlaceHolder 1"/>
          <p:cNvSpPr>
            <a:spLocks noGrp="1"/>
          </p:cNvSpPr>
          <p:nvPr>
            <p:ph type="sldImg"/>
          </p:nvPr>
        </p:nvSpPr>
        <p:spPr>
          <a:xfrm>
            <a:off x="985680" y="741240"/>
            <a:ext cx="4886640" cy="3665520"/>
          </a:xfrm>
          <a:prstGeom prst="rect">
            <a:avLst/>
          </a:prstGeom>
          <a:ln w="0">
            <a:noFill/>
          </a:ln>
        </p:spPr>
      </p:sp>
      <p:sp>
        <p:nvSpPr>
          <p:cNvPr id="75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AAC47-BB8E-43DE-92BB-359EE601AD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3A17F-C1B5-4E6C-8234-DD03444238C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0" name="PlaceHolder 1"/>
          <p:cNvSpPr>
            <a:spLocks noGrp="1"/>
          </p:cNvSpPr>
          <p:nvPr>
            <p:ph type="sldImg"/>
          </p:nvPr>
        </p:nvSpPr>
        <p:spPr>
          <a:xfrm>
            <a:off x="985680" y="741240"/>
            <a:ext cx="4886640" cy="3665520"/>
          </a:xfrm>
          <a:prstGeom prst="rect">
            <a:avLst/>
          </a:prstGeom>
          <a:ln w="0">
            <a:noFill/>
          </a:ln>
        </p:spPr>
      </p:sp>
      <p:sp>
        <p:nvSpPr>
          <p:cNvPr id="75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99C37-EFF3-4917-81F3-82EC7C797DE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CFAA0-2350-4D1D-AE3B-45A1DD8D215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4" name="PlaceHolder 1"/>
          <p:cNvSpPr>
            <a:spLocks noGrp="1"/>
          </p:cNvSpPr>
          <p:nvPr>
            <p:ph type="sldImg"/>
          </p:nvPr>
        </p:nvSpPr>
        <p:spPr>
          <a:xfrm>
            <a:off x="985680" y="741240"/>
            <a:ext cx="4886640" cy="3665520"/>
          </a:xfrm>
          <a:prstGeom prst="rect">
            <a:avLst/>
          </a:prstGeom>
          <a:ln w="0">
            <a:noFill/>
          </a:ln>
        </p:spPr>
      </p:sp>
      <p:sp>
        <p:nvSpPr>
          <p:cNvPr id="75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584D7-5928-4C6E-814E-F0F2B5CF9B2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F89D5-C776-46AE-970E-CE36D43B46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8" name="PlaceHolder 1"/>
          <p:cNvSpPr>
            <a:spLocks noGrp="1"/>
          </p:cNvSpPr>
          <p:nvPr>
            <p:ph type="sldImg"/>
          </p:nvPr>
        </p:nvSpPr>
        <p:spPr>
          <a:xfrm>
            <a:off x="985680" y="741240"/>
            <a:ext cx="4886640" cy="3665520"/>
          </a:xfrm>
          <a:prstGeom prst="rect">
            <a:avLst/>
          </a:prstGeom>
          <a:ln w="0">
            <a:noFill/>
          </a:ln>
        </p:spPr>
      </p:sp>
      <p:sp>
        <p:nvSpPr>
          <p:cNvPr id="75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7E289-5180-45D1-8037-99C5FB2F749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41DA3-2697-4C57-92EF-2E6CB3F7D1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2" name="PlaceHolder 1"/>
          <p:cNvSpPr>
            <a:spLocks noGrp="1"/>
          </p:cNvSpPr>
          <p:nvPr>
            <p:ph type="sldImg"/>
          </p:nvPr>
        </p:nvSpPr>
        <p:spPr>
          <a:xfrm>
            <a:off x="985680" y="741240"/>
            <a:ext cx="4886640" cy="3665520"/>
          </a:xfrm>
          <a:prstGeom prst="rect">
            <a:avLst/>
          </a:prstGeom>
          <a:ln w="0">
            <a:noFill/>
          </a:ln>
        </p:spPr>
      </p:sp>
      <p:sp>
        <p:nvSpPr>
          <p:cNvPr id="75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D0A8A-7D1E-4BFB-B15A-695193D741E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E20F74-8E77-43D1-8FF8-AF92E7B5A99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74" name="PlaceHolder 1"/>
          <p:cNvSpPr>
            <a:spLocks noGrp="1"/>
          </p:cNvSpPr>
          <p:nvPr>
            <p:ph type="sldImg"/>
          </p:nvPr>
        </p:nvSpPr>
        <p:spPr>
          <a:xfrm>
            <a:off x="985680" y="741240"/>
            <a:ext cx="4886640" cy="3665520"/>
          </a:xfrm>
          <a:prstGeom prst="rect">
            <a:avLst/>
          </a:prstGeom>
          <a:ln w="0">
            <a:noFill/>
          </a:ln>
        </p:spPr>
      </p:sp>
      <p:sp>
        <p:nvSpPr>
          <p:cNvPr id="74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49388-4312-477B-8F6A-13D2EB35C4D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BC675-86DD-41EB-928C-BE26CEEC8A2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6" name="PlaceHolder 1"/>
          <p:cNvSpPr>
            <a:spLocks noGrp="1"/>
          </p:cNvSpPr>
          <p:nvPr>
            <p:ph type="sldImg"/>
          </p:nvPr>
        </p:nvSpPr>
        <p:spPr>
          <a:xfrm>
            <a:off x="985680" y="741240"/>
            <a:ext cx="4886640" cy="3665520"/>
          </a:xfrm>
          <a:prstGeom prst="rect">
            <a:avLst/>
          </a:prstGeom>
          <a:ln w="0">
            <a:noFill/>
          </a:ln>
        </p:spPr>
      </p:sp>
      <p:sp>
        <p:nvSpPr>
          <p:cNvPr id="75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CF6E3-6C9B-4432-B3FF-24421A7831F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744D3-26BF-446B-8E93-A01235D891D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0" name="PlaceHolder 1"/>
          <p:cNvSpPr>
            <a:spLocks noGrp="1"/>
          </p:cNvSpPr>
          <p:nvPr>
            <p:ph type="sldImg"/>
          </p:nvPr>
        </p:nvSpPr>
        <p:spPr>
          <a:xfrm>
            <a:off x="985680" y="741240"/>
            <a:ext cx="4886640" cy="3665520"/>
          </a:xfrm>
          <a:prstGeom prst="rect">
            <a:avLst/>
          </a:prstGeom>
          <a:ln w="0">
            <a:noFill/>
          </a:ln>
        </p:spPr>
      </p:sp>
      <p:sp>
        <p:nvSpPr>
          <p:cNvPr id="75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EAFD5-5DCB-41DC-BF37-BD1A6F98B3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25E2C-3DD3-4BA4-89DE-68FFD1B02E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4" name="PlaceHolder 1"/>
          <p:cNvSpPr>
            <a:spLocks noGrp="1"/>
          </p:cNvSpPr>
          <p:nvPr>
            <p:ph type="sldImg"/>
          </p:nvPr>
        </p:nvSpPr>
        <p:spPr>
          <a:xfrm>
            <a:off x="985680" y="741240"/>
            <a:ext cx="4886640" cy="3665520"/>
          </a:xfrm>
          <a:prstGeom prst="rect">
            <a:avLst/>
          </a:prstGeom>
          <a:ln w="0">
            <a:noFill/>
          </a:ln>
        </p:spPr>
      </p:sp>
      <p:sp>
        <p:nvSpPr>
          <p:cNvPr id="75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AD48A-5847-48CF-B5FA-3808C629F0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1B261-2B6C-45FB-A524-31B9E5508A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8" name="PlaceHolder 1"/>
          <p:cNvSpPr>
            <a:spLocks noGrp="1"/>
          </p:cNvSpPr>
          <p:nvPr>
            <p:ph type="sldImg"/>
          </p:nvPr>
        </p:nvSpPr>
        <p:spPr>
          <a:xfrm>
            <a:off x="985680" y="741240"/>
            <a:ext cx="4886640" cy="3665520"/>
          </a:xfrm>
          <a:prstGeom prst="rect">
            <a:avLst/>
          </a:prstGeom>
          <a:ln w="0">
            <a:noFill/>
          </a:ln>
        </p:spPr>
      </p:sp>
      <p:sp>
        <p:nvSpPr>
          <p:cNvPr id="75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AA435B-604D-4020-88E8-D497D2471C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BCB3FE-14CE-4095-9F50-B7FA97BB75B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2" name="PlaceHolder 1"/>
          <p:cNvSpPr>
            <a:spLocks noGrp="1"/>
          </p:cNvSpPr>
          <p:nvPr>
            <p:ph type="sldImg"/>
          </p:nvPr>
        </p:nvSpPr>
        <p:spPr>
          <a:xfrm>
            <a:off x="985680" y="741240"/>
            <a:ext cx="4886640" cy="3665520"/>
          </a:xfrm>
          <a:prstGeom prst="rect">
            <a:avLst/>
          </a:prstGeom>
          <a:ln w="0">
            <a:noFill/>
          </a:ln>
        </p:spPr>
      </p:sp>
      <p:sp>
        <p:nvSpPr>
          <p:cNvPr id="75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D314E-A210-4DF1-8136-64CB0650FD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2B47B-CBA6-401E-A574-FE8ADAFCAE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6" name="PlaceHolder 1"/>
          <p:cNvSpPr>
            <a:spLocks noGrp="1"/>
          </p:cNvSpPr>
          <p:nvPr>
            <p:ph type="sldImg"/>
          </p:nvPr>
        </p:nvSpPr>
        <p:spPr>
          <a:xfrm>
            <a:off x="985680" y="741240"/>
            <a:ext cx="4886640" cy="3665520"/>
          </a:xfrm>
          <a:prstGeom prst="rect">
            <a:avLst/>
          </a:prstGeom>
          <a:ln w="0">
            <a:noFill/>
          </a:ln>
        </p:spPr>
      </p:sp>
      <p:sp>
        <p:nvSpPr>
          <p:cNvPr id="75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1FB94-4F27-4D89-BC69-D90F9AD03B7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BF783-9130-4436-91B8-BCD4DA3ABEC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0" name="PlaceHolder 1"/>
          <p:cNvSpPr>
            <a:spLocks noGrp="1"/>
          </p:cNvSpPr>
          <p:nvPr>
            <p:ph type="sldImg"/>
          </p:nvPr>
        </p:nvSpPr>
        <p:spPr>
          <a:xfrm>
            <a:off x="985680" y="741240"/>
            <a:ext cx="4886640" cy="3665520"/>
          </a:xfrm>
          <a:prstGeom prst="rect">
            <a:avLst/>
          </a:prstGeom>
          <a:ln w="0">
            <a:noFill/>
          </a:ln>
        </p:spPr>
      </p:sp>
      <p:sp>
        <p:nvSpPr>
          <p:cNvPr id="75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471D4-7B82-498B-9C1D-7FFC00ACD0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1FA74-B574-4F00-B7A4-608361CB6D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4" name="PlaceHolder 1"/>
          <p:cNvSpPr>
            <a:spLocks noGrp="1"/>
          </p:cNvSpPr>
          <p:nvPr>
            <p:ph type="sldImg"/>
          </p:nvPr>
        </p:nvSpPr>
        <p:spPr>
          <a:xfrm>
            <a:off x="985680" y="741240"/>
            <a:ext cx="4886640" cy="3665520"/>
          </a:xfrm>
          <a:prstGeom prst="rect">
            <a:avLst/>
          </a:prstGeom>
          <a:ln w="0">
            <a:noFill/>
          </a:ln>
        </p:spPr>
      </p:sp>
      <p:sp>
        <p:nvSpPr>
          <p:cNvPr id="75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DD150-7C6E-47D4-A263-D20189C1E4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3260B-C71B-4CC1-8642-DEF74057A82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8" name="PlaceHolder 1"/>
          <p:cNvSpPr>
            <a:spLocks noGrp="1"/>
          </p:cNvSpPr>
          <p:nvPr>
            <p:ph type="sldImg"/>
          </p:nvPr>
        </p:nvSpPr>
        <p:spPr>
          <a:xfrm>
            <a:off x="985680" y="741240"/>
            <a:ext cx="4886640" cy="3665520"/>
          </a:xfrm>
          <a:prstGeom prst="rect">
            <a:avLst/>
          </a:prstGeom>
          <a:ln w="0">
            <a:noFill/>
          </a:ln>
        </p:spPr>
      </p:sp>
      <p:sp>
        <p:nvSpPr>
          <p:cNvPr id="75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DCBAF-59B6-4998-B463-9BDB7847EBF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C76D5-BD9E-47D1-9772-3FBC28DD14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2" name="PlaceHolder 1"/>
          <p:cNvSpPr>
            <a:spLocks noGrp="1"/>
          </p:cNvSpPr>
          <p:nvPr>
            <p:ph type="sldImg"/>
          </p:nvPr>
        </p:nvSpPr>
        <p:spPr>
          <a:xfrm>
            <a:off x="985680" y="741240"/>
            <a:ext cx="4886640" cy="3665520"/>
          </a:xfrm>
          <a:prstGeom prst="rect">
            <a:avLst/>
          </a:prstGeom>
          <a:ln w="0">
            <a:noFill/>
          </a:ln>
        </p:spPr>
      </p:sp>
      <p:sp>
        <p:nvSpPr>
          <p:cNvPr id="75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8B8CA-2460-433B-9D56-428F75B981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B8FEF-7E28-4C72-AA3F-9A6673EC862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78" name="PlaceHolder 1"/>
          <p:cNvSpPr>
            <a:spLocks noGrp="1"/>
          </p:cNvSpPr>
          <p:nvPr>
            <p:ph type="sldImg"/>
          </p:nvPr>
        </p:nvSpPr>
        <p:spPr>
          <a:xfrm>
            <a:off x="985680" y="741240"/>
            <a:ext cx="4886640" cy="3665520"/>
          </a:xfrm>
          <a:prstGeom prst="rect">
            <a:avLst/>
          </a:prstGeom>
          <a:ln w="0">
            <a:noFill/>
          </a:ln>
        </p:spPr>
      </p:sp>
      <p:sp>
        <p:nvSpPr>
          <p:cNvPr id="74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84F74-17E5-4EAD-8C67-1A72326038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59D42-C046-46CC-8858-D8AFBF66E2E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6" name="PlaceHolder 1"/>
          <p:cNvSpPr>
            <a:spLocks noGrp="1"/>
          </p:cNvSpPr>
          <p:nvPr>
            <p:ph type="sldImg"/>
          </p:nvPr>
        </p:nvSpPr>
        <p:spPr>
          <a:xfrm>
            <a:off x="985680" y="741240"/>
            <a:ext cx="4886640" cy="3665520"/>
          </a:xfrm>
          <a:prstGeom prst="rect">
            <a:avLst/>
          </a:prstGeom>
          <a:ln w="0">
            <a:noFill/>
          </a:ln>
        </p:spPr>
      </p:sp>
      <p:sp>
        <p:nvSpPr>
          <p:cNvPr id="75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81533-EF1E-49C5-81DB-D2B6D922D31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853CC1-2537-444F-B05B-8EA10996F45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0" name="PlaceHolder 1"/>
          <p:cNvSpPr>
            <a:spLocks noGrp="1"/>
          </p:cNvSpPr>
          <p:nvPr>
            <p:ph type="sldImg"/>
          </p:nvPr>
        </p:nvSpPr>
        <p:spPr>
          <a:xfrm>
            <a:off x="985680" y="741240"/>
            <a:ext cx="4886640" cy="3665520"/>
          </a:xfrm>
          <a:prstGeom prst="rect">
            <a:avLst/>
          </a:prstGeom>
          <a:ln w="0">
            <a:noFill/>
          </a:ln>
        </p:spPr>
      </p:sp>
      <p:sp>
        <p:nvSpPr>
          <p:cNvPr id="75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D1399-8FD2-44F3-89A5-D3332AB10B7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D0F06-3A8E-4AAD-A55E-5C866668BF5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4" name="PlaceHolder 1"/>
          <p:cNvSpPr>
            <a:spLocks noGrp="1"/>
          </p:cNvSpPr>
          <p:nvPr>
            <p:ph type="sldImg"/>
          </p:nvPr>
        </p:nvSpPr>
        <p:spPr>
          <a:xfrm>
            <a:off x="985680" y="741240"/>
            <a:ext cx="4886640" cy="3665520"/>
          </a:xfrm>
          <a:prstGeom prst="rect">
            <a:avLst/>
          </a:prstGeom>
          <a:ln w="0">
            <a:noFill/>
          </a:ln>
        </p:spPr>
      </p:sp>
      <p:sp>
        <p:nvSpPr>
          <p:cNvPr id="75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9CBFB-7CC7-42E1-B460-7DFFAE00A7D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DC0D9-36B0-4520-97F8-877BB770ABF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8" name="PlaceHolder 1"/>
          <p:cNvSpPr>
            <a:spLocks noGrp="1"/>
          </p:cNvSpPr>
          <p:nvPr>
            <p:ph type="sldImg"/>
          </p:nvPr>
        </p:nvSpPr>
        <p:spPr>
          <a:xfrm>
            <a:off x="985680" y="741240"/>
            <a:ext cx="4886640" cy="3665520"/>
          </a:xfrm>
          <a:prstGeom prst="rect">
            <a:avLst/>
          </a:prstGeom>
          <a:ln w="0">
            <a:noFill/>
          </a:ln>
        </p:spPr>
      </p:sp>
      <p:sp>
        <p:nvSpPr>
          <p:cNvPr id="75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46C40-2354-4CF9-AAF9-1420D412DDF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46365-D866-42EE-BB61-87AFCE03FFB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2" name="PlaceHolder 1"/>
          <p:cNvSpPr>
            <a:spLocks noGrp="1"/>
          </p:cNvSpPr>
          <p:nvPr>
            <p:ph type="sldImg"/>
          </p:nvPr>
        </p:nvSpPr>
        <p:spPr>
          <a:xfrm>
            <a:off x="985680" y="741240"/>
            <a:ext cx="4886640" cy="3665520"/>
          </a:xfrm>
          <a:prstGeom prst="rect">
            <a:avLst/>
          </a:prstGeom>
          <a:ln w="0">
            <a:noFill/>
          </a:ln>
        </p:spPr>
      </p:sp>
      <p:sp>
        <p:nvSpPr>
          <p:cNvPr id="76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02AE4-7D5F-4EBA-B88D-F69798D780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CDEF0-4441-4E7B-BEA3-1D3460B09FB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6" name="PlaceHolder 1"/>
          <p:cNvSpPr>
            <a:spLocks noGrp="1"/>
          </p:cNvSpPr>
          <p:nvPr>
            <p:ph type="sldImg"/>
          </p:nvPr>
        </p:nvSpPr>
        <p:spPr>
          <a:xfrm>
            <a:off x="985680" y="741240"/>
            <a:ext cx="4886640" cy="3665520"/>
          </a:xfrm>
          <a:prstGeom prst="rect">
            <a:avLst/>
          </a:prstGeom>
          <a:ln w="0">
            <a:noFill/>
          </a:ln>
        </p:spPr>
      </p:sp>
      <p:sp>
        <p:nvSpPr>
          <p:cNvPr id="76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A103B-DCD5-4577-A38C-C1818C461EA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3D29F-E63D-4726-BEB3-4DF816E48AB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0" name="PlaceHolder 1"/>
          <p:cNvSpPr>
            <a:spLocks noGrp="1"/>
          </p:cNvSpPr>
          <p:nvPr>
            <p:ph type="sldImg"/>
          </p:nvPr>
        </p:nvSpPr>
        <p:spPr>
          <a:xfrm>
            <a:off x="985680" y="741240"/>
            <a:ext cx="4886640" cy="3665520"/>
          </a:xfrm>
          <a:prstGeom prst="rect">
            <a:avLst/>
          </a:prstGeom>
          <a:ln w="0">
            <a:noFill/>
          </a:ln>
        </p:spPr>
      </p:sp>
      <p:sp>
        <p:nvSpPr>
          <p:cNvPr id="76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33860-8637-4A15-AA48-BDC36963E32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415A9-11CF-40D9-9862-4526770EE48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4" name="PlaceHolder 1"/>
          <p:cNvSpPr>
            <a:spLocks noGrp="1"/>
          </p:cNvSpPr>
          <p:nvPr>
            <p:ph type="sldImg"/>
          </p:nvPr>
        </p:nvSpPr>
        <p:spPr>
          <a:xfrm>
            <a:off x="985680" y="741240"/>
            <a:ext cx="4886640" cy="3665520"/>
          </a:xfrm>
          <a:prstGeom prst="rect">
            <a:avLst/>
          </a:prstGeom>
          <a:ln w="0">
            <a:noFill/>
          </a:ln>
        </p:spPr>
      </p:sp>
      <p:sp>
        <p:nvSpPr>
          <p:cNvPr id="76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D7AE9-0F01-40CD-8EB0-90C309934B7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29643-EC0C-42BC-B400-C96F985A635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8" name="PlaceHolder 1"/>
          <p:cNvSpPr>
            <a:spLocks noGrp="1"/>
          </p:cNvSpPr>
          <p:nvPr>
            <p:ph type="sldImg"/>
          </p:nvPr>
        </p:nvSpPr>
        <p:spPr>
          <a:xfrm>
            <a:off x="985680" y="741240"/>
            <a:ext cx="4886640" cy="3665520"/>
          </a:xfrm>
          <a:prstGeom prst="rect">
            <a:avLst/>
          </a:prstGeom>
          <a:ln w="0">
            <a:noFill/>
          </a:ln>
        </p:spPr>
      </p:sp>
      <p:sp>
        <p:nvSpPr>
          <p:cNvPr id="76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94D9C-47C9-4874-862F-5D8538F749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F05D9-6FA7-4974-AF95-45D8988D3C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2" name="PlaceHolder 1"/>
          <p:cNvSpPr>
            <a:spLocks noGrp="1"/>
          </p:cNvSpPr>
          <p:nvPr>
            <p:ph type="sldImg"/>
          </p:nvPr>
        </p:nvSpPr>
        <p:spPr>
          <a:xfrm>
            <a:off x="985680" y="741240"/>
            <a:ext cx="4886640" cy="3665520"/>
          </a:xfrm>
          <a:prstGeom prst="rect">
            <a:avLst/>
          </a:prstGeom>
          <a:ln w="0">
            <a:noFill/>
          </a:ln>
        </p:spPr>
      </p:sp>
      <p:sp>
        <p:nvSpPr>
          <p:cNvPr id="76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6A888-70A2-45D0-A8AB-E5065AE7CD4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EEF4F-ED34-423F-9956-62EA03EF53B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2" name="PlaceHolder 1"/>
          <p:cNvSpPr>
            <a:spLocks noGrp="1"/>
          </p:cNvSpPr>
          <p:nvPr>
            <p:ph type="sldImg"/>
          </p:nvPr>
        </p:nvSpPr>
        <p:spPr>
          <a:xfrm>
            <a:off x="985680" y="741240"/>
            <a:ext cx="4886640" cy="3665520"/>
          </a:xfrm>
          <a:prstGeom prst="rect">
            <a:avLst/>
          </a:prstGeom>
          <a:ln w="0">
            <a:noFill/>
          </a:ln>
        </p:spPr>
      </p:sp>
      <p:sp>
        <p:nvSpPr>
          <p:cNvPr id="74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A608D-2C5C-40D6-BA4A-D1C9226363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92553-7613-481A-B2B8-EFF38626104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6" name="PlaceHolder 1"/>
          <p:cNvSpPr>
            <a:spLocks noGrp="1"/>
          </p:cNvSpPr>
          <p:nvPr>
            <p:ph type="sldImg"/>
          </p:nvPr>
        </p:nvSpPr>
        <p:spPr>
          <a:xfrm>
            <a:off x="985680" y="741240"/>
            <a:ext cx="4886640" cy="3665520"/>
          </a:xfrm>
          <a:prstGeom prst="rect">
            <a:avLst/>
          </a:prstGeom>
          <a:ln w="0">
            <a:noFill/>
          </a:ln>
        </p:spPr>
      </p:sp>
      <p:sp>
        <p:nvSpPr>
          <p:cNvPr id="76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3B1C4-9863-439D-8171-381D50369EC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13124-28E2-4AA4-8E4D-9D0DDF1610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0" name="PlaceHolder 1"/>
          <p:cNvSpPr>
            <a:spLocks noGrp="1"/>
          </p:cNvSpPr>
          <p:nvPr>
            <p:ph type="sldImg"/>
          </p:nvPr>
        </p:nvSpPr>
        <p:spPr>
          <a:xfrm>
            <a:off x="985680" y="741240"/>
            <a:ext cx="4886640" cy="3665520"/>
          </a:xfrm>
          <a:prstGeom prst="rect">
            <a:avLst/>
          </a:prstGeom>
          <a:ln w="0">
            <a:noFill/>
          </a:ln>
        </p:spPr>
      </p:sp>
      <p:sp>
        <p:nvSpPr>
          <p:cNvPr id="76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06A8E-D7BB-4538-8F01-254A227B49F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9EEC9-4453-4338-B827-159541320A3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4" name="PlaceHolder 1"/>
          <p:cNvSpPr>
            <a:spLocks noGrp="1"/>
          </p:cNvSpPr>
          <p:nvPr>
            <p:ph type="sldImg"/>
          </p:nvPr>
        </p:nvSpPr>
        <p:spPr>
          <a:xfrm>
            <a:off x="985680" y="741240"/>
            <a:ext cx="4886640" cy="3665520"/>
          </a:xfrm>
          <a:prstGeom prst="rect">
            <a:avLst/>
          </a:prstGeom>
          <a:ln w="0">
            <a:noFill/>
          </a:ln>
        </p:spPr>
      </p:sp>
      <p:sp>
        <p:nvSpPr>
          <p:cNvPr id="7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69BD9-64E0-42EC-90CF-5143F7E30AB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B896D-03F2-4D8F-956F-919A81A5CCC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8" name="PlaceHolder 1"/>
          <p:cNvSpPr>
            <a:spLocks noGrp="1"/>
          </p:cNvSpPr>
          <p:nvPr>
            <p:ph type="sldImg"/>
          </p:nvPr>
        </p:nvSpPr>
        <p:spPr>
          <a:xfrm>
            <a:off x="985680" y="741240"/>
            <a:ext cx="4886640" cy="3665520"/>
          </a:xfrm>
          <a:prstGeom prst="rect">
            <a:avLst/>
          </a:prstGeom>
          <a:ln w="0">
            <a:noFill/>
          </a:ln>
        </p:spPr>
      </p:sp>
      <p:sp>
        <p:nvSpPr>
          <p:cNvPr id="76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1385A-9176-4B94-9D63-2091CFB53CA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AC6BB-C9E5-4B51-A928-2894A8314AE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2" name="PlaceHolder 1"/>
          <p:cNvSpPr>
            <a:spLocks noGrp="1"/>
          </p:cNvSpPr>
          <p:nvPr>
            <p:ph type="sldImg"/>
          </p:nvPr>
        </p:nvSpPr>
        <p:spPr>
          <a:xfrm>
            <a:off x="985680" y="741240"/>
            <a:ext cx="4886640" cy="3665520"/>
          </a:xfrm>
          <a:prstGeom prst="rect">
            <a:avLst/>
          </a:prstGeom>
          <a:ln w="0">
            <a:noFill/>
          </a:ln>
        </p:spPr>
      </p:sp>
      <p:sp>
        <p:nvSpPr>
          <p:cNvPr id="76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CC621-AD6F-40D9-8BA0-2789662B89C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C999B-0CE3-49E7-97D6-DE95203AE21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6" name="PlaceHolder 1"/>
          <p:cNvSpPr>
            <a:spLocks noGrp="1"/>
          </p:cNvSpPr>
          <p:nvPr>
            <p:ph type="sldImg"/>
          </p:nvPr>
        </p:nvSpPr>
        <p:spPr>
          <a:xfrm>
            <a:off x="985680" y="741240"/>
            <a:ext cx="4886640" cy="3665520"/>
          </a:xfrm>
          <a:prstGeom prst="rect">
            <a:avLst/>
          </a:prstGeom>
          <a:ln w="0">
            <a:noFill/>
          </a:ln>
        </p:spPr>
      </p:sp>
      <p:sp>
        <p:nvSpPr>
          <p:cNvPr id="7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1F22F-6A43-407B-8707-61102A0ADC6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23068-D586-4BDE-B9AE-400DA9E2375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0" name="PlaceHolder 1"/>
          <p:cNvSpPr>
            <a:spLocks noGrp="1"/>
          </p:cNvSpPr>
          <p:nvPr>
            <p:ph type="sldImg"/>
          </p:nvPr>
        </p:nvSpPr>
        <p:spPr>
          <a:xfrm>
            <a:off x="985680" y="741240"/>
            <a:ext cx="4886640" cy="3665520"/>
          </a:xfrm>
          <a:prstGeom prst="rect">
            <a:avLst/>
          </a:prstGeom>
          <a:ln w="0">
            <a:noFill/>
          </a:ln>
        </p:spPr>
      </p:sp>
      <p:sp>
        <p:nvSpPr>
          <p:cNvPr id="76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627F1-74A7-41E4-BA3D-95105DCB92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896B8-C37E-462B-A9A6-B403B945D8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4" name="PlaceHolder 1"/>
          <p:cNvSpPr>
            <a:spLocks noGrp="1"/>
          </p:cNvSpPr>
          <p:nvPr>
            <p:ph type="sldImg"/>
          </p:nvPr>
        </p:nvSpPr>
        <p:spPr>
          <a:xfrm>
            <a:off x="985680" y="741240"/>
            <a:ext cx="4886640" cy="3665520"/>
          </a:xfrm>
          <a:prstGeom prst="rect">
            <a:avLst/>
          </a:prstGeom>
          <a:ln w="0">
            <a:noFill/>
          </a:ln>
        </p:spPr>
      </p:sp>
      <p:sp>
        <p:nvSpPr>
          <p:cNvPr id="7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AF1D9-C0CE-4F27-98E4-106102A4C6A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CA25B-9927-49C7-991B-A878B5F66B2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8" name="PlaceHolder 1"/>
          <p:cNvSpPr>
            <a:spLocks noGrp="1"/>
          </p:cNvSpPr>
          <p:nvPr>
            <p:ph type="sldImg"/>
          </p:nvPr>
        </p:nvSpPr>
        <p:spPr>
          <a:xfrm>
            <a:off x="985680" y="741240"/>
            <a:ext cx="4886640" cy="3665520"/>
          </a:xfrm>
          <a:prstGeom prst="rect">
            <a:avLst/>
          </a:prstGeom>
          <a:ln w="0">
            <a:noFill/>
          </a:ln>
        </p:spPr>
      </p:sp>
      <p:sp>
        <p:nvSpPr>
          <p:cNvPr id="7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6470D-55AD-45FB-93E1-E5048BB6BF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4446D-CFC3-4C49-96DA-D130E6C4BCC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2" name="PlaceHolder 1"/>
          <p:cNvSpPr>
            <a:spLocks noGrp="1"/>
          </p:cNvSpPr>
          <p:nvPr>
            <p:ph type="sldImg"/>
          </p:nvPr>
        </p:nvSpPr>
        <p:spPr>
          <a:xfrm>
            <a:off x="985680" y="741240"/>
            <a:ext cx="4886640" cy="3665520"/>
          </a:xfrm>
          <a:prstGeom prst="rect">
            <a:avLst/>
          </a:prstGeom>
          <a:ln w="0">
            <a:noFill/>
          </a:ln>
        </p:spPr>
      </p:sp>
      <p:sp>
        <p:nvSpPr>
          <p:cNvPr id="76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E7C9A-C20F-4D40-8417-20C5A2B5F62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7F680-DACC-45ED-AC8F-49B22D9694E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6" name="PlaceHolder 1"/>
          <p:cNvSpPr>
            <a:spLocks noGrp="1"/>
          </p:cNvSpPr>
          <p:nvPr>
            <p:ph type="sldImg"/>
          </p:nvPr>
        </p:nvSpPr>
        <p:spPr>
          <a:xfrm>
            <a:off x="985680" y="741240"/>
            <a:ext cx="4886640" cy="3665520"/>
          </a:xfrm>
          <a:prstGeom prst="rect">
            <a:avLst/>
          </a:prstGeom>
          <a:ln w="0">
            <a:noFill/>
          </a:ln>
        </p:spPr>
      </p:sp>
      <p:sp>
        <p:nvSpPr>
          <p:cNvPr id="74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CEDB2-4FAA-4F9A-85E6-D9625E439BC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88DA2-B7DF-4A5E-9956-D2E74AECF0D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6" name="PlaceHolder 1"/>
          <p:cNvSpPr>
            <a:spLocks noGrp="1"/>
          </p:cNvSpPr>
          <p:nvPr>
            <p:ph type="sldImg"/>
          </p:nvPr>
        </p:nvSpPr>
        <p:spPr>
          <a:xfrm>
            <a:off x="985680" y="741240"/>
            <a:ext cx="4886640" cy="3665520"/>
          </a:xfrm>
          <a:prstGeom prst="rect">
            <a:avLst/>
          </a:prstGeom>
          <a:ln w="0">
            <a:noFill/>
          </a:ln>
        </p:spPr>
      </p:sp>
      <p:sp>
        <p:nvSpPr>
          <p:cNvPr id="7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C99D8-F3E8-46A8-8793-9A00195D194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CA867-0393-473C-8305-CA24C541EAD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0" name="PlaceHolder 1"/>
          <p:cNvSpPr>
            <a:spLocks noGrp="1"/>
          </p:cNvSpPr>
          <p:nvPr>
            <p:ph type="sldImg"/>
          </p:nvPr>
        </p:nvSpPr>
        <p:spPr>
          <a:xfrm>
            <a:off x="985680" y="741240"/>
            <a:ext cx="4886640" cy="3665520"/>
          </a:xfrm>
          <a:prstGeom prst="rect">
            <a:avLst/>
          </a:prstGeom>
          <a:ln w="0">
            <a:noFill/>
          </a:ln>
        </p:spPr>
      </p:sp>
      <p:sp>
        <p:nvSpPr>
          <p:cNvPr id="7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F8098-5D20-4667-92F2-C5DFD8EC4BF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C9ECF-E037-4228-8E83-AFC59E996AF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4" name="PlaceHolder 1"/>
          <p:cNvSpPr>
            <a:spLocks noGrp="1"/>
          </p:cNvSpPr>
          <p:nvPr>
            <p:ph type="sldImg"/>
          </p:nvPr>
        </p:nvSpPr>
        <p:spPr>
          <a:xfrm>
            <a:off x="985680" y="741240"/>
            <a:ext cx="4886640" cy="3665520"/>
          </a:xfrm>
          <a:prstGeom prst="rect">
            <a:avLst/>
          </a:prstGeom>
          <a:ln w="0">
            <a:noFill/>
          </a:ln>
        </p:spPr>
      </p:sp>
      <p:sp>
        <p:nvSpPr>
          <p:cNvPr id="76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F6B16-049B-4B75-94B9-F609888EEE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3D739-AB53-4DE3-941A-8898DB24147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8" name="PlaceHolder 1"/>
          <p:cNvSpPr>
            <a:spLocks noGrp="1"/>
          </p:cNvSpPr>
          <p:nvPr>
            <p:ph type="sldImg"/>
          </p:nvPr>
        </p:nvSpPr>
        <p:spPr>
          <a:xfrm>
            <a:off x="985680" y="741240"/>
            <a:ext cx="4886640" cy="3665520"/>
          </a:xfrm>
          <a:prstGeom prst="rect">
            <a:avLst/>
          </a:prstGeom>
          <a:ln w="0">
            <a:noFill/>
          </a:ln>
        </p:spPr>
      </p:sp>
      <p:sp>
        <p:nvSpPr>
          <p:cNvPr id="7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99187-297E-4C81-993F-0413AA71B4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4AA15-3C25-4463-B531-189F5A32C3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2" name="PlaceHolder 1"/>
          <p:cNvSpPr>
            <a:spLocks noGrp="1"/>
          </p:cNvSpPr>
          <p:nvPr>
            <p:ph type="sldImg"/>
          </p:nvPr>
        </p:nvSpPr>
        <p:spPr>
          <a:xfrm>
            <a:off x="985680" y="741240"/>
            <a:ext cx="4886640" cy="3665520"/>
          </a:xfrm>
          <a:prstGeom prst="rect">
            <a:avLst/>
          </a:prstGeom>
          <a:ln w="0">
            <a:noFill/>
          </a:ln>
        </p:spPr>
      </p:sp>
      <p:sp>
        <p:nvSpPr>
          <p:cNvPr id="7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4BDC3-6ACF-4C6C-9273-26E0016BC94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F7A6A-75A9-41D1-B028-EC2251CAEBD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6" name="PlaceHolder 1"/>
          <p:cNvSpPr>
            <a:spLocks noGrp="1"/>
          </p:cNvSpPr>
          <p:nvPr>
            <p:ph type="sldImg"/>
          </p:nvPr>
        </p:nvSpPr>
        <p:spPr>
          <a:xfrm>
            <a:off x="985680" y="741240"/>
            <a:ext cx="4886640" cy="3665520"/>
          </a:xfrm>
          <a:prstGeom prst="rect">
            <a:avLst/>
          </a:prstGeom>
          <a:ln w="0">
            <a:noFill/>
          </a:ln>
        </p:spPr>
      </p:sp>
      <p:sp>
        <p:nvSpPr>
          <p:cNvPr id="76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CD218-2DA5-4B01-8A5F-4117C254AD9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B6613-133A-41B8-B4BB-926543D46A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0" name="PlaceHolder 1"/>
          <p:cNvSpPr>
            <a:spLocks noGrp="1"/>
          </p:cNvSpPr>
          <p:nvPr>
            <p:ph type="sldImg"/>
          </p:nvPr>
        </p:nvSpPr>
        <p:spPr>
          <a:xfrm>
            <a:off x="985680" y="741240"/>
            <a:ext cx="4886640" cy="3665520"/>
          </a:xfrm>
          <a:prstGeom prst="rect">
            <a:avLst/>
          </a:prstGeom>
          <a:ln w="0">
            <a:noFill/>
          </a:ln>
        </p:spPr>
      </p:sp>
      <p:sp>
        <p:nvSpPr>
          <p:cNvPr id="7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A8019-677B-40E5-AEED-DB6FD3B09F1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F996D-CDB7-4BE5-B3EC-7598DCE1A76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4" name="PlaceHolder 1"/>
          <p:cNvSpPr>
            <a:spLocks noGrp="1"/>
          </p:cNvSpPr>
          <p:nvPr>
            <p:ph type="sldImg"/>
          </p:nvPr>
        </p:nvSpPr>
        <p:spPr>
          <a:xfrm>
            <a:off x="985680" y="741240"/>
            <a:ext cx="4886640" cy="3665520"/>
          </a:xfrm>
          <a:prstGeom prst="rect">
            <a:avLst/>
          </a:prstGeom>
          <a:ln w="0">
            <a:noFill/>
          </a:ln>
        </p:spPr>
      </p:sp>
      <p:sp>
        <p:nvSpPr>
          <p:cNvPr id="7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B0016-9A0C-41FF-95D0-32C4811F113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3C858-63D7-4FEC-88B5-E7B190B53B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8" name="PlaceHolder 1"/>
          <p:cNvSpPr>
            <a:spLocks noGrp="1"/>
          </p:cNvSpPr>
          <p:nvPr>
            <p:ph type="sldImg"/>
          </p:nvPr>
        </p:nvSpPr>
        <p:spPr>
          <a:xfrm>
            <a:off x="985680" y="741240"/>
            <a:ext cx="4886640" cy="3665520"/>
          </a:xfrm>
          <a:prstGeom prst="rect">
            <a:avLst/>
          </a:prstGeom>
          <a:ln w="0">
            <a:noFill/>
          </a:ln>
        </p:spPr>
      </p:sp>
      <p:sp>
        <p:nvSpPr>
          <p:cNvPr id="76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3D73B-BA5C-41F6-AA52-94E8E26CBB1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FC9A2-3E38-41CA-AB8D-C29758F7BF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2" name="PlaceHolder 1"/>
          <p:cNvSpPr>
            <a:spLocks noGrp="1"/>
          </p:cNvSpPr>
          <p:nvPr>
            <p:ph type="sldImg"/>
          </p:nvPr>
        </p:nvSpPr>
        <p:spPr>
          <a:xfrm>
            <a:off x="985680" y="741240"/>
            <a:ext cx="4886640" cy="3665520"/>
          </a:xfrm>
          <a:prstGeom prst="rect">
            <a:avLst/>
          </a:prstGeom>
          <a:ln w="0">
            <a:noFill/>
          </a:ln>
        </p:spPr>
      </p:sp>
      <p:sp>
        <p:nvSpPr>
          <p:cNvPr id="7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F4AE3-A36F-4E6D-878B-C7D7BE89F58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09871-9BF4-45BE-AA49-A3C896035C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0" name="PlaceHolder 1"/>
          <p:cNvSpPr>
            <a:spLocks noGrp="1"/>
          </p:cNvSpPr>
          <p:nvPr>
            <p:ph type="sldImg"/>
          </p:nvPr>
        </p:nvSpPr>
        <p:spPr>
          <a:xfrm>
            <a:off x="985680" y="741240"/>
            <a:ext cx="4886640" cy="3665520"/>
          </a:xfrm>
          <a:prstGeom prst="rect">
            <a:avLst/>
          </a:prstGeom>
          <a:ln w="0">
            <a:noFill/>
          </a:ln>
        </p:spPr>
      </p:sp>
      <p:sp>
        <p:nvSpPr>
          <p:cNvPr id="74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99C3E-C3B4-482C-931B-1BCF5D1BC8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77203-DA3B-468C-BC46-71D2363530B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6" name="PlaceHolder 1"/>
          <p:cNvSpPr>
            <a:spLocks noGrp="1"/>
          </p:cNvSpPr>
          <p:nvPr>
            <p:ph type="sldImg"/>
          </p:nvPr>
        </p:nvSpPr>
        <p:spPr>
          <a:xfrm>
            <a:off x="985680" y="741240"/>
            <a:ext cx="4886640" cy="3665520"/>
          </a:xfrm>
          <a:prstGeom prst="rect">
            <a:avLst/>
          </a:prstGeom>
          <a:ln w="0">
            <a:noFill/>
          </a:ln>
        </p:spPr>
      </p:sp>
      <p:sp>
        <p:nvSpPr>
          <p:cNvPr id="7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E1C90-6638-4B3E-9047-36D3832F6A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A20D9-C10E-4915-8802-320D29EBB3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0" name="PlaceHolder 1"/>
          <p:cNvSpPr>
            <a:spLocks noGrp="1"/>
          </p:cNvSpPr>
          <p:nvPr>
            <p:ph type="sldImg"/>
          </p:nvPr>
        </p:nvSpPr>
        <p:spPr>
          <a:xfrm>
            <a:off x="985680" y="741240"/>
            <a:ext cx="4886640" cy="3665520"/>
          </a:xfrm>
          <a:prstGeom prst="rect">
            <a:avLst/>
          </a:prstGeom>
          <a:ln w="0">
            <a:noFill/>
          </a:ln>
        </p:spPr>
      </p:sp>
      <p:sp>
        <p:nvSpPr>
          <p:cNvPr id="77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C927A-6862-433C-9696-DE965AF6E1C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97545-548D-48C9-8128-B6A0C89F42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4" name="PlaceHolder 1"/>
          <p:cNvSpPr>
            <a:spLocks noGrp="1"/>
          </p:cNvSpPr>
          <p:nvPr>
            <p:ph type="sldImg"/>
          </p:nvPr>
        </p:nvSpPr>
        <p:spPr>
          <a:xfrm>
            <a:off x="985680" y="741240"/>
            <a:ext cx="4886640" cy="3665520"/>
          </a:xfrm>
          <a:prstGeom prst="rect">
            <a:avLst/>
          </a:prstGeom>
          <a:ln w="0">
            <a:noFill/>
          </a:ln>
        </p:spPr>
      </p:sp>
      <p:sp>
        <p:nvSpPr>
          <p:cNvPr id="7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1A90B-CB8B-457F-9575-2FB9786A86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03DFC-9F0A-4091-8CC0-5FC99EFE567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8" name="PlaceHolder 1"/>
          <p:cNvSpPr>
            <a:spLocks noGrp="1"/>
          </p:cNvSpPr>
          <p:nvPr>
            <p:ph type="sldImg"/>
          </p:nvPr>
        </p:nvSpPr>
        <p:spPr>
          <a:xfrm>
            <a:off x="985680" y="741240"/>
            <a:ext cx="4886640" cy="3665520"/>
          </a:xfrm>
          <a:prstGeom prst="rect">
            <a:avLst/>
          </a:prstGeom>
          <a:ln w="0">
            <a:noFill/>
          </a:ln>
        </p:spPr>
      </p:sp>
      <p:sp>
        <p:nvSpPr>
          <p:cNvPr id="7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2EE852-D704-4384-9EEC-8ACD784141B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CC5EB-8C4B-48F2-8FFA-2906EBBC711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2" name="PlaceHolder 1"/>
          <p:cNvSpPr>
            <a:spLocks noGrp="1"/>
          </p:cNvSpPr>
          <p:nvPr>
            <p:ph type="sldImg"/>
          </p:nvPr>
        </p:nvSpPr>
        <p:spPr>
          <a:xfrm>
            <a:off x="985680" y="741240"/>
            <a:ext cx="4886640" cy="3665520"/>
          </a:xfrm>
          <a:prstGeom prst="rect">
            <a:avLst/>
          </a:prstGeom>
          <a:ln w="0">
            <a:noFill/>
          </a:ln>
        </p:spPr>
      </p:sp>
      <p:sp>
        <p:nvSpPr>
          <p:cNvPr id="77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B25AD-FF66-43A8-B031-19054098FA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C3D41-BEFE-4CD0-B98D-C319ED52480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6" name="PlaceHolder 1"/>
          <p:cNvSpPr>
            <a:spLocks noGrp="1"/>
          </p:cNvSpPr>
          <p:nvPr>
            <p:ph type="sldImg"/>
          </p:nvPr>
        </p:nvSpPr>
        <p:spPr>
          <a:xfrm>
            <a:off x="985680" y="741240"/>
            <a:ext cx="4886640" cy="3665520"/>
          </a:xfrm>
          <a:prstGeom prst="rect">
            <a:avLst/>
          </a:prstGeom>
          <a:ln w="0">
            <a:noFill/>
          </a:ln>
        </p:spPr>
      </p:sp>
      <p:sp>
        <p:nvSpPr>
          <p:cNvPr id="7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1AC86-26C8-4598-813E-06622C05661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D7582-898F-49FB-9828-808B0D74C17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0" name="PlaceHolder 1"/>
          <p:cNvSpPr>
            <a:spLocks noGrp="1"/>
          </p:cNvSpPr>
          <p:nvPr>
            <p:ph type="sldImg"/>
          </p:nvPr>
        </p:nvSpPr>
        <p:spPr>
          <a:xfrm>
            <a:off x="985680" y="741240"/>
            <a:ext cx="4886640" cy="3665520"/>
          </a:xfrm>
          <a:prstGeom prst="rect">
            <a:avLst/>
          </a:prstGeom>
          <a:ln w="0">
            <a:noFill/>
          </a:ln>
        </p:spPr>
      </p:sp>
      <p:sp>
        <p:nvSpPr>
          <p:cNvPr id="7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C982A-8721-4306-BAD1-6F4D036D61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9DDE4-575D-4337-BEC1-E33B4E81C32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4" name="PlaceHolder 1"/>
          <p:cNvSpPr>
            <a:spLocks noGrp="1"/>
          </p:cNvSpPr>
          <p:nvPr>
            <p:ph type="sldImg"/>
          </p:nvPr>
        </p:nvSpPr>
        <p:spPr>
          <a:xfrm>
            <a:off x="985680" y="741240"/>
            <a:ext cx="4886640" cy="3665520"/>
          </a:xfrm>
          <a:prstGeom prst="rect">
            <a:avLst/>
          </a:prstGeom>
          <a:ln w="0">
            <a:noFill/>
          </a:ln>
        </p:spPr>
      </p:sp>
      <p:sp>
        <p:nvSpPr>
          <p:cNvPr id="77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DDA60-C5B3-4F6D-A918-AA4126D3D49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6A826-84BE-4A28-AFD2-BE42A47DD34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8" name="PlaceHolder 1"/>
          <p:cNvSpPr>
            <a:spLocks noGrp="1"/>
          </p:cNvSpPr>
          <p:nvPr>
            <p:ph type="sldImg"/>
          </p:nvPr>
        </p:nvSpPr>
        <p:spPr>
          <a:xfrm>
            <a:off x="985680" y="741240"/>
            <a:ext cx="4886640" cy="3665520"/>
          </a:xfrm>
          <a:prstGeom prst="rect">
            <a:avLst/>
          </a:prstGeom>
          <a:ln w="0">
            <a:noFill/>
          </a:ln>
        </p:spPr>
      </p:sp>
      <p:sp>
        <p:nvSpPr>
          <p:cNvPr id="7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23BC2-9976-400C-8C10-FA9C32F6D9D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25D9F-A28F-4010-B8F5-9C11CCA1DB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2" name="PlaceHolder 1"/>
          <p:cNvSpPr>
            <a:spLocks noGrp="1"/>
          </p:cNvSpPr>
          <p:nvPr>
            <p:ph type="sldImg"/>
          </p:nvPr>
        </p:nvSpPr>
        <p:spPr>
          <a:xfrm>
            <a:off x="985680" y="741240"/>
            <a:ext cx="4886640" cy="3665520"/>
          </a:xfrm>
          <a:prstGeom prst="rect">
            <a:avLst/>
          </a:prstGeom>
          <a:ln w="0">
            <a:noFill/>
          </a:ln>
        </p:spPr>
      </p:sp>
      <p:sp>
        <p:nvSpPr>
          <p:cNvPr id="7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5606F-9037-4918-A72A-B971C640AED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0F15E-E597-463F-ABF1-BE49F098BC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4" name="PlaceHolder 1"/>
          <p:cNvSpPr>
            <a:spLocks noGrp="1"/>
          </p:cNvSpPr>
          <p:nvPr>
            <p:ph type="sldImg"/>
          </p:nvPr>
        </p:nvSpPr>
        <p:spPr>
          <a:xfrm>
            <a:off x="985680" y="741240"/>
            <a:ext cx="4886640" cy="3665520"/>
          </a:xfrm>
          <a:prstGeom prst="rect">
            <a:avLst/>
          </a:prstGeom>
          <a:ln w="0">
            <a:noFill/>
          </a:ln>
        </p:spPr>
      </p:sp>
      <p:sp>
        <p:nvSpPr>
          <p:cNvPr id="74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2E678-CA17-4D16-9B72-F931F1919C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705D0-FDAD-46E7-AAB6-9A60E207F3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46" name="PlaceHolder 1"/>
          <p:cNvSpPr>
            <a:spLocks noGrp="1"/>
          </p:cNvSpPr>
          <p:nvPr>
            <p:ph type="sldImg"/>
          </p:nvPr>
        </p:nvSpPr>
        <p:spPr>
          <a:xfrm>
            <a:off x="985680" y="741240"/>
            <a:ext cx="4886640" cy="3665520"/>
          </a:xfrm>
          <a:prstGeom prst="rect">
            <a:avLst/>
          </a:prstGeom>
          <a:ln w="0">
            <a:noFill/>
          </a:ln>
        </p:spPr>
      </p:sp>
      <p:sp>
        <p:nvSpPr>
          <p:cNvPr id="7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56EE7-5D47-4572-9A96-695F1B16D46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545FC-1F2A-4353-80A6-77FF476C16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0" name="PlaceHolder 1"/>
          <p:cNvSpPr>
            <a:spLocks noGrp="1"/>
          </p:cNvSpPr>
          <p:nvPr>
            <p:ph type="sldImg"/>
          </p:nvPr>
        </p:nvSpPr>
        <p:spPr>
          <a:xfrm>
            <a:off x="985680" y="741240"/>
            <a:ext cx="4886640" cy="3665520"/>
          </a:xfrm>
          <a:prstGeom prst="rect">
            <a:avLst/>
          </a:prstGeom>
          <a:ln w="0">
            <a:noFill/>
          </a:ln>
        </p:spPr>
      </p:sp>
      <p:sp>
        <p:nvSpPr>
          <p:cNvPr id="7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6F9E2-7CFC-4DB7-92D2-D49E30067BF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10B99-F140-40A5-8438-BD9B9CD5D2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4" name="PlaceHolder 1"/>
          <p:cNvSpPr>
            <a:spLocks noGrp="1"/>
          </p:cNvSpPr>
          <p:nvPr>
            <p:ph type="sldImg"/>
          </p:nvPr>
        </p:nvSpPr>
        <p:spPr>
          <a:xfrm>
            <a:off x="985680" y="741240"/>
            <a:ext cx="4886640" cy="3665520"/>
          </a:xfrm>
          <a:prstGeom prst="rect">
            <a:avLst/>
          </a:prstGeom>
          <a:ln w="0">
            <a:noFill/>
          </a:ln>
        </p:spPr>
      </p:sp>
      <p:sp>
        <p:nvSpPr>
          <p:cNvPr id="7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58F18-8F8C-4ABC-88AE-DD20657207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085BB-E01A-4F3A-9DD3-FAF1371CFFF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58" name="PlaceHolder 1"/>
          <p:cNvSpPr>
            <a:spLocks noGrp="1"/>
          </p:cNvSpPr>
          <p:nvPr>
            <p:ph type="sldImg"/>
          </p:nvPr>
        </p:nvSpPr>
        <p:spPr>
          <a:xfrm>
            <a:off x="985680" y="741240"/>
            <a:ext cx="4886640" cy="3665520"/>
          </a:xfrm>
          <a:prstGeom prst="rect">
            <a:avLst/>
          </a:prstGeom>
          <a:ln w="0">
            <a:noFill/>
          </a:ln>
        </p:spPr>
      </p:sp>
      <p:sp>
        <p:nvSpPr>
          <p:cNvPr id="7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5B286-527E-4BC4-BA03-4D6B92A8AF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58034-CD5F-414F-8674-EF09E26E954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2" name="PlaceHolder 1"/>
          <p:cNvSpPr>
            <a:spLocks noGrp="1"/>
          </p:cNvSpPr>
          <p:nvPr>
            <p:ph type="sldImg"/>
          </p:nvPr>
        </p:nvSpPr>
        <p:spPr>
          <a:xfrm>
            <a:off x="985680" y="741240"/>
            <a:ext cx="4886640" cy="3665520"/>
          </a:xfrm>
          <a:prstGeom prst="rect">
            <a:avLst/>
          </a:prstGeom>
          <a:ln w="0">
            <a:noFill/>
          </a:ln>
        </p:spPr>
      </p:sp>
      <p:sp>
        <p:nvSpPr>
          <p:cNvPr id="7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74313-42DE-4027-863A-3D5676A7BD6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9FF26-547F-4D8E-96B9-0951ECD6F1C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66" name="PlaceHolder 1"/>
          <p:cNvSpPr>
            <a:spLocks noGrp="1"/>
          </p:cNvSpPr>
          <p:nvPr>
            <p:ph type="sldImg"/>
          </p:nvPr>
        </p:nvSpPr>
        <p:spPr>
          <a:xfrm>
            <a:off x="985680" y="741240"/>
            <a:ext cx="4886640" cy="3665520"/>
          </a:xfrm>
          <a:prstGeom prst="rect">
            <a:avLst/>
          </a:prstGeom>
          <a:ln w="0">
            <a:noFill/>
          </a:ln>
        </p:spPr>
      </p:sp>
      <p:sp>
        <p:nvSpPr>
          <p:cNvPr id="7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97074-966D-4567-828C-A1E65A6E45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6B90D-A4D0-4E16-A24F-6DF7FCCE97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0" name="PlaceHolder 1"/>
          <p:cNvSpPr>
            <a:spLocks noGrp="1"/>
          </p:cNvSpPr>
          <p:nvPr>
            <p:ph type="sldImg"/>
          </p:nvPr>
        </p:nvSpPr>
        <p:spPr>
          <a:xfrm>
            <a:off x="985680" y="741240"/>
            <a:ext cx="4886640" cy="3665520"/>
          </a:xfrm>
          <a:prstGeom prst="rect">
            <a:avLst/>
          </a:prstGeom>
          <a:ln w="0">
            <a:noFill/>
          </a:ln>
        </p:spPr>
      </p:sp>
      <p:sp>
        <p:nvSpPr>
          <p:cNvPr id="7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D0E62-618B-4D8B-AD3F-75D92FEA65A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3DBA2-DEC0-4CE2-876D-D4AD04E8B30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4" name="PlaceHolder 1"/>
          <p:cNvSpPr>
            <a:spLocks noGrp="1"/>
          </p:cNvSpPr>
          <p:nvPr>
            <p:ph type="sldImg"/>
          </p:nvPr>
        </p:nvSpPr>
        <p:spPr>
          <a:xfrm>
            <a:off x="985680" y="741240"/>
            <a:ext cx="4886640" cy="3665520"/>
          </a:xfrm>
          <a:prstGeom prst="rect">
            <a:avLst/>
          </a:prstGeom>
          <a:ln w="0">
            <a:noFill/>
          </a:ln>
        </p:spPr>
      </p:sp>
      <p:sp>
        <p:nvSpPr>
          <p:cNvPr id="7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E0BA9-69E1-4D06-A3A6-719D11EC0B9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A0F8F-5F2D-427F-8CD4-FE9A28E9E6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78" name="PlaceHolder 1"/>
          <p:cNvSpPr>
            <a:spLocks noGrp="1"/>
          </p:cNvSpPr>
          <p:nvPr>
            <p:ph type="sldImg"/>
          </p:nvPr>
        </p:nvSpPr>
        <p:spPr>
          <a:xfrm>
            <a:off x="985680" y="741240"/>
            <a:ext cx="4886640" cy="3665520"/>
          </a:xfrm>
          <a:prstGeom prst="rect">
            <a:avLst/>
          </a:prstGeom>
          <a:ln w="0">
            <a:noFill/>
          </a:ln>
        </p:spPr>
      </p:sp>
      <p:sp>
        <p:nvSpPr>
          <p:cNvPr id="7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490EF-D38B-471E-A5CD-F5551B2B06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1F0DA-8F8E-426D-84C7-A440619018F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2" name="PlaceHolder 1"/>
          <p:cNvSpPr>
            <a:spLocks noGrp="1"/>
          </p:cNvSpPr>
          <p:nvPr>
            <p:ph type="sldImg"/>
          </p:nvPr>
        </p:nvSpPr>
        <p:spPr>
          <a:xfrm>
            <a:off x="985680" y="741240"/>
            <a:ext cx="4886640" cy="3665520"/>
          </a:xfrm>
          <a:prstGeom prst="rect">
            <a:avLst/>
          </a:prstGeom>
          <a:ln w="0">
            <a:noFill/>
          </a:ln>
        </p:spPr>
      </p:sp>
      <p:sp>
        <p:nvSpPr>
          <p:cNvPr id="77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9F5A9-1C69-4641-A32E-BFBC548041E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7409F-344B-4B83-9BBB-A837CDD8E4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8" name="PlaceHolder 1"/>
          <p:cNvSpPr>
            <a:spLocks noGrp="1"/>
          </p:cNvSpPr>
          <p:nvPr>
            <p:ph type="sldImg"/>
          </p:nvPr>
        </p:nvSpPr>
        <p:spPr>
          <a:xfrm>
            <a:off x="985680" y="741240"/>
            <a:ext cx="4886640" cy="3665520"/>
          </a:xfrm>
          <a:prstGeom prst="rect">
            <a:avLst/>
          </a:prstGeom>
          <a:ln w="0">
            <a:noFill/>
          </a:ln>
        </p:spPr>
      </p:sp>
      <p:sp>
        <p:nvSpPr>
          <p:cNvPr id="74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CB10F2-738E-4A68-9D97-89CA76E9CEA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3A10D-3CDE-49AF-B16A-D9C47A9BC5B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86" name="PlaceHolder 1"/>
          <p:cNvSpPr>
            <a:spLocks noGrp="1"/>
          </p:cNvSpPr>
          <p:nvPr>
            <p:ph type="sldImg"/>
          </p:nvPr>
        </p:nvSpPr>
        <p:spPr>
          <a:xfrm>
            <a:off x="985680" y="741240"/>
            <a:ext cx="4886640" cy="3665520"/>
          </a:xfrm>
          <a:prstGeom prst="rect">
            <a:avLst/>
          </a:prstGeom>
          <a:ln w="0">
            <a:noFill/>
          </a:ln>
        </p:spPr>
      </p:sp>
      <p:sp>
        <p:nvSpPr>
          <p:cNvPr id="7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4FFDB-6C8A-4D3A-94B1-F1FF666C48F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25076-796D-4250-AC61-A9095C8AAD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0" name="PlaceHolder 1"/>
          <p:cNvSpPr>
            <a:spLocks noGrp="1"/>
          </p:cNvSpPr>
          <p:nvPr>
            <p:ph type="sldImg"/>
          </p:nvPr>
        </p:nvSpPr>
        <p:spPr>
          <a:xfrm>
            <a:off x="985680" y="741240"/>
            <a:ext cx="4886640" cy="3665520"/>
          </a:xfrm>
          <a:prstGeom prst="rect">
            <a:avLst/>
          </a:prstGeom>
          <a:ln w="0">
            <a:noFill/>
          </a:ln>
        </p:spPr>
      </p:sp>
      <p:sp>
        <p:nvSpPr>
          <p:cNvPr id="7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9B861-E69D-4CAB-A7F3-05ED87F37D9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EF6F6-7C73-4BC5-AA57-222649E947E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4" name="PlaceHolder 1"/>
          <p:cNvSpPr>
            <a:spLocks noGrp="1"/>
          </p:cNvSpPr>
          <p:nvPr>
            <p:ph type="sldImg"/>
          </p:nvPr>
        </p:nvSpPr>
        <p:spPr>
          <a:xfrm>
            <a:off x="985680" y="741240"/>
            <a:ext cx="4886640" cy="3665520"/>
          </a:xfrm>
          <a:prstGeom prst="rect">
            <a:avLst/>
          </a:prstGeom>
          <a:ln w="0">
            <a:noFill/>
          </a:ln>
        </p:spPr>
      </p:sp>
      <p:sp>
        <p:nvSpPr>
          <p:cNvPr id="77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CFA44-E806-46E9-B5DF-80EB58D0A9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1E5B0-94DA-4174-B957-191F3DEB365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98" name="PlaceHolder 1"/>
          <p:cNvSpPr>
            <a:spLocks noGrp="1"/>
          </p:cNvSpPr>
          <p:nvPr>
            <p:ph type="sldImg"/>
          </p:nvPr>
        </p:nvSpPr>
        <p:spPr>
          <a:xfrm>
            <a:off x="985680" y="741240"/>
            <a:ext cx="4886640" cy="3665520"/>
          </a:xfrm>
          <a:prstGeom prst="rect">
            <a:avLst/>
          </a:prstGeom>
          <a:ln w="0">
            <a:noFill/>
          </a:ln>
        </p:spPr>
      </p:sp>
      <p:sp>
        <p:nvSpPr>
          <p:cNvPr id="7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D205E-7D66-4307-866F-3E61075003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5580B-47BA-481F-89B8-25D7C7B8515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2" name="PlaceHolder 1"/>
          <p:cNvSpPr>
            <a:spLocks noGrp="1"/>
          </p:cNvSpPr>
          <p:nvPr>
            <p:ph type="sldImg"/>
          </p:nvPr>
        </p:nvSpPr>
        <p:spPr>
          <a:xfrm>
            <a:off x="985680" y="741240"/>
            <a:ext cx="4886640" cy="3665520"/>
          </a:xfrm>
          <a:prstGeom prst="rect">
            <a:avLst/>
          </a:prstGeom>
          <a:ln w="0">
            <a:noFill/>
          </a:ln>
        </p:spPr>
      </p:sp>
      <p:sp>
        <p:nvSpPr>
          <p:cNvPr id="7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7D438-BA9E-4160-870A-FCAE2ECDB73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FA64E-C69C-410A-B7B5-868FC26C9A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06" name="PlaceHolder 1"/>
          <p:cNvSpPr>
            <a:spLocks noGrp="1"/>
          </p:cNvSpPr>
          <p:nvPr>
            <p:ph type="sldImg"/>
          </p:nvPr>
        </p:nvSpPr>
        <p:spPr>
          <a:xfrm>
            <a:off x="985680" y="741240"/>
            <a:ext cx="4886640" cy="3665520"/>
          </a:xfrm>
          <a:prstGeom prst="rect">
            <a:avLst/>
          </a:prstGeom>
          <a:ln w="0">
            <a:noFill/>
          </a:ln>
        </p:spPr>
      </p:sp>
      <p:sp>
        <p:nvSpPr>
          <p:cNvPr id="7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85CC5-6943-4B7B-802B-5749A40DDD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0F51B-7C13-49F9-8A7D-3A1DAB4B6B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0" name="PlaceHolder 1"/>
          <p:cNvSpPr>
            <a:spLocks noGrp="1"/>
          </p:cNvSpPr>
          <p:nvPr>
            <p:ph type="sldImg"/>
          </p:nvPr>
        </p:nvSpPr>
        <p:spPr>
          <a:xfrm>
            <a:off x="985680" y="741240"/>
            <a:ext cx="4886640" cy="3665520"/>
          </a:xfrm>
          <a:prstGeom prst="rect">
            <a:avLst/>
          </a:prstGeom>
          <a:ln w="0">
            <a:noFill/>
          </a:ln>
        </p:spPr>
      </p:sp>
      <p:sp>
        <p:nvSpPr>
          <p:cNvPr id="7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F81748-9EE9-48C4-AE35-B9833F968C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95058-C62F-4D6E-A657-E428294647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4" name="PlaceHolder 1"/>
          <p:cNvSpPr>
            <a:spLocks noGrp="1"/>
          </p:cNvSpPr>
          <p:nvPr>
            <p:ph type="sldImg"/>
          </p:nvPr>
        </p:nvSpPr>
        <p:spPr>
          <a:xfrm>
            <a:off x="985680" y="741240"/>
            <a:ext cx="4886640" cy="3665520"/>
          </a:xfrm>
          <a:prstGeom prst="rect">
            <a:avLst/>
          </a:prstGeom>
          <a:ln w="0">
            <a:noFill/>
          </a:ln>
        </p:spPr>
      </p:sp>
      <p:sp>
        <p:nvSpPr>
          <p:cNvPr id="7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C83AB1-F405-4C90-A2CC-63A203A4713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B0DB4-79FC-4FC0-ABB7-4DE9EF1DFC5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18" name="PlaceHolder 1"/>
          <p:cNvSpPr>
            <a:spLocks noGrp="1"/>
          </p:cNvSpPr>
          <p:nvPr>
            <p:ph type="sldImg"/>
          </p:nvPr>
        </p:nvSpPr>
        <p:spPr>
          <a:xfrm>
            <a:off x="985680" y="741240"/>
            <a:ext cx="4886640" cy="3665520"/>
          </a:xfrm>
          <a:prstGeom prst="rect">
            <a:avLst/>
          </a:prstGeom>
          <a:ln w="0">
            <a:noFill/>
          </a:ln>
        </p:spPr>
      </p:sp>
      <p:sp>
        <p:nvSpPr>
          <p:cNvPr id="7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A10C31-F54E-45B0-AA83-82D70921681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0341C-F4A1-4BF0-B26D-EC8C2B91F2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2" name="PlaceHolder 1"/>
          <p:cNvSpPr>
            <a:spLocks noGrp="1"/>
          </p:cNvSpPr>
          <p:nvPr>
            <p:ph type="sldImg"/>
          </p:nvPr>
        </p:nvSpPr>
        <p:spPr>
          <a:xfrm>
            <a:off x="985680" y="741240"/>
            <a:ext cx="4886640" cy="3665520"/>
          </a:xfrm>
          <a:prstGeom prst="rect">
            <a:avLst/>
          </a:prstGeom>
          <a:ln w="0">
            <a:noFill/>
          </a:ln>
        </p:spPr>
      </p:sp>
      <p:sp>
        <p:nvSpPr>
          <p:cNvPr id="7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92311-95A6-4803-A335-36AA3716C17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0C362-85CD-4C9F-AA6A-4D8090F308D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2" name="PlaceHolder 1"/>
          <p:cNvSpPr>
            <a:spLocks noGrp="1"/>
          </p:cNvSpPr>
          <p:nvPr>
            <p:ph type="sldImg"/>
          </p:nvPr>
        </p:nvSpPr>
        <p:spPr>
          <a:xfrm>
            <a:off x="985680" y="741240"/>
            <a:ext cx="4886640" cy="3665520"/>
          </a:xfrm>
          <a:prstGeom prst="rect">
            <a:avLst/>
          </a:prstGeom>
          <a:ln w="0">
            <a:noFill/>
          </a:ln>
        </p:spPr>
      </p:sp>
      <p:sp>
        <p:nvSpPr>
          <p:cNvPr id="75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97E28-37E9-4BED-9756-322FFC728B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FA563-2038-477E-ABE8-B4BFADCD85F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26" name="PlaceHolder 1"/>
          <p:cNvSpPr>
            <a:spLocks noGrp="1"/>
          </p:cNvSpPr>
          <p:nvPr>
            <p:ph type="sldImg"/>
          </p:nvPr>
        </p:nvSpPr>
        <p:spPr>
          <a:xfrm>
            <a:off x="985680" y="741240"/>
            <a:ext cx="4886640" cy="3665520"/>
          </a:xfrm>
          <a:prstGeom prst="rect">
            <a:avLst/>
          </a:prstGeom>
          <a:ln w="0">
            <a:noFill/>
          </a:ln>
        </p:spPr>
      </p:sp>
      <p:sp>
        <p:nvSpPr>
          <p:cNvPr id="7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14843-6359-4009-8309-D8087D911AF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2104E6-8AB6-4C3D-BB35-E90974E126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0" name="PlaceHolder 1"/>
          <p:cNvSpPr>
            <a:spLocks noGrp="1"/>
          </p:cNvSpPr>
          <p:nvPr>
            <p:ph type="sldImg"/>
          </p:nvPr>
        </p:nvSpPr>
        <p:spPr>
          <a:xfrm>
            <a:off x="985680" y="741240"/>
            <a:ext cx="4886640" cy="3665520"/>
          </a:xfrm>
          <a:prstGeom prst="rect">
            <a:avLst/>
          </a:prstGeom>
          <a:ln w="0">
            <a:noFill/>
          </a:ln>
        </p:spPr>
      </p:sp>
      <p:sp>
        <p:nvSpPr>
          <p:cNvPr id="7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C6F3D-2C26-41B9-99D8-1FD162DE8DB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AEFCF-8CC8-4D16-AA18-190FFA17A2A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4" name="PlaceHolder 1"/>
          <p:cNvSpPr>
            <a:spLocks noGrp="1"/>
          </p:cNvSpPr>
          <p:nvPr>
            <p:ph type="sldImg"/>
          </p:nvPr>
        </p:nvSpPr>
        <p:spPr>
          <a:xfrm>
            <a:off x="985680" y="741240"/>
            <a:ext cx="4886640" cy="3665520"/>
          </a:xfrm>
          <a:prstGeom prst="rect">
            <a:avLst/>
          </a:prstGeom>
          <a:ln w="0">
            <a:noFill/>
          </a:ln>
        </p:spPr>
      </p:sp>
      <p:sp>
        <p:nvSpPr>
          <p:cNvPr id="7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87EB7-1C66-4F3A-A32C-F0A5C24C55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2935B-7C24-47C5-A2A9-3F1406BDFB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38" name="PlaceHolder 1"/>
          <p:cNvSpPr>
            <a:spLocks noGrp="1"/>
          </p:cNvSpPr>
          <p:nvPr>
            <p:ph type="sldImg"/>
          </p:nvPr>
        </p:nvSpPr>
        <p:spPr>
          <a:xfrm>
            <a:off x="985680" y="741240"/>
            <a:ext cx="4886640" cy="3665520"/>
          </a:xfrm>
          <a:prstGeom prst="rect">
            <a:avLst/>
          </a:prstGeom>
          <a:ln w="0">
            <a:noFill/>
          </a:ln>
        </p:spPr>
      </p:sp>
      <p:sp>
        <p:nvSpPr>
          <p:cNvPr id="7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84176-4542-460B-858A-F6576BECA10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58974-5451-4652-8075-E52CFC3E0ED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2" name="PlaceHolder 1"/>
          <p:cNvSpPr>
            <a:spLocks noGrp="1"/>
          </p:cNvSpPr>
          <p:nvPr>
            <p:ph type="sldImg"/>
          </p:nvPr>
        </p:nvSpPr>
        <p:spPr>
          <a:xfrm>
            <a:off x="985680" y="741240"/>
            <a:ext cx="4886640" cy="3665520"/>
          </a:xfrm>
          <a:prstGeom prst="rect">
            <a:avLst/>
          </a:prstGeom>
          <a:ln w="0">
            <a:noFill/>
          </a:ln>
        </p:spPr>
      </p:sp>
      <p:sp>
        <p:nvSpPr>
          <p:cNvPr id="7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4F3A3-88DA-4099-BC12-B45D6A77D67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AB29B6-D7DB-4C7C-8833-D1FCD06B34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46" name="PlaceHolder 1"/>
          <p:cNvSpPr>
            <a:spLocks noGrp="1"/>
          </p:cNvSpPr>
          <p:nvPr>
            <p:ph type="sldImg"/>
          </p:nvPr>
        </p:nvSpPr>
        <p:spPr>
          <a:xfrm>
            <a:off x="985680" y="741240"/>
            <a:ext cx="4886640" cy="3665520"/>
          </a:xfrm>
          <a:prstGeom prst="rect">
            <a:avLst/>
          </a:prstGeom>
          <a:ln w="0">
            <a:noFill/>
          </a:ln>
        </p:spPr>
      </p:sp>
      <p:sp>
        <p:nvSpPr>
          <p:cNvPr id="7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F16B43-8CF4-4CAD-8C03-60327B1384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ADF9F-78F4-4A6A-867D-32FA0A5E9C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0" name="PlaceHolder 1"/>
          <p:cNvSpPr>
            <a:spLocks noGrp="1"/>
          </p:cNvSpPr>
          <p:nvPr>
            <p:ph type="sldImg"/>
          </p:nvPr>
        </p:nvSpPr>
        <p:spPr>
          <a:xfrm>
            <a:off x="985680" y="741240"/>
            <a:ext cx="4886640" cy="3665520"/>
          </a:xfrm>
          <a:prstGeom prst="rect">
            <a:avLst/>
          </a:prstGeom>
          <a:ln w="0">
            <a:noFill/>
          </a:ln>
        </p:spPr>
      </p:sp>
      <p:sp>
        <p:nvSpPr>
          <p:cNvPr id="7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AF080-D464-4012-A9DC-B1B2DB4CD81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304CA-DCA6-470B-88E0-9684100832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4" name="PlaceHolder 1"/>
          <p:cNvSpPr>
            <a:spLocks noGrp="1"/>
          </p:cNvSpPr>
          <p:nvPr>
            <p:ph type="sldImg"/>
          </p:nvPr>
        </p:nvSpPr>
        <p:spPr>
          <a:xfrm>
            <a:off x="985680" y="741240"/>
            <a:ext cx="4886640" cy="3665520"/>
          </a:xfrm>
          <a:prstGeom prst="rect">
            <a:avLst/>
          </a:prstGeom>
          <a:ln w="0">
            <a:noFill/>
          </a:ln>
        </p:spPr>
      </p:sp>
      <p:sp>
        <p:nvSpPr>
          <p:cNvPr id="7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C4209-2852-4B4A-A970-9FE4A25BC26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89112-A90D-4BB7-843E-0AD78B44D33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58" name="PlaceHolder 1"/>
          <p:cNvSpPr>
            <a:spLocks noGrp="1"/>
          </p:cNvSpPr>
          <p:nvPr>
            <p:ph type="sldImg"/>
          </p:nvPr>
        </p:nvSpPr>
        <p:spPr>
          <a:xfrm>
            <a:off x="985680" y="741240"/>
            <a:ext cx="4886640" cy="3665520"/>
          </a:xfrm>
          <a:prstGeom prst="rect">
            <a:avLst/>
          </a:prstGeom>
          <a:ln w="0">
            <a:noFill/>
          </a:ln>
        </p:spPr>
      </p:sp>
      <p:sp>
        <p:nvSpPr>
          <p:cNvPr id="7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EDA0E-B5A4-4D73-B28A-6805D606B2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8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C681B-537E-4DE7-85BC-8913445F90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62" name="PlaceHolder 1"/>
          <p:cNvSpPr>
            <a:spLocks noGrp="1"/>
          </p:cNvSpPr>
          <p:nvPr>
            <p:ph type="sldImg"/>
          </p:nvPr>
        </p:nvSpPr>
        <p:spPr>
          <a:xfrm>
            <a:off x="985680" y="741240"/>
            <a:ext cx="4886640" cy="3665520"/>
          </a:xfrm>
          <a:prstGeom prst="rect">
            <a:avLst/>
          </a:prstGeom>
          <a:ln w="0">
            <a:noFill/>
          </a:ln>
        </p:spPr>
      </p:sp>
      <p:sp>
        <p:nvSpPr>
          <p:cNvPr id="7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7257C-75F8-4FE3-B404-DB3B91AF75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BCE8955-7AE1-422D-AAF8-3D5EEEED97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7AB5F4F-6DC4-47E4-8E46-6934E8FE7473}"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79B93B49-50B7-4794-B3DF-DC1512576A6C}"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3668D01A-CAAF-414E-90F1-F7E554F52ACF}"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E3413CB8-8988-4255-979A-85AF141EC4B6}"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202DA810-F06A-4432-9F75-9760E924C5E3}"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3D6F2823-BC0F-4753-8506-90E5D3778560}"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D560D7B9-CDFB-49DC-8DFD-378959BDEB26}"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384B9679-6CAC-4D23-BEB8-20818052DA4E}"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24BCA813-F870-4BEF-B272-7514F8B1E569}"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9AD29747-9494-46A1-88B7-FF9E39193293}"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73AEAD0A-6642-42A3-8138-B4C3F7F2DE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DBE727A6-B4CA-43FD-9D86-939896219F8D}"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58D92B8D-5E0A-4D1D-8F70-A9954A9F39F9}"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C810889A-9231-4CEA-8861-EFDD562B77D5}"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E5E9C971-D97E-48BA-A0C2-84E13A27881E}"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1C17BC76-A80A-43B5-91F3-5C33F99E07BD}"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E707E59B-89CF-42CF-887A-7A0BC08105E6}"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81C81D87-99B8-4AED-A785-19E38A57EDE2}"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7F8EDF9F-3C31-44E6-A8D1-0183B887FE4B}"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125387AA-AB77-4E42-8FA0-E198B95395F8}"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02BE5F39-5C2D-4280-8F31-5B0D27D0C434}"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6E9A136B-DF08-447F-9D35-005E184D4B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00E2C4D-61EE-4DF7-B837-9DF8B636D31C}"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E9A9A719-2B7D-4472-A580-B331A3337901}"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783C1B0E-ED29-47D9-ABAF-6525BE2971BB}"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0F537CD5-8ED2-4DF3-BC44-9BE39C27D42A}"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A028C4BE-FE03-43F0-BAE2-C7B8BAA5F85B}"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76A563E7-515D-401B-AD62-A283099A0355}"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1A0BEED6-31FD-4868-9ABD-D1A197EDD2E9}"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AB2364A3-E6D2-4C98-AC42-246E5C5422B6}"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29480E56-AC8A-4876-9641-9B82CB5BC765}"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8E619B0E-1385-4C1D-8844-49EC3520B688}"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8B5E5645-025E-495D-B0F4-114EB45EC5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25049B7-157B-4949-B090-72CA470A37E0}"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53EF94CD-FAE2-44E1-82A6-DBFFF344F80A}"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9B668DB4-ECE5-49A6-8ACB-342DD9FEF39E}"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BC2799AF-73A9-46BD-9180-84B5810E5154}"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DC7CF4A7-7DC8-4884-A78A-16341D3FA0A7}"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2F3D5AC3-2E13-4AC5-A3BF-77EA5948ECFE}"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CAA3FF74-E5EF-4857-BD15-9837F1C14A65}"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84EDF090-9DD5-42DB-AEB9-B40D4FF4F10E}"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DBFDE058-9051-4CD6-9C1E-47FE0A95D154}"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97161F2C-7573-40AE-AA62-BB21447AC32B}"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7429EE33-B25F-4654-A5A9-29ED6D2EB82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B374C81-C4A7-4CC5-BF90-E5642DF17DA0}"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06678831-67CA-4551-8192-048A4B3295AF}"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2686102A-F287-4265-AD35-399A7CD30327}"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D6D5D81D-1A65-4A5A-A380-7794FBCB4313}"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1D2EBE32-D384-485E-B1DB-FA3D145D2484}"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C37682F7-0969-4182-A205-9B1AB89BA7F3}"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18311C58-F6CA-4901-886D-234FA6BF0FD3}"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9A8715C9-B88E-4CE7-B122-063932CA720C}"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7EBFD07E-57BA-44E2-B652-60DB0E22452E}"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C8C4E9B8-8164-4696-A0B0-142C068A7A96}"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532FEE33-D24B-44D9-8221-4A569F58FF8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4D7454A-D3BA-4142-972A-51D535B425B8}"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22985DDB-D4D0-49C6-9567-92C92D40D62A}"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3DEB5D54-C321-4028-8D2C-D98007EA85DD}"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844755B6-5382-40A5-A2CE-0B7F4B4C5923}"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C3DFD27A-CFE7-4AB0-ABEC-4B34DCC0A141}"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0A15DF1E-83EB-485F-A78F-0B644E858A49}"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155735F7-2EC8-4DA5-9D21-5ADA2C76559C}"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A7B92805-7CDE-44AB-BAFA-885ACEAB5CA0}"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2E6D65F8-3297-4168-9705-3008F3D3BFAF}"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AE5FBEBC-5E02-4836-913B-1A04AF47A632}"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9FC70528-919B-4A71-9106-6330C70B782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D51E2D8-E069-49AF-99A2-104F67FB60CA}"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4B067268-398D-4D06-8887-2E69FD4465FD}"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C1AD1F49-F205-41F0-B1F7-71406EE34AD1}"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CCE66C7E-86D5-499C-8C9E-29871F284E4F}"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081B4183-4913-43B3-9C7A-AFD0CFD1A03E}"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BBB4FA96-22E0-472F-9672-483D829E1585}"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89687E9F-F8FB-4356-8CA9-22441C844D75}"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7F035B74-AD6C-4DC2-ACAF-0F5E49649BC5}"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0B2C2F83-BA5A-47FB-A9D1-B280226626EF}"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BAD0533C-5305-4567-B9C9-1D74F3268EDF}"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BD8FA9EA-47F8-44B8-9483-FA82D38D5E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52A2D09A-49F6-40DF-9103-9CA2B5B7AF3A}"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761FCB60-F6D4-4249-9994-624486931B40}"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252302B2-82B7-47A6-BB41-42357C5A5378}"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F8EB439E-520A-4705-A90D-448BC2988971}"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577EA889-166A-4550-A274-477548DE4524}"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6F4361E5-BD16-4042-AB66-39ABFFAFAE13}"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72A1D1C0-3934-41AE-91FB-54614E58F697}"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9E23E4B9-E141-4E7C-8D70-6B92E64395D1}"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C85370E3-F095-4756-892F-B042EA4E7750}"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0A08DF1E-F016-4B70-9526-9C0ECF0AEC2D}"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D79517E9-BD1E-4262-A4F6-D8EBEA8CD2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0634E739-789F-4813-96E6-13CAE0047B2E}"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07EF3840-4297-4BB9-B5C3-9FB8D3081B89}"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A0DA3779-F903-44AF-B9E7-BC4C088E9B01}"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0BB20AFC-6C7C-4FE8-A96D-E0E6D0654CB9}"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8882895D-3706-4F27-86C2-C2DA0CE6DD04}"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CFCA14B0-CC00-4A46-A463-76E67265689B}"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9967C276-41C7-4E39-BB52-AE89600F4BCD}"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F6CFB20D-85D5-4682-8B26-FDD81F336653}"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BAB1759C-ECE0-4E3E-B0AA-0EAC5B2EF5DD}"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5085D0A2-040F-4372-B382-7B46B9DFDA1A}"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DAB789F8-041C-470E-AD97-6F3084D1947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CB0FCDB-E1ED-4AC7-B02A-C2FD380C13FF}"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DE17F167-3770-4CA2-8A4A-91C634CE052D}"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90B58341-CCD0-494D-8F38-60DE3B731A2A}"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26A4FE13-128F-4C3E-8D4D-DB502AE77D0F}"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38952009-0965-44C0-B2D5-B5983730DDA0}"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FBA23DED-7DDF-412F-A116-4ADD88536C5A}"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4E66690E-7EA3-4BA5-BB2F-46F6BA54E28E}"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40D5E64A-FAED-46D5-A71A-A10EBAE0ACCF}"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684E3D99-ED3A-4ADC-A38F-CC0AF71FE4FB}"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C7ECEAA5-B59C-40CB-9535-125B65254632}"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F8DF4703-F91B-4058-8354-3953931350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7682470-3ADF-4D6B-8594-11CC7850011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17B73BA-5A91-4CBF-BBC5-4ECC5E7F30CE}"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6687E39E-A41A-4AAD-AFFC-6E6503067CA6}"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06070E21-6CF7-4E78-9556-BA3AAAF114EA}"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699FE300-56D6-43ED-85CE-8FB3D3860654}"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F4754948-2FE1-4F49-89DB-DD5E4E5B98EC}"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1E4582F5-2E5F-4753-AC9E-6F78ECA618A1}"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9485E046-B627-46A6-95D9-FDC4B80F6B19}"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2C17B731-4C33-436C-9646-D197EB358986}"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2DC88F6F-4CA4-4C9C-AECB-26566A39BE97}"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5E5D9A86-5A07-49F0-A87C-8B6ED5CC16DF}"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9530DC47-BD89-4357-A0A9-ABCAF4C736B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206BD37-BC06-4B01-A06C-0AE0748F3654}"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E5B97D88-4A0C-498B-A434-A9CA7D2491F0}"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B5511A53-2434-45D4-A45C-D7508B008B4E}"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5D339380-3909-426B-817E-3CD11A04D42E}"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F6604CD0-0135-47E7-81EB-4D2C1C995F74}"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0DFBCF1C-7678-4944-BD6E-BB4D2F932AB1}"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E9CE1798-C78B-4C0C-B457-0E14E4B3C810}"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982379F8-FD3F-4EBB-B221-0FA53C011DBA}"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0B70C63D-5A8F-4524-9C45-A435A2C93B4D}"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C5E18131-0B27-4A9A-B936-7E83DADAD6CA}"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0D357727-FB98-496F-B99E-7A9FC3F9A67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9747DFE-22D7-4668-B6F8-C0D0B4F696BD}"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BF472A3E-38BB-409C-8560-A71D03C6FD8E}"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6412CB3A-15B5-4A72-B29B-AD81EF3F14ED}"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A2003A51-5395-4E9F-B572-D908674D0015}"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E08E863C-39FE-4EB7-A889-26F7C6639963}"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308A8F52-0EFD-48F5-B972-AADD5AC6007A}"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24984E81-A6E7-484C-B675-10842B9E5077}"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EDA51DD6-5F5D-498D-80F5-5B867CFEE8A1}"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02EFCC4D-76CF-4DFD-8E9C-A899B73F73B0}"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2DD6A142-6C9C-4864-A077-513424845CCB}"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36D5F2CA-DC8B-4E9A-8BBB-EFD4C76E9CE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7E11B90C-3DAE-4978-BD05-F6D394F2DD13}"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28D07B08-40C3-42FF-82B5-0DABD1255BC4}"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E92EA843-0C57-4E9B-AFF1-E41BDC96245D}"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46EA4E56-207B-49F1-8482-C7F950BDFFE4}"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FAB13FB5-5FC9-4C21-A13C-C1E977874E72}"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3FAA11C5-4E73-4D5C-B2A7-E4B03F23E5DC}"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827B74AE-396B-4F68-8EB6-40EA5A7E3FFD}"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E7E81860-D79F-4ACB-AE79-10AECF0BF2A1}"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30DC9813-9BB6-4B17-8737-016C65BC5347}"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10511BC4-6F71-4112-BA7E-27639253460E}"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BA4665E4-F211-40E1-B505-E87D44B02F2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35C51339-55E1-47F5-831D-0A44A4C28652}"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385D5615-006D-4858-9B5B-84CD5EF934B5}"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40AC69AD-ED9F-4AFB-9C46-DA344DC6ED23}"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43946B8F-65EB-4332-BACA-C2AD9DFF6EA2}"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0F54B63F-3B1A-4F70-9DDB-D3E479158E34}"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766B67C9-87B5-4E8C-ADD2-8A54582475D4}"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4102D7E3-5709-4124-AFEE-CF8A87B2D682}"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43079E48-8657-4F33-8A12-8AE540BA6EED}"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C78D04ED-3543-4A87-92D0-7ABC5ED315B2}"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8886643D-0A32-40C5-AE0C-DCE58C3822E5}"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2C49450B-7969-400D-8EDA-AB96817EB3E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9DD166E-1727-4D05-B98E-596F30FD8154}"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C3726960-2753-40B5-B7B2-49895B0FC402}"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3D218587-53F2-4645-8CB4-EBBDBA588785}"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58F37256-D648-46A4-AF62-B73810C9EAB6}"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D07ACD21-CAD5-4705-9283-C1469DE56D88}"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87D1428A-DB55-44E4-9EEC-7510DEF2B50B}"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CE64934D-73F6-4535-A27E-E80CB25E057B}"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C9B2CAAD-9AFD-45B7-95D9-F910E78E94B3}"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AD586A22-7195-4867-8DF2-229C5E929471}"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9E0252D1-D6FD-4A46-BEF7-1620374E2475}"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BFF00ED6-3FEF-4580-BB0A-2F9D5AA5B6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AAFC665-C1A2-4308-AAFD-8239C9053FE0}"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03744A9F-F3C6-4FB1-9738-4D39DA89C821}"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8F8D2BB8-8DE4-4B7C-941B-F620F3DF06A6}"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A0870AFA-E9D8-4CB4-AB92-AA370DD69E25}"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3BF9D31C-2588-41F7-BF90-0420096BDDD5}"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8A8BA00D-2D81-424B-8A4A-EB6B48AA95C0}"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AC36CD40-0EAA-4EEA-850E-758AC15EB34F}"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D6E4624B-E0DD-4A55-B2A6-4DC8082EFA3A}"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3A30BDFD-646A-4DE4-B113-850558028D12}"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4C240E45-3C9D-4967-8865-5ACA0815BDA7}"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6D303215-8367-424F-8A42-5B9C57D1CF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43DB9DD-D99B-44C4-AC01-9F821F9E1B05}"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44F2B3A6-809D-4F96-B306-C8D405FBF237}"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92587B06-D20C-41CA-939F-44E525E4B4F0}"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7B9A3957-F068-45B1-9DCE-B12117D8B98C}"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6A0AE30F-5F66-4766-8D4A-C678D30B5BE1}"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86AA8FFF-EC30-4EFF-8C33-F42A10C4D183}"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0FBD2C6A-AA80-491B-A987-2716B1E7DD17}"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C45FBCF0-18F9-4E8D-8444-C87D73B67E99}"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6DA8D654-50F0-408C-B954-72F3DF35FECE}"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4E8D9479-B28F-4F14-9E4A-F6FEFD4F135C}"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8B3606E1-4D1D-4AE5-B8DD-377E97A99C0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8E15031-D092-4394-9036-1A2FEA996D87}"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A6CEE10B-3A7C-48E1-996E-4956035CC30F}"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D16A1C25-3875-49D7-BF20-1F46B52B4743}"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BCC7970C-95CA-431E-9824-B34851048BC0}"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C3469F84-E9D0-471D-B205-6090F5B400A0}"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B4DFDEC2-875B-42F2-B757-73BA47A66DB4}"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0254232B-E227-45EC-8561-AFF0DA2129CB}"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C0D7B6BF-435B-4D26-BB16-4F700A609894}"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8EBFA929-B5F0-40F3-BA9B-774017F5A771}"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4C63266A-6F18-4C30-824E-5A591C85FF5E}"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61E08264-80C6-4AA3-B659-CDF8A0B119D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179A67B-6142-4C15-8A6A-8A04852C5E66}"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49361FB1-EA6D-40FF-980E-DBE43E996F77}"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E2D6DCA2-3FA1-4FB2-BFD8-93E88C035277}"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7E9D8AD5-F415-423D-8E23-B3DBCD8E8DFC}"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38CF7CDB-98B9-49EE-8640-0FD55CAEBFC2}"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C5ADEE73-5DE0-4EF9-BA25-95F96E547939}"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71DC91A1-6FAB-4644-BA2D-EBBAEAAE83C2}"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551D6791-4D6C-4D30-8308-9D91241FDB38}"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C6E06242-8EF0-4E4E-BCE4-EDD32B844161}"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B88B4602-1502-4694-A012-4FCA336E7357}"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D735AF67-2458-4123-9E8A-2C29921F42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4775E63-035D-412C-9135-5146C4BBC06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32D0EACF-8D6E-4DA0-B245-072454D1690A}"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7FCF4A9B-F728-4880-A079-58375D9072A4}"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35741F13-CD16-45AA-A060-6EDCDF4AF071}"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487C2C85-F648-45B5-967F-71ABD184C66C}"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8EE1715B-B0BC-4C81-BD01-6A360BB45C39}"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C8FE5517-E352-47E3-9C76-944828754876}"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53A66B41-36A3-435B-9DC4-3453665963BE}"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74DB60DC-50D6-4365-93B6-C5C016D738E5}"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0ECC0E6-5DFB-4B5C-A6F7-1484251193B8}"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8D4BACAA-21CE-4468-8260-81311A345C64}"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D3251360-4ADC-42B4-BE84-C8FDD3DA171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B6B4267-B591-4FDC-AF7E-90CF6EA18BAD}"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DB25BE8C-58C0-4F8F-9EF8-E59331759BB2}"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0C8A3D6F-EBAB-4894-933B-5A0A306BF85C}"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52DE1EFC-18E6-4E31-8233-226E056938F4}"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82F6E073-DE1C-456B-812A-9F8C1BB2B507}"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FFF5AC46-B1BD-480E-A406-B62DBDEFF0F2}"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735FCB53-1760-4A9B-9F66-483BBB591927}"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F4792A47-BA07-4373-9828-6A279BA34B0B}"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5F22F54E-10B9-4ADC-AD12-F663DDDCF1AC}"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98BCA397-53AC-47B0-8881-B14578155AB2}"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7DF58CC1-C5D3-48B0-956A-24512E3BE6F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8F86032-B30B-4AFE-9087-909966130103}"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CCD3FB27-1049-4D9E-99DD-0ACC31C4526D}"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E2AD9FD7-AB98-4172-BF1B-402894E2BC77}"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08B646C7-4CF2-4BAF-89B8-6AF1C50574B3}"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3EC88043-B1E2-4831-B725-87CBB58DB928}"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BB87C19A-8353-43A2-AB37-6DB54F150453}"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2999FFFB-603C-4110-ABA6-E994CD8585FC}"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CFDF148F-30E9-4594-9B47-F4A613EFE812}"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149CBC2F-FD70-4CA3-B10A-76905E803B82}"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D020E8D2-D71D-4106-AC6E-3F6FB0AE2BDB}"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2DD271EA-CEE8-4887-9B9F-CE51E5ECA91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3A4BF02-B200-4E3D-BF39-A11911A96827}"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256425D4-12F4-4BB7-BB0F-AFB77ABA2041}"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F3535634-B120-4856-AD6B-2A4873303A6C}"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4DF5C258-011D-4D69-9894-A48E0406FF63}"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1969071F-241D-4480-85C4-3D02F068505D}"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9340F1CD-B28C-4965-994C-486EC7D1EA0F}"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D50A3B5A-3DCA-4A6F-A910-1F72966F541D}"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0DCE7CB3-801C-4231-86A5-B9A17EE8C682}"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F849A0BF-D711-419E-96EF-B312956E3D7A}"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00FF91A2-8FF9-4081-9436-3CCEEDA5923F}"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DA549D53-2D12-4C3E-BABF-4F80EB93F00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A4C0289-4DF9-4C90-AB5F-07ABB679B77F}"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9C7E9856-A24D-4C36-A88F-29001002018C}"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FBF947A4-ED59-4061-AE27-4310FAB05085}"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A7733CBD-89B1-4F22-95E2-4A6ACC8ADAA0}"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D3D5F91A-2F43-462F-98D7-589FCEE98B8A}"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B1F277A2-8B0B-4E07-9C21-4E547EE3667D}"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3BF73975-7322-4ECC-B7CE-92AFC6EA6E6A}"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AD7814EB-3FCC-4A20-B1A0-6A616A76C656}"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2739107D-3058-4FC8-82D0-AC80603894F2}"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B58286D0-0692-4EB9-8A71-699091305E8F}"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E583671B-1F02-4FE5-8689-D3B8A0BA746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018EBB85-D87C-4938-AEFB-1B5E571C5E6F}"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DDF0921E-9EA5-4B88-8006-529DE5E5DC6B}"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53F5E2D0-8B6E-4810-8B55-348970CC460A}"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C0C486F7-947D-4117-BE60-E40BEBEB5269}"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64942720-CAD3-44AA-9A59-7DA7EC4F4C49}"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7FD89EA3-1413-43BD-9ECE-B2BFE95B8DE4}"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7F0D0D81-82CF-408E-AD9F-9837B267E5BF}"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B9740239-1E26-407F-B86C-E0E37DDCDB6F}"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9BA204ED-DB53-4239-9981-E86193D428D9}"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52004BB8-76F5-4A65-958A-943C97EB90C2}"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0A3C7E4F-1CC8-4211-985C-C6D2001808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8A6ED085-55D5-4E29-AA82-C6B3BE2C2D1A}"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6D461626-1811-479D-8C2E-1B4E0E66959A}"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E6E1E01C-AF24-4075-9A7F-D2D574727A07}"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DD6E8332-BCE6-461E-8975-DBC7CBADC8F0}"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AB77B7FE-5EAD-40C6-9A12-B83AEC038867}"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A7F24925-A3B0-4CEB-BC2F-4014241BAECF}"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724D07DA-C139-4A88-BBDE-433E9DC746B7}"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2D53662F-E5E3-467F-80F7-1E36ADA298FE}"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37EE62B7-E850-4603-9B63-077058764610}"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82AC7AD7-BD61-4D46-B318-07A0FF39E8DD}"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EFDE5C3E-E18E-4473-872A-E9EC474B838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4A5F236-19C1-470B-B404-BD4D06DBB3EB}"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EA05EFF6-D315-458D-8DDC-42DBF13073A0}"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30233481-2B81-46C5-9F34-30D34DA44775}"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60BDE277-4453-49A0-8315-2F621A5F610B}"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C1E0B832-587A-4486-AA21-C9AB8BB9B142}"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8C46912F-557C-41FA-9CD8-1977D8F86738}"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B4A5ACB5-5F2B-4C7D-A0EE-A0685ACEB18E}"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D7391533-BA3F-4B0D-9F8B-26D242C16E76}"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82F464DA-EDB0-444D-8309-01E3FC4E2904}"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BFA7C3BC-547D-48DA-AFC0-2266977577E8}"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8FDFD80A-A90D-4176-BD98-5E8193A3CF3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2FE0DAE-1938-46B0-9BDB-B4697DC96A40}"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1D2AB781-EA7B-4A7F-892E-EAB7F7A9934B}"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F238C763-0871-4C87-96FB-5F9DE306601A}"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753D9F98-2220-4856-B86C-62EF74F8D4AC}"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30E276E3-FA21-4871-9E25-EBDEAFE99F91}"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1CFDA463-B007-4F78-876E-52503C8536F2}"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7AF64929-56B4-49E5-95FB-65E9A7DD888B}"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638C3923-BFDB-4F7F-83A7-CB4BED6D6591}"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E072120D-9054-4B0B-873F-38C5AC70D2E4}"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98DB4814-C05A-47A2-AF70-BB317C677A12}"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1D92940A-0B8F-4375-A95C-B48A2E2B556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9C1E1FA-B270-4C9E-80C9-3504228D1286}"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52616B1D-7D78-407E-9BFB-CB4C9F028513}"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FA5470B5-D34E-45F2-A64F-A388A41656FE}"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F52291C0-D4C2-40DA-886B-814C286E1C39}"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6BDE181F-2072-4119-BA0C-58437325A9F8}"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795E6A7A-EA95-40A0-9964-DD6034089FE8}"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478F044B-DEAA-4E9D-A8E9-3E6AB216F46B}"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858440F3-6C64-4B09-AE1D-4706836E6069}"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7C6C61F5-DCF1-4103-AE3F-11E07F003B7F}"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36A52F89-0986-44EA-B4E1-BFC11C47E5F4}"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37F88DDF-6204-42CE-B394-ED8675C7C9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91A3C1-83AA-42A2-80FE-A2D3AE73CFF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7B130A0-4B24-4951-A9C3-6CE9D9A8FA6C}"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6CC9FF6B-4DA8-4103-92E7-F316E6092811}"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7EF5B222-FAC1-4CC4-B2A6-B05A432EBFEB}"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B3E42951-DFA0-4370-97D3-4FCC0D60282F}"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E6E8B70F-8327-42C4-A874-DE4DD92E54C7}"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9A1D6A0D-4DEC-47D6-8AD5-14C3F45A67E5}"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0D264B0A-9791-4DB3-A072-FCBACF370AE1}"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7D4EDFA2-7232-46FA-8291-32F9CC14C86F}"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D78F1660-FDCC-4D58-8979-5ADE941C70E7}"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BF94A408-6511-47EE-A03B-CFD02D1C9763}"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47A1CB61-A548-4523-9385-7D184315C7F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0F908FC2-7D39-45AF-B1BA-38A902535713}"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FB10AFF9-662B-4F40-B635-8E680B13B57D}"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4E16F013-3FAE-4E49-A5AD-6E53D4653468}"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84733A56-6444-4261-BDE5-49278D754CAD}"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12D256D8-4AA4-4EAC-AF26-45C7F3483C33}"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29147A93-9D3E-46ED-BD2D-60CF50C0C8A0}"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F602EB29-E39A-47E3-940F-3BAD2B8B7FE3}"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205BB142-B304-4A96-8D65-7D4F62BAD170}"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038C3849-170E-4AB7-ADD6-B437B146DEB8}"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2F9DD1BE-B9F3-4DAA-A9A2-7A385F70C5C2}"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2EBF1AF9-AD17-4914-85A4-871C7D50228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1118786-B925-4441-AE4B-FBA3189A627C}"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D4B3EB93-B090-43C9-8150-D4D1656F7034}"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18506A51-BD32-4CD2-B7AF-168FDE08FC3B}"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F70104DF-B5D3-4EA4-BC8F-D5D7A85F1A00}"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3869F6CB-6047-4679-9AFF-DA4F925D8F57}"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8E9F8A3D-F47C-4AF0-B802-400C1B333D90}"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D1DA9887-8CF5-4A9A-928F-2F4DB858ECD8}"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F728E83E-ACE0-4BBD-87C3-0D959ED0CBAC}"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6AB4A6ED-C448-4B8A-8C77-952A650665AB}"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2C953F29-DA86-4C8A-B9AE-2909563B864A}"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56D6C0E7-0654-49F4-B249-44FD31BB348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B22F9A9-A4BF-44D6-BA81-7D3A6C1AC4AD}"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E9367521-1C26-41CD-BC5C-CF502E6BAFFF}"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E359E7F7-DD0E-4210-A307-0396D5867033}"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673B148C-0D31-43AC-AE99-1A882080EF41}"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6B631E3C-87D9-4D76-8883-62AA8E6BA812}"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33DDE679-C851-40F0-AF5F-CCF6C7958B3B}"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F473A3AD-7B16-4284-ACCA-F93A712C4689}"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706C3F52-EA8F-4FF7-B35F-14DFB97DB39D}"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7B381E21-EB4E-416D-A1D3-3BDE5A522982}"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67D4485E-B60D-47BA-BDF8-C802D4F13BA3}"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FA97512C-9DE5-4921-83B4-C10E1424B59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4E7031B-A9A2-4E6E-8971-F3AE8C15BC45}"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48AB4191-CFB8-4D8B-8CCE-8BFA99F068E8}"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9B0DC95D-4785-4973-AA0D-0C51CB2F777C}"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FB8CC2A4-4807-4073-963D-6AB21A629573}"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66163965-E5F2-4EFB-8CC3-2A8C9BA1D58E}"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BD66178C-DAD3-46BC-856C-BC8B50204637}"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2C0FD027-909F-4955-97CB-EECA7241E94F}"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59EB7332-DE69-4C59-BF58-02B678516210}"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CC2C164A-8897-4ED8-ACA4-AF47CACF3DC3}"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E1E26312-0875-4D84-B654-6D96522CC5FF}"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99031F16-39B2-4A47-A203-15E2356B1A6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F3559CA-3395-4E0E-8AEE-96BC07640F45}"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7A35A5F1-225D-4D5E-84AA-3F310D66A7BC}"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0C5A5274-87BA-4671-9CE0-802BE67BD0DA}"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A9EDC925-C081-48D0-81F8-AB4853C77534}"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C2D21A71-F693-4925-B577-5DE30BF9A99E}"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556ED0D0-4D72-40D6-8537-9E7870198E1B}"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34122192-EE2C-4DBC-8955-A41D457B0F7A}"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16DC12AC-E836-4D0F-AD95-54B410DD795C}"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6203748D-3FA5-4E6F-9175-606361A16257}"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CF76FD99-7A0F-457B-AA37-7DED5D8E0373}"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2EA6896C-4947-410A-9B3D-C1307CE7795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D241AB9-6782-4192-8E73-1ED4DCD2F6CF}"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10F5CEAD-48BC-4DA3-A87F-F3FE0BD191BF}"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975438B2-8FDE-48CA-9196-59861CF8BA46}"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82332182-0D2C-4662-8A7F-F34833BFCD1C}"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7C7869E4-57CD-47EA-8168-623CF459BC0C}"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5DC3211B-4D00-4534-B137-F7D54F60B552}"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EDA0AF02-E439-44A6-ACF0-A0C22146F519}"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E723AFB2-F3ED-40FF-9226-8AD2B3B0EC6F}"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39672347-61D3-4989-817C-A8A5930F3C93}"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4169A13A-8B45-422C-9EE6-33B777701F50}"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3486A5CE-BAC9-4124-B176-D0F65F3D2B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7175756-8BAA-4F6C-8104-289D316638D3}"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0B37506A-4EE4-40ED-B057-34B3488CC9C4}"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CE1A4A2-E3BB-466A-B973-6BD0E98798ED}"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E055FB52-18C0-474F-B2F1-3E78FD69E20F}"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FDC9D196-DCF6-4F8D-BDDC-23DF8785BCEB}"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41B74CC5-46F4-4473-A10E-9C16329C20C8}"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BB85662D-7207-4E88-BA31-9BF6DE5FBC1D}"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9BF19AE2-5EC6-4B57-893B-D1A709C73B26}"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85012F71-ECCD-4E9F-8652-0EB7DBA953B2}"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08640D00-C4FB-4E5B-926A-A5E29A440395}"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D075DC89-4072-42ED-B4D0-D6946E29C4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2122A443-FEB5-48DF-A58F-C36BD7B90A52}"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090F8005-04B9-401A-AE2F-E249A6AC5E8C}"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3EA2B223-D9E9-4457-81F1-C283EDF0BCF3}"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114028DF-BC11-4EBE-AB99-A8D3E502E726}"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6CD105C3-0A65-407B-9FDE-3E8056C34F2F}"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52BAEEEE-9F6A-4415-A6E0-A139879B5F45}"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43A3197C-E0B4-475B-BA49-1A069C3D273D}"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85B7EEE8-7F35-4BB3-8BB5-CF54BB350A15}"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AF4800EB-9D8C-4E37-9EB4-829B8A7F2595}"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C5C2D9D1-C28B-4519-BEFB-9A2DED20D319}"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2D69212D-3845-494C-AC4A-FF649216D77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0A46867-B8AA-4BD8-B791-342F5F3D29CF}"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7D3CF7BC-A33D-4B08-9115-FAEC15E84165}"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17B2DDEE-D587-45FC-A4F3-C8DB3ED1A7D1}"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07DFE946-3FBB-4073-B92E-1E365EFABBD4}"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FB896408-894F-4D95-B2C9-9A2782D0A1F2}"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D78F9FA9-0873-466D-9778-FB5F785E138F}"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167A8367-C663-4822-AD74-571FB2F1C6C7}"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35E02399-7C1F-4FB8-9A37-F4F6B14C5EE0}"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3ADB5844-6C81-49A0-9071-90F7A36B8E11}"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30FC8679-783C-4348-A107-1831B53F2B34}"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CE172173-B95D-4E4E-8AB5-5D145A3A14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A65F8FE-1A6D-4C87-ADF7-028445031F7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82307EC-DF47-4DEB-9E60-9D3F11D1716F}"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59FD985F-A812-407A-8B4E-674E342F7386}"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39EA8605-8B27-45A6-85E2-D8222181FFF0}"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A6C98E75-DC78-4E32-89D7-A2D65E2F3E9D}"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623AA188-AF4E-46C0-BDAA-9F01F3DF9829}"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824ACDCA-9138-4771-8E32-D8EEC8DF0540}"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B61D7852-6428-4F60-8BE0-36892B266EC2}"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353248C7-1B24-4798-9E91-2A347A248157}"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9BAE6113-D325-4E1A-A1E2-7B7E785EFD1A}"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74A8B249-5AC3-42CC-B0D8-A3B1B36F9392}"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2505CBEE-19EA-421F-BE97-7AE5AABE172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B5E19DE-7FB4-41EB-8046-5267926B469B}"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5A2A1E9D-47E1-4614-81BE-F606256B3E34}"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C108B1D3-F282-4FEB-A256-8235E3FA4B42}"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C059B7AD-7C36-4DBD-B2E1-B13E2912F484}"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FED89D91-86D2-4280-AE62-A7AF551A6ACB}"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2FD6A41E-4F2E-4699-804A-7976362322CC}"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A399D270-07C5-4A68-AB64-9EC701057E05}"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735BD8B7-D6E1-462B-BCE8-A47E8474C942}"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EA9C6A6B-1F6F-4A76-A9A4-6BC9032C3FB4}"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0DC9A566-B507-44A9-B765-4E7DB0B42819}"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BA24086D-1E1B-484A-B08F-E1D319478AF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DBF7951-7294-4C54-B934-97EB44D94DEB}"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D6754F1A-BA17-4FD6-84A5-1364F7D81FA8}"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41A39CC3-6339-4FF0-8CA8-11F46BAEE0B8}"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D77ADB78-4BD9-4F41-AEA3-BD664A8FA4A2}"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7EB91692-4A2B-46D7-B1F1-5D18F89FC84A}"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421F1497-BF37-4FFD-970C-21AD38D358F5}"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BDA1D9F8-D9BD-40F2-B618-84D3AEF1A97C}"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09EBECF5-4EE6-41D7-BEB7-90A3BD4473F0}"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D067E3FD-2177-4DD1-B99C-C79DCC253FF1}"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F970BFCB-32F6-41C8-B905-743E2033566E}"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22547074-60FB-4237-99C8-74DE193B897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7F9F8297-CDC7-4FCF-8C5E-8AC26ACBBE17}"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70C6E53A-C503-43E4-8147-990BEED6E64F}"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10D478A3-892F-400A-8088-59DE1C08437C}"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882D85E0-EACD-4CB1-9203-F3D1777D3D8A}"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24291F4D-056F-440B-B1E4-A54F09C84496}"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684ECFE7-5922-4EFF-8E68-F62D8B91CC1C}"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0B88FCBB-4AF6-43CF-A1AF-79BB9B54BB69}"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2B444308-9FC4-41B2-87A5-27BE3D959667}"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FF136120-E1E7-4CD5-A9F8-30D8016DB5BB}"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2BC0529E-2B55-43B3-86FE-380F3B098D24}"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41DF6CC8-1877-46B0-ABED-AB0F632E78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8E1B25AE-2B65-4B23-AD2E-0D6863D29487}"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7A36B071-BD37-4049-BA7A-B420AEEAC2BE}"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A5525023-72F9-4F1A-8AD2-629259982A34}"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6B7F7CC0-55A0-4FC3-8B91-CF1C3C0757C1}"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48BBBC33-4185-46C8-8440-95F9406B07C0}"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0B8E64B5-69BE-4100-9D50-71C7790CE88A}"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E97E366E-53C4-483A-8656-1A01D03A9CDB}"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41DA4302-750E-44CF-9984-A4B780837A16}"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E9815DC5-C318-48B4-B80F-C7B72F01AF96}"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37E5A548-8C55-472D-9F59-EE4A994EA4EF}"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CB898BE9-17FE-4DEC-B8EC-03B3DEFD047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9869C11-D508-4FC6-97B1-81667A30582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3A5F1ED8-6A87-4F7F-866C-9CBB84B5B6E2}"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16E785DD-ACA1-423E-B08C-CB911CA60778}"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9080DAA6-47D2-4AE9-BA43-63373B6ADF1A}"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638AD1DE-3B31-4B1E-80B5-1BE12581079D}"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5D5FF23C-A2E7-4406-B4BB-A23414147784}"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6C78615C-7DE3-4B82-9415-2C06930911C1}"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6A6273E5-270E-4797-8A33-F2D5DBA1F6C5}"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D8326AD2-5627-42C5-B4BF-E159639FA071}"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69AF29F4-6594-4884-A0EB-F83A4A8C602D}"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7188B733-E659-4BB2-B281-836C86687FA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C25D336-849F-489E-AC50-368679A59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64E20646-7F5E-4A10-A30A-38B4059120E8}"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7E09D8C0-A33C-4233-BD96-E78B740020F1}"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C1B63824-12C1-498E-ABE9-41A0A30ED005}"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0CA0E8B8-AEB4-4005-BD1D-C3AD35FF17A9}"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D1AF34D7-EE25-4315-A11F-E70FC6C9322C}"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4C2BD862-85E6-4AE2-B9D1-C6A5D6D5BB87}"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CC68D173-5BB8-4F36-9865-9F1E479E118F}"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A3222FCE-0ABC-40DB-8AD3-52C76750CB80}"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49FFB58D-D4FD-4EDE-A246-4BC1BDE76C81}"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394C7F50-C695-4163-A1B3-2B82CDA4E8F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6BC0455-00DE-4219-88F9-600A1D4AF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63D5195F-3D87-433D-B103-F4297E34BD8B}"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4AF44307-DBBB-4C1F-9B4D-214CBBAEBA85}"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7555B537-6D31-4770-A542-F300D6331A3A}"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1353136E-6328-4623-800F-E430976D966B}"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8B8DDBA7-51CE-41B1-89CF-F435AA0126F6}"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555BA78C-E7EE-4713-ACA0-7BBA8EB5CB97}"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CD14D29E-9ECE-4D3B-95B1-70D6CB3FE1E1}"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2A948234-9EAB-495F-87BC-D210160C50EE}"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1B911AD1-8DCC-48EA-AACB-FE996C3193EC}"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30B098FD-57D8-40BD-937A-B912C8FE4B1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B2D29AB-FE53-4202-A45A-145C1107F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E53E49C6-2754-4A81-B024-2CFBCA24007F}"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BD949419-B769-4B23-A0B4-50B36D87308F}"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69D3041F-3E9C-4928-8C1C-F1022EAD2067}"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104EC0CC-0CDC-4C92-8F86-C8EF144FDE72}"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C8A8C278-EC4E-4CAE-98F4-9134889FF907}"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6D4873D1-88CD-4B20-8BA6-1EE7379734BB}"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5951A363-1C0F-4857-A9B5-86BEFDEDA64A}"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E96C06F5-86D9-4026-8711-3262D050CDFA}"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D647FC36-AD2B-48D7-B757-46B4D8582951}"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47E4EEE5-529A-4D36-8D6E-6D545F7E4C9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932AECDB-4808-4D2A-BA72-5A31FAC604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00D20A5E-2E56-4BE7-99F8-504F71553D08}"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CAB13397-3B3F-4885-A2B9-07170B17833E}"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4BB3AB3C-FDCC-4D03-8929-24FE795F2EE2}"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26F82178-A982-4B8F-AF52-920077DE208B}"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4606D5B3-0542-4FEB-B31F-57C9302EBDC9}"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BDD5986E-2728-4F3B-9B71-1438A077EA4C}"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C34FD078-CAE6-42C1-93C3-06B632B98995}"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DE3D0F03-60ED-49D0-A7AE-D77C2BA77DFB}"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F9F57B4B-82BC-4C2A-9B43-71CA479872AA}"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B9CC3C33-4DBA-486A-AEBB-20C661A09D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07E3E30-E586-4BA3-8DDE-8741FE08565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1E6DE1A-B552-46CD-8590-AAE6489D34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4F74E9ED-EADA-45CE-8E18-78D905238DBC}"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BD5FB33A-8CCA-4CE0-A697-0EE191914983}"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22B4F1AD-10D1-45F6-A48F-95CAE3B6B168}"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6FE7D573-E545-455B-8006-612D0F695C10}"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096A4733-3AF8-4527-9C65-362859248B73}"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49F530F6-5A01-4C53-909B-D3E3D6E02E76}"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1314456E-5FFC-43E4-B12C-7FDB49A1EB68}"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F770A171-B6DC-4DE1-8811-1FC54274D747}"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861C2648-F454-40DF-9C64-9EE890FFF29E}"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E86FF242-1C5B-4745-9A94-F58C0F96439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A86E433-9E9E-4A65-AA6E-BC28176EAC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12B62CF5-24D0-4F69-9ED4-AF00B7FF9BD5}"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953BE754-5D23-48CF-81A9-0F80EDF10945}"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D10F31AA-8897-4895-AC04-97FE79AB73D8}"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C0DE681E-809F-4BEF-8A6F-C6352CEDFE85}"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D884FD78-C8C5-437A-8767-EDE16C85FDD4}"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7F2D02F9-2CC2-4348-8398-504E39197371}"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928DFC7F-4ECB-4F83-BF6F-A1A83C637E1F}"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F7E265C3-729A-4B4B-928C-545D38A603F0}"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AD483590-A770-4EF3-BD94-8A03DF04D131}"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C828CAF0-C0DF-4D85-93FC-CE04DEC02FD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BAADE5F-0F06-470E-B3D3-D8AA2ABC6F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1E65E96E-F5C0-488A-AFD9-9B3F7B40DB2B}"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2EB04C86-2F56-4775-B1C1-ACBD38FA6402}"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5CFCC60E-B36D-413B-BA4D-BCA6D9EC83C4}"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021971EB-1BEB-44A1-A4B9-79C534017CDE}"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3072AA65-14B9-4B64-BC01-57EC3CD14369}"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8054450F-D709-42D4-B6C7-6D316AFE131B}"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28FADC53-BF4A-4AC0-A801-3562BAFD22CF}"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528AECD4-46A4-4FED-99CB-CAAA660A7155}"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BEA649FF-C4D6-4FB5-91EE-B30475042329}"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19EDF52F-8965-4E43-889D-42EE6ECC1A2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DE4296F-A0A7-4C62-9971-08D10259A6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132A9C60-0A6D-4495-ACE8-3F91728A62B1}"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18D1B3A0-7F50-48E8-9990-4D4D951CA749}"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F0775BF5-F9CA-4830-BDCC-652A323D2F15}"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7AC9B3B4-C309-4B82-AFB0-DE256226130B}"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AFF7C2F6-E4E3-4E1B-A499-2F88EA1F9D94}"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130480FD-8C55-481C-B053-9B64B6E54B79}"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CA6B033F-66BB-482A-8F8D-6886F50E34C8}"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CFBDCBE5-0C75-4A4E-81B5-698E17834F8D}"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98E4FB15-3638-4733-B1E2-C2ED640B75C2}"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40C99AE9-185E-485C-AC53-80CA6ED7453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97EE487-3D58-40D7-84CF-4A02F15855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27BBB049-CB8B-4ABB-AB7F-C6B3C77A2790}"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5A2217F9-46B5-4595-B925-FB4F61205316}"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BDEC1FC3-B0CD-47EA-BC8D-A1A23B6CCD3F}"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40F8A1D3-CFAF-4AE4-B131-35E8F94BB18F}"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184102A6-EB9C-468D-BC41-FCC4314EE4DC}"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26ADD0A5-9F79-45E7-8EB7-A6606D94593B}"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EA03F151-381C-4E10-8D22-7BF6D17C4259}"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3B013022-A5CE-48F5-92D5-C4969F6BDB17}"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BF7CC774-20B8-40D5-BDDA-CF61081BEEC1}"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8996AE0D-C640-4A5D-AA03-BF5C5AFD777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2EF4BBB-F7E5-4B2E-BB5C-5FC2F9BCF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3AA0885C-D05A-4B7E-AB57-AA025236E8AF}"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84D177E1-B6B7-4F91-9C81-A86A90097457}"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C0CB45BB-E69D-4549-9E56-3A1371234287}"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A6F211B7-AAE2-43F6-9194-0EF7A3996B54}"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A35FC743-6C3F-47D0-AF5C-022DBCEC42B7}"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CC04E4AB-F272-4509-9133-AF5E8C21B899}"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F857B2E4-F04D-4B81-9D4E-2B1AD75FC1B7}"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7B3B51F6-2A08-449B-BEA0-4ACBFF1ED442}"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C9540BFD-C24F-4F24-827C-27F46A84227A}"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0320ACAA-F114-4D27-A336-B21C3B33554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2C81BC9-793C-4BDE-8E7D-C9197F82F3F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BA36E88D-490E-4F2C-9E30-7DA961FC8BE1}"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378B02A8-58E3-4A7F-B289-F669C3585218}"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66329AAD-C7F9-4226-8FA9-DFF1441EC9D7}"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6817E95A-F209-4474-9AC9-0925B71909A4}"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17833CC2-3E62-4216-B3AE-828EDFF97A0C}"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E4C188F5-EDAD-4493-9A50-A136C7A9DA43}"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D672A0C6-672A-43A8-8184-C41DC76A6838}"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175D5626-1363-410B-8602-6953A84622D4}"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7272126B-857A-4D74-BEF9-31036A514F58}"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5FEDE256-9170-4DA5-81C1-96306754643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E80B628-41F6-42E6-A854-AAEBC6A3E6A5}"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A43EE98E-5190-4F18-83B5-89FECA18C946}"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C420C248-C659-4590-AEB2-84635EC27C42}"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DD9C5CCD-9E59-4F83-95EA-E57245D0627B}"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F5610191-E6C6-4149-BAE8-2F6A9116299B}"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1A9BE228-E646-4B55-A0DB-07589D53A3B2}"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A9790B4A-217E-4D0E-BE52-A5712E437DC3}"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13CA9BCE-64BB-4E8A-B8DB-925A58933351}"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76ED42DE-109A-4547-9F67-F500B2C13EDB}"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9B89140D-ADB5-4DF6-B40D-A954C4963587}"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AE1183A7-9BE8-4FDF-B6F2-FC5D13DDA5E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8232596E-5949-47CC-BDB2-3633852404C7}"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BA2556E6-EE42-4AC1-9137-862EA6592E9D}"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6A0B026A-FC3A-474D-8290-37EB3E6D9921}"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9D91BD00-F9FA-4146-8FFF-69FDC5AAFAA7}"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6DDD13FE-282D-4AF4-807B-3D5C06D4EF9B}"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4FD0068B-4981-47F8-B33E-DFF286D8AF4F}"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E8DB12F9-18A5-4528-8D57-229626292B61}"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7D8D061E-A7FB-4F0E-ACE8-63F8A2CE7409}"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9440EA84-C38C-45B6-B3FE-0FCE9C574850}"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66BE63AB-FF0A-4759-966B-0AB087B20A55}"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53D09E01-17AF-4B8A-B627-480019B6BA3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D8C454D6-9924-4CCB-BCC2-1AA1C07BCEB4}"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341FE507-2365-480C-8DED-4FF96A7C7E78}"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624BD048-72FA-4EDA-8A02-C2848D5B015C}"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3C7753F7-E762-4F8D-AF6D-3234DE5062A1}"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D1BDEA66-6C24-4439-8952-91D9E04BE14C}"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CB631BA9-4B43-4B24-8268-635C6AEADB01}"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489C72BD-361E-4DCD-A8BC-EF6A4DC697F0}"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D521DCC0-81DE-40EB-865E-D6EEB9F1D430}"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67855F84-033F-4D24-BC1A-A6CF81DA2071}"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257BAA27-0BCF-4350-84AA-E1DBD599660F}"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9861A80F-A144-40E3-AC4A-40D40F55B7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DFB9742-9D45-4EC3-B281-AF3E2B621BD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D69E7569-56E1-4527-9BD9-42BF446EDD3E}"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7F65FF4F-0241-4610-977C-73A51102A083}"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7A4707A9-4F20-4F4D-B803-64D24349EE17}"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1A2211B5-F83A-44BB-929E-434074627E7C}"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EDA34841-61E6-4161-846E-125C82E448EE}"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11C28FA8-F4FA-4022-8B85-84563AB0B089}"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E2CEFB04-6227-4CDE-8F13-C2A96782C4AD}"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F980E82A-A5FF-47D6-A664-45B574C3565F}"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31A7F1DE-0CDA-4B27-B04F-CD3877E539B1}"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BEB51A44-64A6-41AB-9EEF-177D0C7697C6}"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B6ADDFA0-F27D-49F1-8930-00536DA6861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56752DE3-59BD-4E58-ABE7-DEFAFAF110BC}"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097ED230-887B-4C13-BBB3-1C8096CF3D50}"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1344E8A7-3EFE-4E6C-89AD-DC3852145DB4}"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B6D74AF6-10DF-4A43-8910-4157970D77AF}"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F8514D67-7466-419E-9533-C67B3D587D24}"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7C331A7D-B295-4910-A04E-37386FBE6039}"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11938883-70DE-4504-84C9-950F5EAA9091}"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5EC00BDB-6044-46D7-884F-723A5787AA8B}"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E933F900-6C22-4F1A-AC9D-D981A2D7FF85}"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1AE87684-64C5-41EB-A328-6B11D5291C57}"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8CE5FA69-F90F-406C-89B9-FFCC654D60C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79ADCBDE-5D00-4C7B-B90C-BF022261FC4A}"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BFA2A94D-086E-4122-831A-89D642224422}"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73D2842D-E7AF-4CD9-9A91-9B71BB02ED98}"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9E1D96B7-8219-4C5C-878D-0C8E55B0724B}"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A55A7773-B8D2-431E-92DA-1ED5BF7F5EE7}"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AF85F1CB-A3C2-4228-9FB8-2745A3D01792}"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6B1D9E9D-7AF0-43F1-8547-94807862155C}"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FCEBD40B-FCAC-49BB-A141-0A1E4398B2DF}"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F3BA34F2-44FB-4C8B-85DA-A999EB4FC90B}"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C3F70F21-F3FA-4D07-AB38-D5493326D49E}"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5145525D-1382-44E6-A078-334013A8115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F34998B6-99DD-4A06-8108-F94268C82C3E}"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84B1530B-EF40-4222-BF4A-5A4879B30BF0}"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C82DE3BC-1FC1-4F05-AC47-86608DEBFACD}"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4E1E3BCF-4608-434A-AD7E-540CBD9DB098}"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9AC6702D-9FC0-44BA-8710-71A0F46E9F45}"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F58B4DCF-8C83-4348-9345-95812593B0BC}"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96BDD4D0-EE81-41D3-9E87-F56DF9EBDD01}"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854174A4-D0D8-4805-BBD8-6E89EF9BBFE9}"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2606A445-1EC2-4DAE-A0E2-3A36C42F1010}"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BB1080FF-B3FB-4258-A326-2D18126B71BD}"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85562866-833F-489D-B087-60D3EB5916C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ACD1C1C-8F3C-4289-937F-F654131A5E4B}"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01C2DEBA-9796-4838-913A-BFD70A214CFB}"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2DE6601C-DC83-449F-BF06-1AE832622866}"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EACEDE49-8E58-4A17-B09C-54173318ACD0}"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1B6094EF-D9AC-4B6A-8043-DD1764591C90}"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6CC2D92A-BBF1-4028-AD48-06F739C45D17}"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927CAD26-C225-4729-AAF2-2A5347273474}"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D01F2916-AD3C-4D95-9A76-A2A677D25C76}"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3200B447-C52E-4AAD-BC95-46B647FB6327}"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991DC4E4-A0A9-43E0-9730-8FB76CC77DED}"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0862F08D-41DB-4E42-A264-8AE9173D41E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1F7C6AB-5D3E-4BCB-8288-992842DA1789}"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3101EBE6-DAA2-4D83-82AF-3489AAF6CD11}"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5ED538E8-5CCB-48D1-ABA3-6F9471FC5BCA}"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E7E99099-F86A-4F99-AE7D-4C9FD1E045EC}"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C801CFC7-8973-419B-82C3-BA3047575B9A}"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BA662A26-1F8F-4441-AF80-CC74D729A829}"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E899CDDE-35E7-4797-8AA5-AB0F9BE18D55}"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9D5F71DC-6A46-4F93-8577-7F29A8B8BA28}"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BA73C170-9469-4EDF-A47C-29CD8D726AF5}"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E436D4B0-7241-4DD8-B562-CFDE62A47646}"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649FDCC7-2E6A-4983-8548-DA371DE61C1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0707F329-DB6C-48E6-8C9B-D9B5D2CFDFDD}"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3C4B20AE-D7BD-497D-B1CD-C4FECBAA1F8C}"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41A9AF6B-4155-47C0-BF24-7F8D36C37846}"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664247A0-196D-4027-AF18-40D4E7F3B68B}"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F3C56AE2-76FC-4644-8862-F9DFABBAB2BA}"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2802BB21-462D-42FC-849A-B5E2A3FFE3A2}"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87B3F152-CD69-488C-9A4D-C4955F21A143}"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FEFEA495-4A4F-4986-9FB9-4D704711B51A}"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2C41CEFD-38A1-4BD2-A454-2358C2C0E3DA}"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29E9E558-CFD1-401E-9E16-359A9FB62FA4}"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7D44CE05-7998-4C5C-B9BE-97432D540A0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804123B8-1FA5-42CA-A8C8-AFF10BA4386E}"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A98A484D-5EB2-4E1E-AFA5-3570DF433D17}"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24614609-2ED6-48C7-9A27-0052D25F8691}"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9166941B-EE34-45BE-8168-7FB76847177B}"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CC3F56CC-9AA6-4A50-AF1D-2175EF5E640E}"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E788CB47-035A-49E4-B796-E0D7DBDF0A78}"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3E19570C-6574-4B62-83A9-094DB15A07C3}"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12DF0481-F4FA-4D41-83CF-DB57748BBE76}"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4CA380C2-F060-41D6-8225-C3B56CDF8A3D}"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C6D43D7A-ED5C-4814-BF78-7547B08091D5}"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145A995B-9EB5-4BB8-A989-21D27AE3BAA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CDF23CD6-66BF-4FA4-813B-BBB3059E748C}"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C5026D20-EBFF-4424-AA1B-FF4520E292D0}"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B4F44DA1-2623-41DB-9446-DE6FF9634709}"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63ED4C3B-505E-45FB-B157-A51854BC601B}"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3046EA12-8719-48F0-9AF9-3D659BB24D33}"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D3FF3FE9-328B-4D04-B520-6FCCFFFF6A85}"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F5B07829-2379-43F2-AEC7-11B61D5DFE04}"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FA0EC77F-FC32-4D33-AE41-A9878AD3F0D9}"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8B135D05-6066-41BD-AFA2-81BB10150D5F}"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AF4638CC-8F89-446E-9B13-03CCF66A7E20}"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6BB956A3-89F0-455D-94C8-A3953BA62B6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029E735-7188-4D86-B532-3A3150096E75}"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6E6D1493-D08D-499E-BA68-F65759AE0505}"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88F9498C-72F5-44AE-842E-B923CF15426C}"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079BE86C-E7E5-429D-8564-BECCD989642E}"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EFBB795F-50DD-4E9F-9015-56FDC32CA909}"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C28C4D35-DC39-476D-A766-A6C340197DEE}"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915E7BA8-EBAC-430F-A8AB-AB1529D58008}"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90EDF3B7-98CB-4C1F-8471-5186CFF91AB2}"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77CC818A-C886-4E4E-8CF4-3FB860A8D323}"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7027A9C4-09C4-4642-A0F4-C56FDA1AC3BD}"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7E41ABC4-A92D-4295-992B-340EB51525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E08631D-F658-41CD-8B1C-9647D5F7D8F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5C8AA951-B5C3-46F6-A0C1-5E6EC2871370}"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DF227CB8-9CA3-42A5-BA55-E62886CA17B7}"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7094455D-44C7-44EF-BFC0-F11B4C1969F1}"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3FBD228F-48ED-48F0-9879-6CD15CE434D1}"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F18F681A-B42C-4A0E-B239-2DF506C2B3F5}"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B6F59750-FB0C-44C2-9EB2-4E2D5C51E99A}"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D9AD41DE-47E2-4F20-90DC-4256386BD18D}"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CC073456-5DC1-4999-8493-C85D9899E293}"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910C1173-6C87-4B1C-B7A8-4455B474451E}"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90266C16-8CAA-4A15-A23B-FB7A8F6EF019}"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E87FD57A-82C1-4223-83B7-A73EC703E5E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B48A402C-9C3E-4159-82ED-732AAD7EE617}"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121930AC-BA15-4220-AC2D-296E4466BFB4}"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12E7BB3C-1640-4431-B353-02512546B2BB}"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A37E8716-3C40-40D1-9A71-3A856FB17130}"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196FD5BB-C502-4BB5-B3FE-3F213677AFC2}"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33953982-2F67-4235-BC9B-7A6BB9D2E5D6}"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3C969684-AEF3-4C06-B6DA-B04E074B9AD0}"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49C0DEEE-5FD6-4DCD-AD79-5E2B03D89313}"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D5543AA6-38B2-4BF5-AF6D-060DC8B601E0}"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07C31728-86EE-4C37-B6F4-E0087E2A6B30}"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E10A2A9F-C8E2-4952-8398-39DD9964DEF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09FC2D98-0A4A-4A51-9EEB-B6C258109E45}"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45853686-F123-46DF-97F7-78DB88F2D9DA}"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15846E1F-D713-46A4-8C68-526BA55E1E93}"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B644CA67-8A40-4C2D-B143-FB23D3144FDE}"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9A64AF5-CF8F-4F94-9946-6704D5B3373F}"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51959CBE-7CEB-42BD-8A66-DD5C3B00ABFA}"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7180DB7F-826D-4D1E-8D17-A9E7A6249A96}"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49A8D7C9-3423-4900-87BF-EF5CF0B9038D}"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35E1D189-014A-45A6-B8FA-7A154E4F07F8}"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D396C7BE-FD7A-4E26-9DCF-BACD5A9E2F14}"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2BABF336-33C3-49E2-8A9F-2B2D4AA2805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08D31313-BAFE-464C-BC44-33A099C43785}"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C61AA76F-FA78-4314-B134-F77195457995}"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40ECCE06-BC44-4DB1-9599-4A6B76E69B7C}"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60899B74-6194-4C7A-B892-EF924C17A687}"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4D353379-7492-4B65-A6B3-28CA0BE8C803}"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1A1DE940-E22B-45D6-9B2C-D731C728CB5F}"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386BC5E-945F-4BF5-A7C1-4D610023AA8F}"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5E54F1AA-3A0B-4CE5-9289-A45936C94787}"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533D81B1-146D-4085-A192-A87D9E5E81AA}"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3861D9A3-70C7-49A8-8A34-AAF76752235E}"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7282919E-A478-4D6B-91CE-15AD343EE41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BAB3AD46-B67F-4537-9B8C-E98ABFD74102}"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F1D48B19-1516-42A5-932E-B7EB8C091542}"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FBAEEBDF-7C6E-4554-B5BD-6FDC6C901AF1}"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DC69C43B-3E4D-488D-8E97-E9748DEAC41D}"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D8840903-BCDB-4774-A6D2-13C5FFA384D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BB6DDDBB-AD99-461A-A2AF-2F0F1E496E9A}"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BFB0751C-A330-4D5C-A625-53A2CB0FC3EC}"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786D1629-58DB-4417-9F14-586DAF2C75EC}"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FED620F5-42D8-4CEB-A919-0D9676E7A67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251D25E0-D73A-43D0-A753-B8F9CE5805F8}"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0ACD059E-189F-4EF4-81B2-DF98F5E620B2}"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04AC78F7-4ADB-4FB7-A017-44D4219981FF}"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016527BA-37AD-41D8-9328-FF58FF432250}"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3401C809-7E83-46A5-BA2D-9AAC10E72C62}"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25634164-7399-4126-8509-FD05C0DDE661}"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DEA78CEC-C2CE-4265-A9CB-12E79E1DB628}"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F17581A5-6B2D-49B7-A590-95F2A104CB88}"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0714B469-5E22-4AF6-AB6B-49AD3DEECDB3}"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25FD3317-6E71-4C98-8041-10F4202FADFD}"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9A0B3AC5-9447-4C8B-AC6B-582278A08B01}"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D7DEF8F9-DCF8-44EA-BB7C-8584BEC4F515}"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CFBB062A-D442-4B98-80AD-2B8008A4B2C8}"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6362CC89-A252-4136-BAC6-673A79FC9BD3}"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8E121676-6BC0-4B94-8768-1D0E95FCC9F4}"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8FC2AC57-2445-4638-8971-16C0AC7EF03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396A7AA4-4E5B-47BE-BA9C-CA4605C801FB}"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4CEADFA6-CFC0-4288-92B3-49196DD64E93}"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A7FA5D0A-FDB7-4F1C-AB98-F02A343995D9}"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1C9ED5FE-894A-4553-9F21-B1A68B69EFDC}"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3497A0FB-5A3C-4956-A90C-214AF193198D}"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CAADE800-63B3-43C0-BD6E-23FC0BA61E0D}"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4FC33E4D-92AC-4D11-A85E-99C0F8FBA311}"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C06CB4CD-3159-4151-8FC5-1ED505531874}"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6FB00939-13AB-4C8C-82C5-154D2693AFE6}"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D7F2233A-E178-4A11-98EC-1E7C974C6E0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8E9B9977-08C8-42B1-8419-2B9577CC8E7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B82F5858-D99C-4ED8-AB7C-90E1F43E9F9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8ECFFA20-6E46-47EF-9B0A-F5C0E431F06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C7058A2F-D486-4BAB-A50D-EEBD39749D8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F4BA8208-9C91-49A0-A76D-45533F3CE96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A2D849DD-A5E6-432A-B5E5-28A93C2B52DF}"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9645E437-939B-4E22-A7F3-A3BE89F4B26C}"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CCBFF87F-6D2F-46DB-8BA5-3BFB58A803F3}"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E2CF2A7E-0DAA-4439-875A-2930C21EC195}"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5A77625C-CEF5-409D-A0A3-697A779241B5}"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7C73BC82-B51B-4CDE-8F40-B63A72B75678}"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3307B8C4-DE15-412D-959C-46819D767C69}"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59F2C552-846C-4D3A-BCCA-F5A929D9FB2E}"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8A35691E-3D9F-4103-A4AA-F8F2FFC37D5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227BDDB4-51A7-4D3B-BD36-87CBD03BA574}"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C88E1CD5-C29E-4947-AAE0-4F1DFF03C2BF}"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79B87908-BF37-414D-B83F-F67C967620EB}"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F8C6F1F2-2824-4FB4-80D2-D4229FE4DC86}"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142EE7D2-9F8C-445A-8930-9E21CBD083C4}"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C822547B-7A8E-41CE-B5F6-0B51C917028F}"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D6921600-D251-47CB-AA77-A37F4ED7DF05}"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5AF772CA-3E92-4C5C-98E7-8855DD5757C7}"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A4CFD44B-D841-4F6B-8C88-578BF153E007}"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232F9407-6AAC-4345-80A0-21CBE42BE233}"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1DED5388-28B0-4752-9A7D-90AFF7467973}"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28C335A1-F90F-4341-9B3B-F01616545A4C}"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FB14CC57-B8AC-42C1-A8E4-1FF8EB489CA2}"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A4E7ABA4-B358-4115-B5CD-8FD6D9748885}"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DC7A80E8-65DF-4B56-9E99-73A61757FFEE}"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A8298C6A-BD99-4E78-A2B3-7A9BD9A567A2}"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7ECED87E-21FB-4D4B-A2E0-4F1F2407A720}"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D070845-2100-46D1-B8A4-7CD85D5D8C3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0404606B-C7D3-4B57-81F9-ACBBB6D0313D}"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80646169-8E63-4E03-9B6D-BE919F124494}"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38A58EFB-958D-4F87-9929-501FA1439BDE}"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115A5425-583A-4AA4-A27E-02879F0448F9}"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5C0CBBDA-A0D2-4431-BC74-8A9E1E5286D2}"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EBD61792-B09B-4B18-A3F9-B35115A5ED5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7EA6232F-D75A-40D8-8AD6-4B9557FC99FF}"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A6AC8501-312A-4564-9243-2FD817D8E686}"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4276F7BC-B893-4A83-A5B7-5AF6ED90FFC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67680BCA-55ED-4F2F-9D01-3659B0205EB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C0F27D24-DC38-4A54-A1EB-F50A6CB3095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7CDCF6B-DA19-4228-AE33-4B5BA3A463B6}"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64648F93-17FC-43C7-94C5-A49E4FD62C76}"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BDBC7B44-DE6B-4532-8D4C-12E371A0EC21}"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CC75AF3A-46C2-499E-AC23-E56C5E546E00}"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00093B22-8EB9-4B4F-A518-703EE8E493C4}"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BBC219C0-CA24-45D1-A0A6-4B16185B2532}"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2F0DD0E4-01EB-43BA-9DD5-EAED21C9716A}"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9F2D7EFF-F1FE-4AE7-A0CC-70F535ABF43E}"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5D21AE7B-112E-4363-AEA4-5A244E4D7B6F}"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D7B6A0C1-4546-483C-A737-930343CD1798}"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DBB9403E-C7C6-46CA-AA9D-169353FD0E57}"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92EA52C3-57DA-406F-94A8-D0C1BCDCC038}"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17352BF2-D6E3-4E4B-8826-98718CAC6498}"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10B802B6-C113-4E72-ADFC-7358B671CB0F}"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458470F4-A45C-4A42-BF02-4166707CA5DC}"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74DD3C59-44CF-4953-A7B5-FE8D27051359}"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DF6F9FC7-7026-4AC1-A596-808E1C84D89B}"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331EA7E7-BC1D-4871-B900-28EABB504DAA}"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977D2A89-E5F8-442E-B33E-47DE405CAC0B}"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32069ED1-02ED-4FCF-83DF-FB6897973DBA}"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B1A87517-A5A3-4E49-A0EE-65CDBEEBA37C}"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BE2CCF45-B63F-4F6D-9FD3-6D97BEC6EFF0}"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710BC1A1-398B-43EF-8DC2-8195FB4C0577}"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96D3556F-24A4-4E7B-995C-8F3A5E76D2FB}"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4A9D80F7-D273-432B-9806-7175F8B1B1DA}"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212EF318-3FF0-4992-B1AD-0A9ECE8F51A8}"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46721D5F-9D59-447E-BFA7-59E4B403471C}"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3E3571D4-E6E4-4799-B75E-75AEEC540D1E}"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D1533430-8F00-4B3D-9B0F-DA2E97721DCF}"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F22D2BDD-47F1-489B-B888-FB0AE8E74F3C}"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445C8C00-3B47-491C-BDE9-04CCA253E979}"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B37225AC-08E1-4EB6-95C6-A18EB5ACEDF0}"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B2A44B0E-F635-48CB-BA1E-036B8BE8AC6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39D2918-D922-466B-AB89-DE56ABF69861}"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418B72B8-AA4A-49D8-90C6-40D89C94B06B}"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1957AB5A-22AA-4048-9EA7-AAA6C5BAE2CE}"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287FD5DE-7DDA-4A22-9010-3F97935F4EAE}"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8FCF38A4-B939-4279-9450-783C8C91E97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E0B135C3-10A0-4F11-AC05-638EB0641C8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3C308FC3-339B-442F-B208-A3D8BA974B2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035D02AB-B4A2-4743-8A4C-8F0797E3B48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A37F4D40-6D21-4E42-885D-D0234B53EF2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9BAD2781-60CC-4CF0-A210-C14D7FE685E5}"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98EEFE05-4FE5-4DB5-B406-21482FA8C97A}"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6431D2CF-764E-4C14-8C88-0FBC5FB342DB}"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12FD56C1-B972-4815-96A8-147FA3BEE059}"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89BFE605-D143-4F7A-9B64-E92898F7385A}"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1B7B0743-2A16-4FC5-A3AC-63C48C3B592F}"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9E2F2605-0383-402A-B687-0EBC203CACA9}"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353921F3-5480-4B2E-9158-076D7F88FDE0}"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E347330B-750E-4CCE-BBAF-3D579A90F3EB}"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DABFC460-76E2-46B0-827D-5807453BACA3}"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EAF29FFA-1B62-4195-978B-801D09427CDC}"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7E2D4B93-DBE1-4D9C-8778-E90F69E0FF03}"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AE5C8250-F825-4933-A1A1-464A431EAE5F}"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6076944B-FEC3-43E6-AA89-B5EB00F60A2D}"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96DADDC2-2D99-47B4-8F1E-6DADE2D6F969}"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6FB55B0F-3B26-42D1-BA49-FEFB53FC5A3A}"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08926117-8872-439F-BE69-76A7160E8249}"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409C54F5-720E-400B-A5DE-57CCB0E7C6E9}"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5952B2B5-E563-42D4-B8CA-3FBED57B1E79}"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2DB47B4F-2B2F-4A5C-9F1E-017E19C0DBAD}"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3B18353A-DF39-4744-ABBC-054D003A13E1}"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B2112065-BAD6-4FAA-9AF3-5B3A82BBBF1C}"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EADE520C-E12E-4535-A361-DBA40B2DD7A9}"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9BE17104-0B85-439C-BFC6-83744B80F607}"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309D1C7E-797D-4739-A487-41791D3C1714}"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13681FCA-87F0-4B62-992C-A739AD195DE6}"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EB79E6DE-CA93-4B06-AF46-93B563A8D68A}"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596453AB-1BE3-404F-8280-83DCEAFEF922}"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350C9BA3-597A-4DAD-859A-0843468295D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E2C6D8B-DC1E-40F5-B6E2-B68833970B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4A0C2AB-E763-46F4-9ADB-84844B7F76F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FBAC9E4-B186-40AE-94B7-F801054032A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A7F80F48-42B8-4F5C-B83A-2D4BD118238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42554903-EDEF-4846-8270-C472C875547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AC25D13-C7DD-4CCF-862C-BC953666F1A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41344E2A-836B-4A20-AE8D-99BD4A97B21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2DC1CE55-6C56-4620-A711-E83F89B07C6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03A9CE67-E067-44F6-9FFD-3798802F415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C9938DB9-834B-4A86-9BDF-025E5CB94E4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CE635B36-6462-43FD-A4E2-72C565C0294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1F83EC27-EFAB-45DF-A3F0-B9D0355C44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FD304EA-13A4-4581-805C-92F8B45487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4036867-7AE1-474A-810D-F6AD1B3675A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1BA681EA-FE63-4691-84E1-1E1FC3F5119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123256D5-513C-4965-B78F-4C048CCBFF2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B197D437-B5C5-4AA2-98D5-E458601DE75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2D36F62E-2DFB-4B74-B740-957EDB06CAB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4A0C0660-58CB-4461-B008-4C0A9822DDC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D819AF3-5A5D-4B82-989A-DD7BB8A16EA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0FEBE973-A1E4-4615-AC33-8BED9931C57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6BDAF827-A739-4FFD-A3A5-AA28BB3B927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EBB38B64-FD7E-4A01-9D92-5430C1D26A0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52870607-89DA-4220-BC89-1340779561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CA7E1D5-30CB-4F7B-BB69-514E4281922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1B8EF66D-8F72-430B-BB3D-F656B43F127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D43C581-8D28-403D-A165-DE18250DE76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609FDE61-EAF8-4AC4-B821-4F4B8046851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CAF6A5BD-316E-46E6-B5D4-431DBF1B4CC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BCFEB53-D3DE-4064-B2B3-F3864916493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B9EB8F44-90D2-4815-8097-64BAD1BEA8C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D55268B0-5EED-44C9-8CDD-A2111AB0BF7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2CB13E4-0933-487C-BA79-16E029189A4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2BAC9B8B-5009-48C3-8D23-874B96C2D52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877B3F5C-1676-400A-AD69-8EB62B9D38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47E3D0B-BAC2-40D8-A995-F35999C272C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75B126BA-E721-46B0-B648-11A987A8239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17042002-73FE-4E42-B4F9-CDFD87C84B6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280471D1-7891-4DA9-A659-EB56C16C402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409DEFEB-8FF8-41D4-B9BC-3CDB19BBBDA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B30B5E9E-7819-4AE1-BDD7-03F27F81EE7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1B720E0C-796A-48D0-A79F-477EA5947FE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5376406F-7F97-49F0-B151-83C8B1BD905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C692DA5A-C417-4FBA-BFAD-372204EC4C3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CCEFE36F-1DA3-4F76-8E14-4856B534CE6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72571F3-AB78-4192-A0A2-0FAFDF2B39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D0815D2-5994-432A-92A1-C14623377F8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0771A3B1-7CC6-450A-84A3-C2C131E11CA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0DAC8560-AC0C-468B-A547-82C44E0FF77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05F17321-D325-404A-AAC4-92458BEDDC6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65E3C98C-D017-4775-9EC8-F3F375C5FAB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0307DEA5-999B-4D29-983E-DE53211B396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1A6620C8-A162-494F-84B0-2F9A63C5DDF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DC7D26A9-9CA0-4CF9-B5C4-E314CC4E895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9893621-DAD7-4EE7-B3E1-B145FD0C745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893D153B-57D8-4853-A954-4C9E032DAE5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992C4262-9C9D-4292-BE09-DF003DE81E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DC94EC4-90C6-4A5C-B8B5-C8D4C01FE04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11876C0E-86C3-4ABF-97A5-4722536CD61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A4EDA2F-76E2-40ED-A5C6-DFFF2AA1104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DDA92ADD-D4E6-49D2-9F97-1658E57A7B3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6009F665-85FC-4E6F-847D-C081842CBFF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1B3BD2C-FF96-481D-B341-DF53F97FF60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349422F1-355A-4AC4-9780-98CB7885A0A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D3A386EB-A0DA-4499-BE4D-27ABC7008B4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21C59DBE-F39F-4A6F-A255-2EC4E3FBD54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18944735-CFC9-4C3B-B920-0624D1BB34E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FEC5F02D-5DA9-43BB-A81A-8EC1673830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4D82EB-4EC3-46CE-A96D-BA6A5CDB75B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212239F1-32B1-4B4E-B678-9561C36328F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4C4E3B5C-5841-4F47-B69C-25DF2976341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3E3B10B6-F5B7-4E0F-8509-E701E35A7EB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53BC9CD-C602-4C1D-8A99-1A2542F8E06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66E275B5-7A26-4709-B87D-00DFBBC8D7F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F0A0B9FA-6A31-43E8-A8DC-B9AA035FABC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36ACC49C-D289-480E-AEF2-E009E99EE15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60D12A79-3CB5-4713-9C0C-61D7039038D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BD5ECAE7-FE6A-4811-9193-B494AD798AC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6D95E639-FACA-4EC5-B234-70F7DE6DD1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C8CA7-BC6D-4100-9ACA-EB4D953D2FB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020AD953-EFAE-4271-B2AE-1FB239DD101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00242BD3-584E-42E8-A018-15AE780714A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3B7F6689-CA04-473D-87E1-B05123DD604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70AD911E-66EB-4BBD-AE09-9E3541D75F0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1C13B1EA-20AF-4110-90C4-0E4E1C93796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0964158-5E53-4B24-AA60-72BDEDEB845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4B96B0E7-0A61-4AB6-BDDF-9C894CC0AAD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7125AAE6-A691-40BA-B20D-6DF0D071BE0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F17518A6-6AAB-4396-8D85-954BF8947B1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AC5D04E5-4F87-4D4F-B858-18C4D9E94D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5A18E5-E143-4F40-B6F3-F44C4E9AE0A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77591414-FDF2-48D7-AAB8-BD252C3A058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9AB9601B-E762-4EBA-8FEC-3660B7D0AF1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8CA2B835-AD3C-4E4A-9FFE-F7848E60EB2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E9FE5A62-BE2A-447B-B8D9-E81817A8825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D8D622CA-D226-45D9-A6F7-2DE51E65D02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A0DEDAFD-98A0-4EE6-83D6-6E4B93AFE8E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5F409F37-0AFF-45E2-ADB5-E3C3AA89ADF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734799F-CF9D-40DF-971D-2C36873ED9B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A7E56798-C90B-468E-83B7-96D392B8479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089FFB20-EFA6-45AE-968C-C3C80341F6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E7169F5-A7F8-4EAB-B307-17B5A9D2078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752B350C-82FF-4A3E-ADBF-B7BF4D60E423}"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F34B32BC-F0A1-46A9-A5BD-EBB588D4E9C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75B92016-D24E-4762-9BAA-18D41D6404E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9130B988-D227-469B-8F0C-91D218E6AE2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77539F01-9465-442C-B792-873D15DF19D1}"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A277F6A4-E6FB-489B-ABC2-89AF23BB8B9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46D487C2-EB65-45CD-BD0C-46A268F0D8C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1C775D99-00D2-4E59-98AD-3643B4761EB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C339D6ED-9106-4ECA-987A-99849493A3B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0282415-720A-4705-A11F-299C578396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089E76-E96D-456F-AD5E-9B6BE4CA645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11A7304B-3963-4AD1-9560-8FE024ABC67F}"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3FB9740D-5C9D-4CF9-96E3-7D0799017F82}"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49803C6E-2050-430F-BD31-BC88327EE21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53E8CDA7-AC7D-417B-AEFD-AE55EEA0F13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D4D3B8EB-CB31-43BA-9417-00D16D46207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E833C1C4-1130-4D05-82F5-4117749432C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BC5A0688-F5C3-4377-8BC1-EE6388F88CBD}"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EE7B02BD-17D8-409B-92AF-011C5B83467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5A5706C7-BF68-446C-B621-B03E3338B55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736FDF3E-78B3-45B1-BB52-C69AB3F198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2E89DF2-DD8C-4F63-9A93-53E606D822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6036EDA-4AFA-456E-92C7-47A3DA1F047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CFB6BD47-4E27-4466-B58D-380B61F7061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BF87641-A03A-4D6D-A328-491BE6E48AA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B41A1445-3D69-4F02-926A-79D56A543772}"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12BA29CB-F4C9-460B-ADB9-369FD61861A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1658738A-8B04-4099-B552-E21FD6A1D1F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576EEFB0-2A77-4DB1-8583-681B602CAFA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F459CC34-7F03-4244-816B-86BEFABCF39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FC3A0AA3-113C-480D-92B3-7A02ED66F18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1B64EABE-738F-4BCF-BE25-3C9491D1D34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16D84922-8FA7-4B76-896A-D8D32BF5E9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66E4F04-D508-4809-8063-1ECE0A1B1601}"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0805A778-F5A0-476A-9508-0756B9F3B1E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78CE32F9-C5BF-4634-AD44-90F88916D40C}"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EC7053E5-C494-49B6-94C1-FD52921E9E6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32990E7-F86F-49EE-8343-00E017CB015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595E4B06-8EA1-46E1-934E-E1BC9B90BFB6}"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567DA575-0964-4DC7-AB6B-6A3D7B7F1D1F}"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9C6ACE63-28B7-4BE5-918E-A1F3644B0548}"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EC11C9F0-A8F6-43A5-9334-8811C931F1B3}"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A90150DB-DD53-4884-93E4-B0295BD37EE6}"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0B377F41-8573-4ECD-AECE-5774165E25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726A5E3-4E9B-4752-BC11-0EB1ED5A099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F3484FF-0264-41D8-BCD2-50D887BEB8C0}"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BAE04580-A184-4C8E-B93F-CC7D4DB28F41}"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E5090E01-E85A-4166-BFAC-A67DEE1B2BE1}"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A7C3F08E-FB0F-44A0-BA74-4438E0C7FEC4}"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E39A6586-490F-40BE-A4CB-0709765019DA}"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B675DCA-72C8-4389-85EC-0031996BC95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F66C9365-4BCE-4280-9BC4-B95445107A3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7D8F9792-5D2D-4441-A464-C5A1681C8D37}"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E5D1A36B-E29D-4B58-9DCA-689203C947B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42E01843-7E6F-4BA9-97FB-DCE08AAE9A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F382BB4-A5D6-42FE-A1C4-AB98F241548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5C14310A-1862-40A1-9392-7E42046E537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89E8053F-B7D0-4632-84F2-1EF1F635C38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6060DA60-52BF-46B2-9310-5C15584013C0}"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BA4FE2AF-C60C-4AEE-92A5-869499EC61BF}"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75FD79FC-7904-4CA1-823A-F49265881D1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1CFAFF44-2DA5-4BEB-8EB3-8C76D02E40B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389E2A51-1763-4E04-9A7A-A754C78239E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E53FCBE-46B2-46B8-BCEE-745511999228}"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1620C5CA-4191-48BB-ADAE-77B62E8FCA0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5B0A6E04-EB5B-4998-93C5-020D757F44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C8E76C3-719A-429D-8B8F-888F26AE8A1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344EA79B-FCBB-4B30-9AC2-C3E0E59C34C0}"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744CA310-BF37-4856-A672-FC6B6CB2F1C2}"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0EA9D43C-1CF3-4EB7-BDB8-510BC6690436}"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1462DA70-F22C-418E-84DC-35279406C348}"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59754445-7E6E-4475-A425-DC9D8989828B}"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4399609-A173-43D4-BFC9-862EBA7AFC0B}"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D0A0CF78-4DFF-4F14-A644-049F30ED88A8}"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73867CF9-A02C-4791-A580-09A1B818CFE3}"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A821755D-DC71-4787-9788-523EBBF11A3C}"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CF47A068-7A45-4BEF-94FB-F8B2F0F8B2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75B1402-2536-48EB-8825-A9A013762E78}"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B8239D94-29A8-4623-A66C-4F12A76B45F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D606089D-D524-4C97-B593-1C9047302CC7}"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249EAC58-C25C-4118-8101-F2E9718DD9E7}"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C82323FE-B373-423F-8AFF-7A43BA7814A3}"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3E36D1E8-B7C6-4108-9DEF-8FCA3EFEC71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450479DD-187E-4F21-B76A-EA9FAB725614}"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2EE0EDF1-3178-4DB3-A6AE-9E6B37AE5E9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4454928D-3E5C-4030-8F7D-4297E3C5364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587A829E-2159-4477-8BC8-463153970FA2}"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D3CA0D43-7E95-49CC-9D03-4A5B86B9CC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F41DE4A6-C05B-4D8B-B657-7275FE0002F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26085E2D-962F-4CF2-99F4-D150E9D2E0FE}"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FA7A72E1-E700-4116-8ACF-82DEFC1951D6}"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9FC14204-C141-44F8-9295-8E815D0A0B18}"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D624B7B8-A702-41F1-9304-75261EB045FD}"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70B5FCCD-D59C-4161-9136-AC26BE0E9AF4}"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D9A9F86E-6624-4736-AC73-0629D25AA0D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D08282BC-E513-4997-BC0E-AED6A21DCBC0}"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30498F6E-0B96-43B8-8A61-A13C33319F5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3BF76062-C4AE-4D34-B62E-023CD81B0C7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63BBA878-620F-49D1-8E84-865E95810C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C8AD5B-CC5F-4542-BDD7-E717D033B5B4}"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0F8DF699-2BFB-4832-AF4F-7932B7CA905F}"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278F9DA4-39D3-4FAD-95CB-610EFF54472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C429FA97-5D18-4CD0-BCAE-FB991F1A0F19}"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0C4FB8E4-83DC-4D15-B06B-AE6F86896221}"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690B8554-085E-4DB4-A302-275ABBB395BF}"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0966B50E-69BB-4D28-A517-983FC0A18A7F}"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86516594-6375-4EA5-9058-B209C3D5C08E}"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3DB07C8A-C678-4257-84C9-0DD72A34509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72DE2860-A9E2-45BD-9621-0F27FC6DFE2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9894E0F-D075-4E59-8913-666BAAB36A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1D8FD95-8C00-44BD-B313-22CFE3C73F2C}"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27D6EB3F-5FBD-46EB-A662-C53B043AE0BC}"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F7AEDB33-B823-4208-97F2-04F5C9FCE498}"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601BA4E0-0672-4F59-9545-07CE4DA98FE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31884358-A39A-48A2-90AC-C470F043786F}"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C4A4A349-29D2-4C1E-8C34-AEF87159FBC3}"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74A5FD6-A080-41DB-AE24-E92599680157}"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A2DB9D66-488F-468E-B63F-07CC614FF42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85338232-55CB-4800-A33B-623E123D082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309ADF50-094C-48CF-B3A9-F00EB66AD1C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5E065519-25DE-4F3F-9CCE-09B3C0240C2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CD1040C-6A9D-44EC-A489-A03DEBEA71AD}"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3AEDA73F-265C-4515-8119-77B0666020E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BE847CB1-7A68-4B5E-884D-716185CED84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CBAAA011-C664-4099-A4FC-7AE0B8A4445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715F1660-F8C9-45BA-A55E-D5679141C268}"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17F675DD-DF02-4455-B5F6-87BCB218CBF0}"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D2D51A75-09C6-46D4-BE57-FA8A86E523E5}"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3EEC5979-BBFE-4A09-80C1-26E6ED75DD9E}"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3773BC33-BBF7-41AF-9884-A997F7C791E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B8D17ABA-BF00-4A73-B2B2-C530AE3A4EA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723C821E-9948-45D9-8444-86D474D66A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C02C2E7-15EA-47A4-BE83-D5399FCBF6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70113C8-72AE-4144-A61D-27276D2FD48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23AAC0C3-98EC-4D5E-A883-1F3CAC62085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ABDB106E-D25C-43A4-97CB-FCE2DCB0199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9C800AEE-D813-47D1-BAD0-594D200C6F17}"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6B27E24F-49D8-4534-BD93-D7BEC01DAC2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17BEE5C0-DE27-4C0F-A151-1FC6715C9EA3}"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EEF0FAA1-9B17-4E47-81C5-219C2E78AB1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C4D6E1F9-AB78-4D04-AF62-7FCB7A284DE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9256547D-0ABC-4F82-B3EA-BD595C4B6AD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C840A63A-CCEC-4250-BE50-F69959F581C3}"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A329DB3F-35E2-46A0-85C8-C0410294B42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DAC6957A-4F51-4E67-B6B6-3B12FBD91DD8}"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66DFC2BC-1813-47EB-BB11-65BC966D509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48C00D83-57E8-4F63-9AD9-6448284C4A6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C59E883D-5A44-41BA-88E4-E588DE77BB85}"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632152E9-C6C9-4559-AC97-C07CA580330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1DFB4AFE-B66C-46A8-B443-E7559D6856B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63CAB63A-6EDD-453B-AC9D-A34EDCAFE216}"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1708F1B0-3B1E-411B-8198-5133A766BA5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9FED9FA2-6741-4D5E-825C-BE9C3D5A4FA1}"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802309FA-525A-4058-8956-DF61A8B212F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222ED3EC-9380-43EC-BB7C-5D12A646B8B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0F945D2-4D61-49D4-8BB2-4F95F7A83B5A}"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314A4C44-FA60-440D-900D-41AF1BE4F56A}"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BC0268AA-B3B9-42DB-B449-09BD650EA7BF}"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B29A1A78-7A91-41C6-B019-DD0C28319DA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B8E9A2B0-57C6-47E7-852C-9D701416523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631233EA-8185-4177-97C1-24B7F91EDB1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A7EBC11A-3F79-4856-9996-D3713DC6F4B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B419AC0C-BDDD-46E6-97A0-2481997E833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BA737973-035D-480C-A48B-96DCD3A7CB92}"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FAD514C3-E87B-4C20-8D9F-815E7AD1DEEE}"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6201F3AD-6CE1-4281-9BDD-6CB6F82C12F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8850F31-E81C-43AB-B702-86789AD02F01}"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F83382B1-124E-42A5-8E22-2868D15A2C68}"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904376FC-8504-4CAA-B2EA-30A268330D1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0FBEE3A5-4A4D-4363-951E-135D458CDFF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D870D8B4-57A8-4B8A-B13E-7892591DA0D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28BB0C8-9783-4DF6-AE71-45FC0CA7D0D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B26C1D1-2835-436F-A9BF-814ED650245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638DF6F-4DFC-417C-A1CD-9E039282CE2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22706816-A846-41E2-B1DB-4A1A220BD74A}"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F458A6D2-4977-48DB-9A5C-903F7E212FA0}"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066A967-CE38-42A0-BA76-AA348C9795F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B9E568D-D9DB-4C39-8EBC-B337E932013D}"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8B7E3D3-5B72-47C6-ACC5-B5CCBBE5A2FE}"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7A615BB-59CF-44F7-82A9-91AA4529E35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3A1634D-CEBF-40B2-9D78-0D79C42FE92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E450D40C-05A6-4465-82D0-E11F587C62F0}"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8D71A86D-621B-4D9D-B974-91F863F7FB9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B28186A8-6CFF-4DF4-AE24-E165D51A6B28}"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8923C196-D860-4B2E-9A9C-0144D1142924}"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BB2E75C3-688C-4A65-9C37-491D378C6591}"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A4AB2D21-CCBD-43C3-8034-10F3FB54974E}"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C40393F2-412A-442E-B436-35E4197B7D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B48C449-A364-4E63-8200-7D8C1B247795}"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392561E2-7E3E-4CF4-A845-C6F5EF0FD146}"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FE22546F-962F-484F-A700-351DD7EBCA2A}"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21F54D97-5968-48E1-90BA-D41AE398121F}"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778D1456-1666-46DB-8336-336E8B283E5F}"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7C61DCD1-BEC5-40B4-86C7-DFCC5FC62588}"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B2E608AF-84A2-4A06-A750-999964FF1968}"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A01CABF8-F782-4407-AB80-8D0737720B3A}"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3C217C1E-0D8C-41AE-9F50-5C3ACE90A17C}"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0C417104-D8C9-4395-9111-07C605286F46}"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0CDA156F-ABF5-46C5-AC15-9D0BDEF7AA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43EF944-E369-4928-9F0C-1B63BF79E29C}"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4B04CC5E-F8D9-4324-9225-F1B93460E5DA}"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2D3BE418-3E4E-4A26-A071-BDBBC269EF2B}"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ABF09050-5394-4A65-AB40-B1575086FAD1}"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DABB2D0B-3C0D-45A6-BCB1-A99EBD45F4E3}"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FF8AB3C8-1659-4854-8B48-4B92CCF3C021}"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6DF52421-077B-4BC6-935D-DC42DEEDB021}"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D169FDB3-95DB-4BCD-A653-7BB864E2C043}"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391EBC1E-5809-4932-B8FA-22DE6AC9C55A}"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8C4B475A-6927-41A2-AACD-E8FD9FEF3422}"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B673E3CF-E40C-4A0B-8596-27C8A48134A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73A49AE-E928-4646-804D-8214C7047C80}"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1F1CE12A-01F8-4B88-92A9-21461D607503}"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D81C9AD8-E280-4A3C-981F-CB3F13787D2E}"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3BC0BBBD-A326-4FFE-BE3E-566F099E7479}"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0166BBEC-E40E-4343-9BF1-82F498568864}"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D6044ACD-DA43-40B3-B9A9-151F9DD74365}"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49EDB9F6-2D7C-42BD-B902-1062524C3FA1}"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A17318F-79EE-48EE-BB6B-39F6706A10F8}"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BB411258-8A0F-403D-8977-CE6C8F7568C5}"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E788C814-3D3F-4A41-BC03-B0F221BE08C8}"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FB9B6420-6B50-4A04-8B8F-C88F07E0DB5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F2F4D9D-41F0-4A6C-904D-25E9C0CDBBA2}"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2F81FDD4-6B47-41B2-BAA6-0893090857E6}"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51EDFA0-2349-4744-A3FA-FD938B95C505}"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6682B934-4F3B-4B35-925C-A2E4E460B4F8}"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4B40EA99-F18F-4D11-94B8-4331548815C6}"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FB042418-A7D7-4C3F-AB98-7BF9B6CEF1F5}"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92775A43-CAE7-43EA-BC4F-6D1EF9B9AF37}"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274C036A-616B-457C-A117-8885A8621049}"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8A0B95C6-543D-41B1-A88B-B4DDB63ACD9A}"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6F8E27E-C1F4-474A-869F-57CC39026572}"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1FF7139E-40BB-4D61-8BBF-B1979A016E0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7F4184-999D-4AFC-81C8-D11A556CB4BA}"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422DEFE4-A479-4FE3-99D9-4C7813036D7B}"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B7A3175E-E4AE-46E1-9C6C-02C97E51C7C7}"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83FA4477-3EF9-445B-A684-3319713C0154}"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7BF18333-C718-4F79-A87E-80297FED1D81}"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E4743EBC-B273-4AC1-8492-1C104855AC08}"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6D6E2911-7B00-4737-B005-E3C761DA79CA}"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11BA9599-6310-4C66-9025-32663859EEF8}"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FD374DAD-9C08-403C-8D09-269E0B983DAB}"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0FA0E44D-8580-43AB-8B9D-D42581808959}"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4D454B86-7A38-4E97-9091-CD88CF0594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F28710A-AEEA-4B32-B4CE-2B8CC95F5BB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32BA459-3AF8-4E93-959F-3C7A0AB78820}"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FA50A14-A5F6-4A07-8832-2CDBA87C0B7D}"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B936BBD-455E-4CB4-A807-0924CAD84F11}"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48012D61-1571-405F-8C31-12B304A603C3}"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1927DC76-6B1C-4A9F-B489-5D5691A5F5EA}"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5EFE0CC9-0049-4B59-AB44-735A8FA4BBD2}"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6B519D29-8737-4907-8099-CF873FCF1210}"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EEAAF252-D20B-4ADA-8F8E-FF766E0916F8}"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EAF3380C-49BC-46B0-B343-3F01D39CFA15}"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A6833F6D-6FF6-4B0C-9734-5FF9FF813D8D}"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72DF3D16-D493-4182-A724-24EE54F4ED8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838B783-E3A4-41D2-8362-6DCBB6E45D55}"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BDCC376A-3FCD-41B4-A570-B288007CD207}"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90674CB6-E51D-47EE-BCF9-7A2F9C2C9765}"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F4AF0EE8-2539-48CB-BE00-061740BAC60F}"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869F6031-82BD-401A-B736-14278E8A87D0}"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EBC691AB-29A3-47FD-8EF9-138E54A4B279}"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E94A805F-0B7D-40E6-A573-8B6A75D7CA77}"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A4421B62-3729-4A2B-AAC6-E0449A45882B}"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3CC91DDC-C602-480C-9012-1D57A9E95EE5}"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AA69A291-B6E4-4209-BE3E-7B038C640428}"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85FDFFFC-24D2-47E3-AEAC-CD502577931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E8268B8-FF12-43C5-8E45-0F73208B2F87}"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C10A447F-1D98-4A36-90AA-A4958BAF0563}"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6878B035-02FD-4DBE-86AC-D45D83BA8CE0}"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89BF3942-7ED6-499D-9F8C-CD32E6DB7F1D}"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6A2D37A9-AE1A-43D7-AD3C-E388DE741D3B}"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EE2F5C8E-91FA-4A73-97AA-BD58556C3ED6}"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A24279E2-D269-4421-B541-EE2CA88D3D98}"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83364DAF-5C5D-4F71-B919-8AA9899C34B8}"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8199E282-D2C7-4459-A7BC-52C72946EC21}"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B2F17DE9-1CC1-4FE2-BF7B-54971FE5A42B}"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CB6E141E-91F4-4DFF-B5F9-B5FAD6417FB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10DF3BF-DFB2-41FE-A9F6-AD84E62B5629}"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89FC2B36-CC5F-4E2E-8604-670BF1761E0F}"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3B93F6F1-96D9-4580-8C56-4D8044666F1C}"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42EB9760-17A0-4158-9190-7EBF36952D90}"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286648E4-45B6-4EB9-BDEF-64A9A012C072}"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29854135-F19F-46E3-929C-B384D227C137}"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3B08ECB0-9F77-4ED4-B58C-0F9DC7BC4BAB}"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99F0B006-4F07-4EDB-B89B-DFCD15F23188}"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EAB316E2-C3F9-4D7E-A66C-5FD49AE33D84}"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E62AA35C-D16F-4B30-9CFB-C084D81237B0}"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ACDB75FC-FC07-47F5-8CD0-C339B4AA09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501C8B2-8072-4EBE-BFEE-AC2D43ECCDA4}"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45C60D50-E478-4E41-85F3-9EAA8995B9C9}"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8D225A77-6114-42B9-AD31-D2171E08FEE9}"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CEAE2519-ED50-4F38-9444-47D3CA937E1E}"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C89D6BAC-5DA0-43AC-ACD0-10E5ED069EA5}"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7B8B55D4-6EDB-4D43-85CC-2397E49A9085}"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C3B6ACB8-7E09-411B-8055-F5351CAE9265}"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909A9C89-9440-424A-BFD1-AB24287EE37E}"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2773827B-5787-4013-B3BB-2C4D3E4A037B}"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F50BF811-FDF4-478B-90F7-86AEFF810D08}"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36D92170-E465-4825-BA20-BE8B3351FBC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2D6A1FB-BD1B-477F-A9CB-6AB547351D8B}"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9905B93A-BA22-41E7-8C13-C2D3B5AEE47E}"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15F9445B-074E-4C1C-916D-0F357C339D8E}"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36B0BFE3-1569-4A43-88EF-3CB4E5856AFE}"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7584C206-851E-4772-999A-BF5E5CB15045}"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E73B6722-219D-449C-AD45-4389BE69C379}"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4712E06B-EA9D-4018-BA2C-D8187A86CB97}"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C781CBA4-46FD-4F1B-9E2B-2CEDEEB1B30D}"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2AA97612-AC4A-4AB1-82E4-EB9B138825CD}"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49F6505F-F1A1-4371-B8FA-C593813A22B4}"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B17513ED-9E90-4463-98FA-4743E119FA6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7A593A0-14D7-454D-B50D-A1FBC8DDEAA7}"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F5B0FD54-0CA6-40FB-87F7-ADA5BA4302C8}"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921BE0F6-6196-4639-8DF0-77A19A8182D9}"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768D8D73-3F32-436E-8B44-0988E11860BE}"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D36CB41F-472C-472E-B9E2-96E6E04E5214}"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4C1E99C6-9115-4D2B-9186-2AB3F6067A26}"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B0E2212F-E8E5-4B79-A508-B53AA9843F1C}"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497D4634-017B-4277-B189-BC80BB85E546}"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20FDDE78-E446-423C-B229-A2649C128AD1}"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7BA89F87-9E56-4632-8A5E-356C5AD2D0C2}"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7C6CAC05-4789-49A6-A576-B66B46697BA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C6C7FE3-FCC4-4320-AF61-A831BB45835E}"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D233EC4C-A401-4ED3-BD34-07D95BDFEFAE}"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39D20EBA-D9A4-42E7-92DD-70E74225A6BF}"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F9E77503-A850-4260-B0B8-88FFEFF53EB3}"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22564E6C-F197-4BA7-917E-45E33444BD42}"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12FD9FC8-B31F-40BB-B527-982A038A5678}"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51981B3F-C0D0-48F3-8C6F-8F0E89DE14D7}"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9224CEAC-9073-48E3-A393-9A1F74C84B38}"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8D56CE1E-CD04-4C17-9593-C64A3F0FDF63}"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6B886C79-90FB-4437-BD3F-BF79D55FC8AE}"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91CF9D9C-BB03-4961-B7F8-E38CD21D181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2EB71F4-3C87-434E-A303-9C66AD556A0A}"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721CB84F-711F-42D0-94B1-CF29C81E1E50}"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7324E563-8538-4580-913E-6C275F0D4D92}"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D2ED1D84-BA6A-424D-9F1C-093C768A8071}"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EB2AA53B-C81A-4FBC-8F86-D45A1B333092}"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C1346BB-4CEB-4EE6-AE87-6E0369BD0797}"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BFB6A9AD-E391-4E97-92C8-BC3AD01B98A6}"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8691FF94-69B7-4BEA-9405-9B08086AC0F7}"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816F1531-1678-4A91-9A49-CB66544E875E}"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C04A055A-0FF3-40A4-82C3-846BA5EA88EF}"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3D971675-DA0D-4C89-96A1-CFF46EF312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9325F6D8-D181-444E-84D5-446F5B4F3926}"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5B644EDC-0E55-4626-9E86-CEB4044238AA}"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571BCAC3-95EF-427D-BCB5-1D9FF2974587}"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0284FE40-307F-4730-8E02-D719C67ADF5D}"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0C948A80-3516-4076-AC4E-1DDD6FD656E6}"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540FC4AA-E877-4BE4-9C8C-CB9D15B4CEB9}"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0143CFE8-BF4D-49A3-868F-E776FD86044F}"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B88BB690-8E5C-4C9C-8DEC-72C18CA631A9}"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D281BE38-15AE-42EB-A370-DEA7E00D13B3}"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09CE25FD-86EA-47AA-8E1A-CA98C352FBAD}"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A4530E49-434D-4199-A45F-37902E3B3F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5183ABC-EA7D-4249-BF57-F7F483DA3BA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F23FBC5-B714-4F32-9B61-4B66C7A53D38}"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04090F7B-916F-4282-B86A-04B8FAA35790}"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057AFF53-3187-49DF-8AE6-3B5BA9F568F6}"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84BC8443-EAD6-42E2-B14E-5FE5F4E15ABB}"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8D689FFD-20FE-49D8-8386-8A1FF8995E3D}"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37AB4AB7-FA06-4D89-AD90-2D31850A326E}"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E72211F1-7D7F-432B-B0CD-813B8B3B93B5}"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13987A54-3172-48D1-AF1C-FA2BFCFA1EBC}"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60964FF7-0B73-4AD9-81E0-DB0B80E8B20C}"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F5D13A5B-E90D-4199-AF11-09CBA2B04C46}"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36255EFF-713E-4B41-9434-C4384441EDE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FC35EE4-EB04-4FB0-9F64-E1D114D74F46}"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7486DA96-A6C5-4C2D-8797-C582B11FADBE}"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16A2D427-64E7-4ADB-89C0-C6F41EA8574E}"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5C9FF1F4-74D6-4C1C-BC17-A67C564B498C}"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C421B07E-0BDC-4DCC-BFF4-2D52267D5B7E}"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F6A4D05D-04F2-42CF-ABE8-928BEDF23CB4}"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070B5D65-2E53-4313-80DB-C99A9D455355}"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54A8D17A-9546-4E74-AA54-819A6107437B}"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339B4329-2BC9-40AF-8E0C-E87FFC863B20}"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7570AC74-5846-41CF-8D13-C88BB41FDAF8}"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16CD0D70-3536-4E91-ADEF-1C0C9C3EC9C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2FA22FC-7D77-4BFF-B555-A6342299F1FC}"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266BBA7D-BFC5-4DB1-A83E-F21428F20EE8}"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66A5F18-BC34-4A83-92EA-98FD505A46ED}"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1B4FBD60-AE2C-4223-9690-CE60B630B7B5}"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DC104D17-E308-4BAC-A5E6-635C02E2BFEA}"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A0F8E023-E946-454C-84A3-C0A89F33927A}"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43A2E04C-AD4E-46AF-A1D2-315683EAE2DD}"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5F62794C-B2D2-494A-A21B-B9BE602D6868}"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F9391E5B-0D8B-4CAE-8284-0C0701B1F321}"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63DC150-41EC-40CC-9C19-3E41028E2E7C}"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6986609A-8250-4005-83E3-B14138DC9A0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E355174-F406-4FF8-B724-95A77DC8AB10}"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B15AD154-BD7F-45DF-A3AC-032E4C32CB2A}"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64F3756D-BAD6-466A-B9F8-86C96027D82B}"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C01CD72B-CA9A-4E6D-A900-FF11173E4C2B}"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EA56C2C-EC50-4122-8D4A-835EF229CE71}"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AF3871F5-F1C1-4C21-8A14-E675B8C337FD}"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C1B4F23F-63FC-4C00-891C-887F2A8B6758}"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1C5BA31E-0EE5-45CF-BBC6-953023DAD864}"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D62FEE57-986D-4978-86CA-2335DF866966}"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AE16BD5B-6BC0-4454-B1A5-478E2FA3C762}"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8CA47E9F-CBF6-4FFB-B60A-B7E30A9A135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B846AC4-B448-4E08-A926-615D615E2E8A}"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D7311D2A-FFD2-4705-963C-CAB56AF9BBDA}"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F3C29C32-DE6D-46FF-91C5-F1769CC42704}"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CFE9BACD-73D9-4B0D-94A5-325627B4D686}"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97F5ED64-8E05-4613-86E3-FC762133886C}"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0D6D3C27-08C8-458E-86FE-23DD9343F7BC}"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CEB6734C-9E0F-4C37-9482-FE7E8FCFE84C}"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2EA183F7-D236-4FBF-8B28-802BA3F4C740}"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45F09C89-23DE-4B05-82C1-70E4B0B12B60}"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302C489D-D450-4CD5-BFC5-B20C4734E133}"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6A03BAC7-4975-4C35-B354-200CAC2C0EE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23718A61-2D08-442F-9B6B-C1DA34CAED6C}"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3FCD84FB-780B-4D83-B140-83AAE5FB9730}"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FAE568C9-FF0B-4000-9C76-20CA6DADBCA0}"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2DD6358E-D52F-44FA-9847-23CF4209EF29}"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79B1BA37-DDE9-4DC3-B487-0ED92D96E405}"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1D1D02F9-0F8D-409D-968C-8336284FBC68}"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0833A1ED-3203-4BBB-8C13-28C48FD48E38}"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E1490943-D583-460F-80C2-B27535B8EED2}"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9F7A4A3-1175-417A-AFE5-6BD952140F88}"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DB96201F-2484-4566-AF3F-707ABBCFB11A}"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6A7EC1AC-8287-40DD-BEB1-3BC3CA4A054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D35A20CD-FD32-4561-A96B-0E3E0EC9CC6A}"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2520BCDC-889D-4C4E-9184-7FEB45A81CD4}"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ED8568D8-EB8D-47B4-96C6-02954AFCBC60}"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4F956DDB-C106-403C-9181-AF326813179A}"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342B481C-487F-4F0D-97F9-87EE31EFFE2C}"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0787816E-B020-4425-AC84-80920F276F81}"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6F6E304A-14B8-404D-A5AE-4B16088C4B3A}"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594027DF-5A38-4740-811D-7C8BA2D77F20}"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EF06266D-42A0-49DE-BE57-8B81A6B249A9}"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C896FAD-60D3-4037-B3FB-A10D6D133C2B}"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E959A6CD-D568-4247-8B10-E5661985D34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B9D9686-E6DE-4074-B7FB-8BCDA0892AE0}"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490AE691-78C6-4864-9DFE-33421A638D0C}"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7CEB8F3D-77AA-48BC-BFBC-2C4C8B33D26A}"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C2F95C7D-B41B-4E0C-BB33-91635BD68102}"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83986511-ED10-433C-BD6E-7F5A2879D2F8}"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0A4B2C2F-0F48-4BE8-868C-406595E91A80}"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7961B9E8-49E9-4762-9CB2-64DD016E5458}"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4619E436-3E05-4E8D-BCC2-5553DFBB8ADA}"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7682CD97-AB4B-4889-96E3-9DA22352E1CF}"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BDA824B2-B300-4D33-B2C3-AA3D81DA1CD5}"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6FFDD092-66DA-4560-9606-E412DA3DCB7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CF06801-7A37-4E82-8671-7DFCD9465F00}"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47726BBD-099E-4F63-8306-50460E464FE6}"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28E7C3B7-4069-437B-830B-2E7B57E5C159}"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7C521F43-2B5D-4986-9CF9-FD7CC9D357D4}"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483CF374-926D-4C73-8835-DFEEC221657A}"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E1E7232E-50AA-4223-96F6-C2CB9F206F94}"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334CB6BA-8AD6-4493-BA18-72174EA81C19}"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2967F9B3-876E-473C-A096-D92B6F4CDA45}"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30DEF7A2-9A1D-4683-95EF-B936DD0535AD}"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F0086A57-ADA8-45FC-A997-8CB554BA6D06}"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A99C6EE5-57DA-4985-B824-AFB93FD199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455B259-D5B1-45CB-99E8-85F8A492EF19}"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158B9CA4-AB24-4A1A-9AB8-72E1E075FEDF}"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2443EF01-824E-4F5A-B2A5-87A6BF006002}"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47B17C56-F162-4452-B46A-356D3D4CF5D2}"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5BE8B379-917A-4346-BC13-59A12972F174}"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761FB7B6-6852-4B78-8460-EEFA86336D5B}"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FD0E8CA5-7A94-42CE-A786-474451663274}"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65D05D89-DCEB-4BA6-A223-1C82E11ADD54}"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C007F06A-E14C-4952-AAAA-386471499F40}"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177A049A-89C5-4933-A58E-095F60D17BFA}"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7DCFF572-9354-4848-9F41-349D30C3BA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648D726-13E4-4356-A4FE-2C2C264A6FC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F823F32-218F-4FDA-A86D-64C6D67C9379}"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3EEE618A-6558-4FC8-AFCE-BB78DCCA48A8}"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D028B7B6-7B88-4610-A1AD-0841D5730375}"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1E45D527-B3C6-43D0-A97C-DA69678CFF4E}"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64F43416-0430-428E-AF52-E1CB3EEEE2E6}"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436F9FF-909B-4024-B2D7-E6D11AB281A5}"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DF8F920F-6DAB-42F8-BF48-D1692DFCFF9B}"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3F281DB8-4342-436E-BC59-DE4B4A374A01}"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1E43A6C0-CD2E-4CEB-A62B-D0F869378253}"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6364E943-5E4F-4565-B74F-EDB4BC76CAFD}"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EE9928FF-D2F8-46AB-A090-C37F4F6CAB8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4B48B7A-0D64-4D17-871E-B70AADD4CE68}"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3F15C83-C401-4FB0-95EE-21352874F4B8}"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6121C9C5-3A03-49B5-A52C-1B063E8E1ED1}"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306263D8-A00C-4568-AB78-899458E2FA97}"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CDF3B4A6-18FF-420F-98E8-461EDEE7DC50}"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FA0987E2-4A1E-41E0-AA9C-2E88B64C55FA}"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E7F5C1CA-CE06-4053-86F2-5F124BD6C3E6}"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691FA32F-A256-493C-AE68-4F771B23F083}"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E84FF7C9-8606-4A05-98E4-BBE51DA1F6D4}"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4CEC4358-9FDF-497D-8303-7681AD9A57F1}"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9120899A-17A9-4EC8-95A9-AF761835498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1A5CAB78-2562-48BA-9609-6133CAF0B93C}"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567CF658-6BDF-48B7-838B-2C0295DA0366}"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E8F18076-B08A-4B9F-900D-05EEF6AF3758}"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DA8CE3BA-1318-4619-9DDA-E926D7ECF852}"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1276F21C-043E-47FA-B4BA-D6016E2EA705}"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9C466863-A41E-4FDE-A17C-5CB518A569A0}"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1F2708DD-9DE8-4A62-9504-83666C0B8CFD}"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F036A155-CA75-4826-9F8E-3DAB79CF71DF}"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E0E17C29-A259-4A31-811E-0472CB5DE7D9}"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A09CF383-2288-4781-BDC6-9B8608A6282D}"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A9765D15-A56B-40CF-B118-995987D23D3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71660C6-E28A-4819-B06F-2525F629F6DE}"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3FB343D1-C70D-472C-B93E-6555E3C31E01}"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9C508CF6-BF13-45B9-BCFC-B15A5D9E8014}"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EBD038BA-8A8A-4DD6-B506-916DA5FE2D20}"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A481658D-6542-46A3-B4D4-F74CC7AA1C78}"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53D718F-102C-40AD-B0F4-2F588DD3EEBC}"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B4BD6698-B061-4FE7-9C01-778AF516504C}"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64FA0E4-2D10-4892-87F2-F1F353BAB3D8}"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417965F7-E81D-4109-BD15-5FEB11D89855}"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5FE26BF9-C99A-4CC8-B44C-6898CB2E0B9B}"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E0ACE736-8712-4B95-8B99-63226D8D509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538009C3-8103-4C74-8AA1-7A4656C11DC0}"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F7B8031A-1A8B-4295-AA6F-5FD0CE3262D7}"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D98EB52B-EAA2-48FF-9206-8ADBBB1A6696}"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0809C51-C9DC-4C5A-88C9-6CF826A1D87F}"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23433112-EC60-49AE-91F0-EDDFC69AED4B}"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223372DD-D555-44BF-98AA-B5AFE2F41B25}"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122D8818-DBD5-46C0-B4E8-B449109D7759}"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FEF93CBC-BE2D-4B53-BC29-0ACF444E0291}"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B0FDF847-4BBD-4FF1-A709-1C8CE3ED6A72}"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16A1E1B4-53EF-426A-B634-0595DB2E45B0}"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B55B49E6-5BC8-4FA2-BDA5-99FF56C829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241E6F4-6F56-4A5E-9551-3AEEFE0305A6}"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9636EB5F-44D5-434F-8983-F019C8D20E7A}"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796B3D72-6D7D-44FA-9727-AB919D569886}"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3713CFBF-69DC-4039-AF29-839E3C6A7DD5}"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46BA6B9B-39F6-4285-9046-44DE3844A47E}"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C38F74E7-C4CB-463E-9A11-AD8A095DDE9B}"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7747F9A5-AAB7-41EE-9DFB-A01EC8CA2D93}"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DE0BCD4F-34D4-4892-ADF9-E3D26468FEC9}"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2F3F0FC8-200F-4056-9DDE-61B4F3BE4D3D}"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8F333CDC-ACE0-482F-ACF9-5940C516C4E3}"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8E0A6F7A-CE7D-4E0B-991A-725A4169204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29133B8-72C5-4828-B898-4C248F37346B}"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B32134C3-2CED-4DC2-A4D8-3E27EF3BF412}"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D869EC4F-1255-4D0F-AC12-1917A844242A}"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4FED64BC-F793-47BF-B483-7FEF1A8B0117}"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0DF165A9-8C3F-4E22-BCAC-194FA98E7876}"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1223C1AA-400A-4E56-9316-5645D0D31AF7}"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F595C446-B35A-4472-87D3-89FA6BE8503A}"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5E4D5FCB-C6BD-48F8-9731-5965A12FC397}"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34236A2C-9B82-4F88-9C11-FA67BADCE3E0}"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77897D48-3C75-4C85-915E-D67E6A7F48EE}"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56900633-4984-4C20-82E9-A0B451E72E9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5532D10-059B-448B-961A-FB4E198398CD}"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7EC9A78E-EBFE-4F64-A9FB-0B35AC3CCE91}"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A94A0575-B38D-47EF-A34C-9483AD83EA69}"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7A7D210F-B07B-4048-BC6E-A1C6346BFE1B}"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37B9EC3A-350C-44C2-A3F4-7D06873E1F69}"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43A294D7-125D-4EDE-A70B-7A28700A15DD}"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EC7F4651-85F2-4409-9207-CEACD4F4944F}"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D3259130-09DF-4B38-B6ED-7D9BCF94FCD7}"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35B9CA2A-9789-497A-AF98-68D98C511728}"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3BAEC4D0-0292-4DA2-8839-6B562C57C975}"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DCB46FA8-BCEB-4499-8F8C-B6896B6E017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C90A40A-81F0-47C6-A870-BFC943A0EC4D}"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4099AB4B-7DF6-4B04-A0C3-2E9C60256974}"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9F9744FE-2019-476D-890D-15F312685B5D}"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B4BC8F65-601E-435B-9C48-27361DA25B49}"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B8F3184D-5ED8-4445-AB6E-6C6FDB635877}"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C27B88A3-330C-4056-A998-63121AAE3F03}"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816FD694-CEB5-4A2A-89ED-60DFA0B7DE37}"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0CD569CB-FDFC-441F-8777-F783EA28076D}"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2515E532-3D77-43E9-9989-689392E15B15}"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5BA8411C-324F-4823-B1B1-9047EBCA0018}"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AA9100AE-57D6-490F-8C08-1AA9F8F3BAD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48A1CFA-A66F-4A21-9734-7A9CFCD7C00F}"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7B350A30-8BF1-41AE-A96F-B1D7786E3A82}"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A057C33F-916F-4AEA-BEB5-ED1FDB5FD91A}"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3EB8C1C4-FD4A-49B8-BE23-93B6E79A775C}"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B85ADDCD-BAC2-4A44-8262-05FC4E1BEE16}"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B5F249C8-3EF5-4259-BB8E-31EA47D24E97}"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0437C029-9EEB-409B-AE34-3D216379CD39}"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043EFC65-8C55-404C-9961-1496DDFCA2AE}"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D608AB48-3A77-464D-B0B0-92E33B63FCC0}"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D9FD10FF-EE77-4732-9B1C-E46C4A0B2B84}"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B45F643D-117E-46BE-BD17-7559FF131E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EA1321F-3CF6-4AE9-8509-2154D1153C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ED56589-1A42-4C84-A69D-DE7FACBDBBE0}"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257ADEAD-E7EF-493A-AB31-D92FBD52863E}"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5DC81627-8569-412C-803F-A21F7DCEE45F}"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2583AA3E-366D-459F-AE38-D810181AD94D}"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24804A23-04F5-4B25-B7C4-D4067E635AAA}"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A1A2DE6E-9B66-4582-8661-4F8D480AD044}"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AB0C5693-1FC6-416A-8985-F4632683A0DE}"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04002C39-36BA-4493-901F-CBAF3B358617}"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70405DAD-C0D4-4EFC-A36E-463A9B5AFBFF}"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30B5392A-7F0A-4435-ABAD-F2A027DA7BD7}"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176B8240-A494-4964-9A76-574BC45CE1C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7260802-B6C8-4B72-83C4-703546850163}"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E646DCCF-603A-4419-A526-74E0B8766BC9}"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8FDFE65F-6BEF-4E7E-AB5D-9F92910878AE}"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26219EEA-47C1-4904-885A-C794811DBABF}"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1FC6D59F-2587-4584-8B55-2002A1F3EB8F}"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29625422-1EFF-46FA-A364-D725F25E5024}"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CF9DC0EC-1F84-4536-8420-A2FC1D0E4E97}"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AC305BFD-7367-47CF-854F-53FC8CDB9A89}"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AD4FE911-C588-44E9-BBAF-AC09CE3DDDBF}"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CBE8D6D1-5D5D-4EFC-805E-D36A166A8F21}"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C1064F7D-1A30-4D7F-8529-CEFEF1C5790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36D399A-3296-4135-A879-A18EB993C4B6}"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E094E4D8-C573-42D2-BE57-782A89B94046}"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70BADCEA-8BFE-440B-99BF-779584F8E7A6}"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4F8414CE-591A-4C57-A9F2-FB776E269EBA}"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87048B42-3831-4115-8240-F646ABC0C534}"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72D831A4-6DE1-4B94-81C6-2D0575738B6B}"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11DE0669-59CD-4FCD-911D-E5838AAC457E}"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482A81E5-E66A-4140-890E-18B32AC74C80}"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50361D3F-ACC1-4419-92BB-B81FDB676B4A}"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0AFF16F2-1E34-453F-8A09-012C43284023}"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BF546F60-10EB-4084-839B-70DB1D340A4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71BD9AB-EEF8-422A-8325-185E43C33D14}"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5C8DB37F-9A28-4DC5-8F23-F1750F947DAC}"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FD11D3AA-5DFE-4A8B-954A-4BB6EF770B09}"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0A8B770A-1EB3-4342-9E43-F6869B9FED8C}"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CD0F87C6-6007-4B95-86DC-C5B2BF9AF687}"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C4B10FDE-A830-4A84-93A7-F01A4EA5C6C0}"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997831EC-B1FB-4E69-A9EC-F5227BC258A3}"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A671BC19-2BAA-49EE-8113-E77B95120C7B}"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AD143041-A937-4EC5-9AA7-138FE8FE5A7A}"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279E8D70-72DE-449D-959C-3E15997F79AB}"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C4C5CCCE-23D5-49EC-8E81-A72B343883E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086573D-561E-4E99-853C-9C086EECC2F6}"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0FC83FFE-F63F-4AC0-A77E-6D0A10DF8CDD}"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4037BCF2-CB6D-4ABC-8B59-85B1522B6FCC}"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C8DE95F0-8DB9-4CDF-B915-EBE281169083}"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45D3802A-3B85-461F-B280-A1C5EDFFCF2A}"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C778B64C-C3D2-441F-95F3-A5F475828190}"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435CA582-9578-4598-986B-5F8571CB9B8C}"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1F6E3801-20E4-41BF-87C3-C6CC853D0055}"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7D09C5A6-791F-4B24-B8C4-12C8AC2C4751}"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D17A6419-24AE-469C-B018-1A8D2C874E32}"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412EB82F-60D4-43AF-AD48-0B4D76DA953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9BC0D8B-B1ED-4069-BBE7-84413D3E6D0B}"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17D89026-B5F5-4E05-A700-40E7FF42A722}"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7E5AA059-1687-4CDC-8653-5A244ECFFDC2}"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A40879E4-F42B-41D5-AB9D-A5416F2644AE}"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771FCEB4-B549-47A9-BA08-42CF7E09266E}"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DFE800D3-AFEE-442A-A395-A41AF9DD409F}"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A97F03DD-2B90-4D78-B991-0D84AF6B9022}"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2638448E-0768-4B20-8988-881DDB02B800}"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4A964333-F4E3-4B07-A62B-12B74AB14721}"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5C1B03A9-B813-41C3-BA8C-6BD92801D2BB}"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A2F46F23-467E-4418-BAA1-6D6CBF0060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0C69465-FFF1-4B2F-AEBB-7C1A6F9EFFF6}"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CA398BD6-29AC-40DF-B984-96A491672E99}"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BB978A6E-7F07-4823-B8F1-01720E74F960}"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75D5073A-06B8-4DE5-B53D-523F78632B4A}"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2C6F79FF-9879-475B-9B76-09B832982535}"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20EA7B65-0437-4B0E-9456-2353452FE240}"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F1018D26-5329-4A2A-A4B5-F906A8F39F54}"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24B7764B-DC4E-423E-B6D6-5C4D74A3DFED}"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F8A0C608-E1CD-4458-856D-15D5BE4C3454}"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EBCD31A7-AA99-44D6-8520-EF6A8E44F23C}"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63C8BBDE-3457-4CB2-8B9D-077D1803903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A07CE0B-8784-4C9B-89EC-4C256997D575}"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677CF075-BDBE-40D2-A256-1904B2D50A0B}"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04C4EA63-DC7B-4C3C-944C-BC37561B21DB}"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22312AF1-A6FE-49BE-AB75-6D1C19ADE923}"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C38C8DC7-3F3B-41E6-8E7B-3AD255EDA913}"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5C50B3AF-D4AE-4C36-A63C-76C2D02041D9}"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5D0FE288-D0F3-4518-86EA-7E64A3878290}"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80B16EBD-4B3F-4BD8-8786-34408F188433}"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A31A6798-36E8-4925-9A1B-41E56BCD848A}"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F0B91098-433C-4691-A667-A75CE8AB3E0E}"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88AFADAB-27BD-429F-ACE4-8580E54401C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5D24C4D-C853-43C9-8C8C-60FD3082C685}"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5AB2DFC1-1CA6-4F85-8F20-ED5E9EB2BB58}"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CCFFE9FB-B159-41FD-8B3E-02053DDB7B3A}"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99501644-E5D4-44A6-909C-4DEAE23EDA20}"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9A68FCEA-701A-45CF-A91F-4D584B204D65}"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148BD374-DC4B-400C-94A3-A585E0BB199E}"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6CCA0FB7-203F-4495-A6AD-921DE80276CD}"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675582A4-B031-438B-B938-4BC976A02F06}"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83AAD56D-2BAF-4E54-913D-CD8F8719DD49}"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709897DA-2DF8-4138-8610-0564A8D49E96}"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C506DE75-2907-43C0-A2AE-2D97445A953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0163A707-A169-4570-8251-267E8B98A8D5}"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BDD15650-2C82-447B-9BAE-C7A29B1AEC18}"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1C80CA87-4CC3-4B17-82F7-A30B2DD1A227}"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D01D7C53-152E-484F-B921-D28463770691}"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8B4E5CF4-A5AD-4739-B7D3-0A34A591259A}"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7F3CB0D3-1783-4ECA-838C-16E4433C4D5F}"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9FBC43E3-8742-42D3-A66C-4B21CBE4D48E}"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A42B91F2-1C03-413F-ACCD-49E13622BFEB}"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DFC24505-733F-4735-9950-B5705BFF0461}"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0C4E68F3-F5C5-4107-BFA5-615A47309034}"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17DA2C94-EA3F-4DF7-88A6-33070354FC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59AA25F-8E80-40F2-B94A-2B38C880D49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27D17FE-09FA-4808-B951-7849F20364F6}"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AFB96DEC-60AC-4EC1-9883-C4FF87DFD101}"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4E924EF9-8932-4B88-A07F-7D2DC87D8A21}"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D2650392-F548-4422-9515-38954B098595}"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DA6677E3-F7A3-4421-AED7-D75273007FE6}"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90D744A6-ED71-4742-8585-A7FC165D8CDD}"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BC30F32D-D12A-4FBC-B9B3-38581D040C78}"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0EC7D859-109E-4460-909E-B21DE31B2B82}"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AFC2953B-305E-47A6-A755-6834585A6260}"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C4F3D986-A96E-4254-9DC6-406BE0E0D033}"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97A7756A-B2FE-495D-89F1-B0D45C1B95D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BF6A861-7165-46B5-A2FA-1BC16BF570D2}"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D4617601-14D4-45DE-AFBD-9C755782E0AE}"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4F8FB550-8957-4F01-A250-32550D7FBC25}"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9425206B-FC61-41A6-A440-55A301DB3BE7}"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212035EF-D633-4BF7-A78B-1EC4584CE3FD}"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24B18234-4E11-4470-923F-D611FC60CB25}"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E5F408CB-8462-4FFF-B972-70ECED73B0FC}"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3E22646F-9D46-437A-B461-CBDBCEC44B4E}"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A360F915-E782-4485-B11B-57ABB796D656}"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AEC39AE1-7685-4854-A28C-ADA50255654E}"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DBC39CB-843B-4C62-8007-66A90C8EC1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3EEB456-3354-40F2-96D8-D8ED543442DF}"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B96C3597-0857-4406-91D2-DDD820E6C181}"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EB79701A-B0CC-43F6-8F20-45B0D942BE6A}"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9999C611-3277-4E22-BD1C-1A6D1357084F}"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5C8C33BC-E20F-41EF-B35D-1F6C425FA600}"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9EA73BDF-1325-4344-A1B4-842BCF94213A}"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1E604E8B-546E-49FE-B4B7-1C5FD8571104}"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1D2EF1A9-EEDD-4AAF-8C28-39722CF31962}"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0BB2C665-FA11-4084-9DC9-918C350C7DA4}"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565FED85-705D-433E-AD09-800FC726E7F1}"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02BA7E24-862B-4025-8578-DBE2F584A3F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E9E2320-787A-44C6-B2FF-A9FAED091240}"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AC5D75BA-6648-4754-9FF0-10EABE0F504A}"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933596A0-2039-4007-A061-42832DB06532}"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B42B91BB-A44D-40FF-A092-7FE849EAF631}"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E06B0257-8EC5-4CFC-A8CA-94F3819EE145}"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F78A407E-2B7A-41C0-8040-9C7D825C8EB2}"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557121B0-8A13-4A10-8343-FC244C53A23C}"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E9E38189-8BAD-4CEA-8288-E805D6F59427}"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DB98BD39-BA7A-49FD-87D7-A780F4F75A60}"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FECEC97D-8C10-49D7-ACD7-093F59E4F082}"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152682B4-246A-4447-8386-24B11F9C698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A508EF9-78B2-4B31-B073-3C0D311D1E99}"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7AE2864E-5B72-4E1A-A04B-C2625191335F}"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41BF2517-D592-442E-AF95-9DDE9A6B61BE}"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1AC7C290-E370-4E72-B254-35DD24D860A9}"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DD426B52-6223-49DF-BCCD-C1E9D58AD268}"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593A9E30-5CB5-4570-AEFF-66A8B4133EDE}"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1346CF6D-B5E5-4038-80BD-631498360B78}"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8C5574EA-AD4B-4144-9232-EB5694BEA024}"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8990BFAB-7F8C-479D-BDCC-ACAA05808EC7}"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08029BAD-56F3-45D2-B19D-9D001233BCD3}"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E4301448-BCCB-43C0-A0CA-63A9335ED04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3B84548E-D84F-49BD-9CC4-0E1036F0E87D}"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AA8C76CC-C488-4734-8FF5-DB49762653BA}"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A12FBC61-3350-40C5-A8DF-225CB7FCE5E6}"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C8A896F9-357B-4D5B-B80D-C227FC87FC44}"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FF17D8F0-7215-4D1D-8BD9-E34395078E9B}"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634843C9-A2C8-4FBD-9BD4-97443CADC4F4}"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769E60A5-ECAE-4786-BD94-E5697F513E37}"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6BF945E2-BF49-4DE8-82D4-E10D32BB6DA9}"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BE11675E-4A90-40FE-9881-EDDDCF4B163B}"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EE583915-B97C-4797-A264-B2A7A5D78456}"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28CC0D20-5D9A-44D8-BC4F-1ABD1F8472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2679AFB-AA96-4245-8E6C-F54E347D963C}"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BC96D8FC-D524-4935-AE59-A556305168D6}"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4D773B67-34AF-4D8C-A7D1-F6984B01E47C}"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6481354B-D44B-46A7-92EC-AC2E9B4DEEAF}"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19174644-ACA7-4566-B818-E0BC2031701F}"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8EB365D7-A813-4298-A610-2B95C19028A8}"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E4DC8A30-7ECD-4DAF-BB39-C5E511E28D85}"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5953C1B7-AA8B-420D-BBBC-9AE75FF8DC75}"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F14472F0-DB52-447B-84F6-F279A26D5663}"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8D42C99E-8D2B-41BA-AC68-5A9D18ADA19A}"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8A1542E6-B9D5-486F-B7DF-2D026B52EB6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D91C2D3-182A-42C7-B473-721F887B2BD0}"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B1A66C2E-897C-4A91-A3C1-2BA3A09D1FFA}"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B522A863-DA3C-4919-A682-5F03D277458F}"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AD339C9C-D4AC-4118-A3D1-995F2E0509BA}"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BA5CF139-E62D-4EE5-8127-D1958BE9ACFD}"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A26ACC98-D938-4DFB-A95B-9801F2859DC4}"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3FF20059-10D6-4F8A-A234-842BEE59738E}"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A16E929F-B5D7-4724-AA17-0BC651B23F23}"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B3E180F6-B757-484E-A5A9-E07188E86798}"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9F9F2B5B-615A-4406-8816-278FF6AD4445}"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9AC3F82E-0291-4E47-B54D-9AAE32C93D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00D560F-AFF7-404F-9F34-8876D56A6F95}"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9BC9A241-6124-4AE9-81E4-0181CC4E028C}"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52CE2DBF-1A9A-43C1-B970-527162928B0A}"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5E4096CC-BC8B-4E4D-A119-A081B4DB8986}"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9A026ABB-386D-4293-95E7-1E2FA7A63224}"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0F9BE8CD-A1D3-4A82-810B-A1A4F953CFA2}"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4CAC8CCA-E8C8-4CA9-9008-EA7FF53F143D}"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64A707C8-4088-49A4-AEE6-B2810F467340}"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D81B086D-8E71-44FB-89DD-29C6AD540A75}"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3E59DD22-A3F5-4841-8949-72A0DA126475}"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BA0C6101-43C4-49E5-9FE2-32C730343FA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F8A8F45-22AF-4C81-A8AF-FC8F59892E4F}"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10D91E29-9AB8-4BD3-BA8F-83CBAC1B0F3F}"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1F368D05-5CD1-4B8B-9E7F-6D141DF585AD}"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4DEF54EE-C46E-4806-AEE2-83C92408340D}"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84CE9828-4413-4EC5-BB8A-8A53A319ED36}"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B6BF59FA-A8AB-41E9-93AB-1740F90EBF38}"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5E394D51-46D6-4481-94DA-2F7EC1F8737A}"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0159F02A-304C-436E-828A-890649738916}"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F68BE8E9-54D9-4EB9-A42A-07E68CA2AC3B}"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9CEA958E-4C1F-469A-A6C5-65978605C31A}"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464B2327-43B3-47FF-9E8E-587ECB746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015C3-FBF2-4DF4-BBAD-A7C53DEFC4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E9A99-9E2E-4EB8-BB0C-3FAC1323BC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94C24-1BCB-4FBD-9DFC-0DB3A26662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D9BCB-D48E-4597-B1D2-E6A63B6914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606DF-3FC9-4342-A8BC-7A2C8BF75A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FFA69-10B8-4DCF-AFAF-416FF14850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E41D1-BF79-4D67-9939-5673CE971B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3CFB5-BE8C-48AD-84FA-CB9F6D74FE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11835-74A8-4CD3-9440-9943544AB9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988E8-827D-4625-BFE3-22BB62D26F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EDD6C-B38B-4813-BDAC-80C9BA5AF8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A9D48-E2A9-46DA-9C4C-573ED13564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C43E5-932C-414D-9267-2CE3885DD7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A187E-C71F-4A42-AB9B-6E33FC7D0C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4812A-22FE-4338-AF57-69A346A8CC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1001F-8661-4846-A279-B56992A33E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F5B59-74F3-4B76-BD9A-E564D324FD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F56AC-9284-4FEE-A34A-A2AE708778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EFE9F-53F2-44B9-86B2-62EB011F56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31996-546C-4324-AF9F-C3FD13A6E7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389FB-B44E-422E-9D74-95E1A6E4E0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605C3-911D-46F3-8C46-056E726054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FBF8C-CADB-45A8-A376-F122A92203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DD353-1D5C-48D6-96F4-E70AD9A10A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86AF6-9FB3-49DB-A276-29E4A641FE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10BB2-B160-4288-B8C2-5C11E5E9B5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F042C-66D7-47E5-B06A-B451B5401E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322D3-311A-42CF-AC33-FA4A613F51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C90D5-7575-42CA-BC7D-E891C217B3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FAA40-1492-4309-B26D-F129C2687B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4EFB1-DA34-4851-8A1A-98B2C35021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9FB1B-C536-40DA-A2BA-BE831D60FC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F5A6CF-44D5-46AE-9962-5C9516D1D7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90990-EC7A-4DC5-8DDC-91AD671778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8AC92-7F1C-4D6B-BEC4-66CACB8F56A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8237D-4EF1-4CE7-BABD-82182403C9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F8794-6F2E-45C7-B018-E4DF05D9D9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91535-4B3C-44AB-A70C-0FBDA8C979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A6C42-B2FB-4461-93D9-4F373336B8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80157-E252-4893-B41E-DF2351F07B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B84E3-02F8-466C-858A-4A54740F6F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EDBB6-587C-4E3A-BDA0-9A5FCD7C62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15E35-4F2B-42EA-82E9-7ACDD9C397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2A5AB-4D32-46A6-8ADF-0DC8D86306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3E8D7-58FB-4004-BB49-477F4410F3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160DC4-01D5-4566-924D-EAECB90067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D74F8-3978-4772-B462-893836AF76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2694A-0840-48EB-8BE1-D73959E01D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E561B-66D3-4181-B227-2625827414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BF7A22-748B-4926-B787-A8956BF3D7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FDACC-475F-455F-9FF8-4D7A7F49CF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2C502-D385-45E6-B1AB-B2A89A6057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A2F49B-8864-413B-A01A-EFAD81442A5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EC655-B0D5-466B-80A8-34B3867CAC4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FB659-0E14-428A-B796-BAC11CDCBA2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7FD8B-DCBE-4077-96D6-9CC0235CFAC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5C0F75-477B-413C-95B8-42C2E0776B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E61AE-A679-4B82-82C7-3291D032CE1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9512C-F93F-44BC-AD94-81532BA156E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DC8CF-7D23-4655-9F2F-AFDA063DDAF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2BADC-78A1-49A8-8B8F-24EA29D3C12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BC577C-730A-40C5-A8D0-96DABAB25AA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3079A-C2FB-4A46-8F18-91490CCE5EE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B8B80-4B9B-4CC0-80D6-F6EA3B74606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572C7-09FE-4984-B64F-B5146A2EAF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6D6E1-68E7-4C68-B3AC-8AF325687D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65C50-DBEA-4163-A6B6-29294773FC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5D885-A183-4257-B6E6-3E2932AAE7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B69E6-0A8C-4E97-A4C1-477E855119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E8F2E-F606-462D-9CA5-DF91FC6C93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BC150-2EAB-446B-842A-3E41D78416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BC346-BB80-4347-847D-0ABA4B908E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70190-4724-40C5-A533-82E7125BD9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BD1C7-F545-47AF-8D70-2A98347729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ECBC2-B83E-4059-9F6E-2BE9ED5641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852A2-0985-4538-8DA7-B5CE9D74B0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6A43E-E189-43F4-8AC5-CDD8402873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7459FC-24E3-4AC6-B987-FCFF016B7B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3ED62-000E-4ABB-9850-297D18C727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C1DF8B-BE6A-414B-A43B-3E2F49B8BE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FA61B-4C5A-4D96-A2AE-C2F4EC2B19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C7854-DDF7-47B9-B609-658082F86D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349DF9-818B-4641-9B8D-548568B5B1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53806-A852-47E0-97FD-C035E1AE07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4D61B-7C7B-4B4A-8710-BC2F9BBD16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F6723-D67A-4E35-88CF-9B8174CE36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3DEB0-EBAC-4BDC-8E17-F435643FB4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95AE5-41D3-41BA-9DE9-BF4C059B72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EE54F6-662E-40CA-A8B4-A65EBF96A8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8B3E4-9762-4E65-9EAB-3013D8F93C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85B2A-9830-4CA5-8F8C-32C70196B8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8B5140-59DB-4667-98DF-C94514F4E1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EF8DA6-41E0-4F39-82D6-65B9E5B783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6D98E-5303-49CE-8D75-4DCFFD19C3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ED0CA-9D22-402B-A632-87FCB7B450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CC99E-B959-4419-9B5B-1C7AD1337A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7E33F-D501-45A1-AE12-D6A304D483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B5718-D601-48E0-BE02-809D084A53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BD111-982E-42E0-9CA4-16195AECD6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199B6-6B12-496B-AA9C-0BB732CD82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467E0-6D08-4586-A70A-E0E19D4C08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3ADB6-0561-4C0D-A251-357F981266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045FC-7194-41D5-A015-28CF02177C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D2856-D302-4973-B1A0-887777E089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9837F-1BA8-4762-89B3-CF3F9CE487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F750F-2C1F-4F48-8ACC-AF1BE4A7FF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ECA92-4C1F-4061-B5CB-601A643A3A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251CD-6313-41FF-8D73-57199A38AB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0E564-A41B-4A8F-8700-4A5AD29E67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31000-BFF9-49EC-A756-C772B1FE33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0891A-7636-4ED3-9642-78159CC067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7FCB5-46D5-4BC9-B849-C1AF4883DF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99B97D-E6D2-4D8A-B0F4-80AC11884D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3A11F-E054-49D3-A0B1-398ADAF390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79144-7DEE-4F25-B0AC-FA6C674D25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A1937-71DD-4950-8369-2AEC98E9DC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11EAF-9AA1-4343-9935-2C25760625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4A2F3-A909-4F12-A9DE-D1E0EB3929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99BCB-9F4A-4E37-BA3C-EAAAD1CF11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9799A-09CE-41B7-A6E2-84371D95AF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94F981-B35A-42D2-9663-53DF0D0A8E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17B77-6552-4B7B-8D59-CBF68AB979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F0AD6-1B5C-4176-B58B-E5D2F732E9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E11FE-7AF8-44AF-9FCF-0466221D32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4263B7-EA8F-404D-9889-D7CEB5A16C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28F33-45E7-4041-B4EE-6B4ED4FE09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B49614-2E96-47AE-9C07-2B4F343DFA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ACD37-969A-48AD-9E6D-8327A37170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CE460-2251-4AFE-9E9B-B19F06965C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8CF5D-0A67-4B76-8D24-CD5CC88088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EBC3E-A49D-4EA4-A36A-D0D2B4F127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4F760-DAFD-4BE3-BE9F-C85374D9F2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26D23-BCCF-4DE6-BD64-8D0EB3FA9C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4B9C4-DC05-40A3-87F2-17D484D097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CD4D5-D7A5-46A0-8D57-148A5816F3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D450D5-6BEA-4C97-A17B-7BCC38EE77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CECC3-6357-4BE9-B667-87C0799D86C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2E97F-2A4A-47B7-89C0-FD7A71859E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B6320-3178-4CEC-9322-829915CEA9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8A00E0-C086-41F5-A3B5-74C10E2F2B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291D8-25E9-4158-BF1E-586677C7E3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FA5C4-93F0-42C9-B3D2-A131C58A2F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38A64-04D7-457C-A637-9F29277C01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89F44-8A22-4FFE-BDD2-E7A56C28AB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CB750-F12D-4D42-8E16-278198E612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0DBE6-DF63-4A94-88C1-8CAED788D8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2E0AB-BCB2-4EE7-B248-A5C1E16834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478681-8AB8-43DA-AA9D-71E09A1D98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D7500-0B6A-4B16-9E9F-46B0C5A5CB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15790-CED3-4D2D-9CF8-4DF682F114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15565-3C61-422D-B041-E1BB0816AE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25FC5-7D6E-41E7-826A-DD7FA6BB7F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0A07BD-B750-4092-A8DE-41F3B22A65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E6C90-7706-44B7-9683-F909B32167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27893-A215-4CCA-B736-DA91A6DB9C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E6F5C-0987-4799-BEB8-72856F1A2C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611280" y="1392120"/>
            <a:ext cx="7848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413000"/>
            <a:ext cx="7845480" cy="4680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ffffff"/>
              </a:solidFill>
              <a:latin typeface="Times New Roman"/>
            </a:endParaRPr>
          </a:p>
        </p:txBody>
      </p:sp>
      <p:grpSp>
        <p:nvGrpSpPr>
          <p:cNvPr id="7284" name="Group 2"/>
          <p:cNvGrpSpPr/>
          <p:nvPr/>
        </p:nvGrpSpPr>
        <p:grpSpPr>
          <a:xfrm>
            <a:off x="0" y="115920"/>
            <a:ext cx="9140760" cy="6548400"/>
            <a:chOff x="0" y="115920"/>
            <a:chExt cx="9140760" cy="6548400"/>
          </a:xfrm>
        </p:grpSpPr>
        <p:grpSp>
          <p:nvGrpSpPr>
            <p:cNvPr id="7285" name="Group 3"/>
            <p:cNvGrpSpPr/>
            <p:nvPr/>
          </p:nvGrpSpPr>
          <p:grpSpPr>
            <a:xfrm>
              <a:off x="0" y="115920"/>
              <a:ext cx="9140760" cy="6548400"/>
              <a:chOff x="0" y="115920"/>
              <a:chExt cx="9140760" cy="6548400"/>
            </a:xfrm>
          </p:grpSpPr>
          <p:sp>
            <p:nvSpPr>
              <p:cNvPr id="72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1" name="Picture 9"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ffffff"/>
              </a:solidFill>
              <a:latin typeface="Times New Roman"/>
            </a:endParaRPr>
          </a:p>
        </p:txBody>
      </p:sp>
      <p:grpSp>
        <p:nvGrpSpPr>
          <p:cNvPr id="7293" name="Group 2"/>
          <p:cNvGrpSpPr/>
          <p:nvPr/>
        </p:nvGrpSpPr>
        <p:grpSpPr>
          <a:xfrm>
            <a:off x="0" y="115920"/>
            <a:ext cx="9140760" cy="6548400"/>
            <a:chOff x="0" y="115920"/>
            <a:chExt cx="9140760" cy="6548400"/>
          </a:xfrm>
        </p:grpSpPr>
        <p:grpSp>
          <p:nvGrpSpPr>
            <p:cNvPr id="7294" name="Group 3"/>
            <p:cNvGrpSpPr/>
            <p:nvPr/>
          </p:nvGrpSpPr>
          <p:grpSpPr>
            <a:xfrm>
              <a:off x="0" y="115920"/>
              <a:ext cx="9140760" cy="6548400"/>
              <a:chOff x="0" y="115920"/>
              <a:chExt cx="9140760" cy="6548400"/>
            </a:xfrm>
          </p:grpSpPr>
          <p:sp>
            <p:nvSpPr>
              <p:cNvPr id="72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00" name="Picture 9"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1" name="Text Box 1"/>
          <p:cNvSpPr/>
          <p:nvPr/>
        </p:nvSpPr>
        <p:spPr>
          <a:xfrm>
            <a:off x="179280" y="1392120"/>
            <a:ext cx="856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ffffff"/>
              </a:solidFill>
              <a:latin typeface="Times New Roman"/>
            </a:endParaRPr>
          </a:p>
        </p:txBody>
      </p:sp>
      <p:grpSp>
        <p:nvGrpSpPr>
          <p:cNvPr id="7302" name="Group 2"/>
          <p:cNvGrpSpPr/>
          <p:nvPr/>
        </p:nvGrpSpPr>
        <p:grpSpPr>
          <a:xfrm>
            <a:off x="0" y="115920"/>
            <a:ext cx="9140760" cy="6548400"/>
            <a:chOff x="0" y="115920"/>
            <a:chExt cx="9140760" cy="6548400"/>
          </a:xfrm>
        </p:grpSpPr>
        <p:grpSp>
          <p:nvGrpSpPr>
            <p:cNvPr id="7303" name="Group 3"/>
            <p:cNvGrpSpPr/>
            <p:nvPr/>
          </p:nvGrpSpPr>
          <p:grpSpPr>
            <a:xfrm>
              <a:off x="0" y="115920"/>
              <a:ext cx="9140760" cy="6548400"/>
              <a:chOff x="0" y="115920"/>
              <a:chExt cx="9140760" cy="6548400"/>
            </a:xfrm>
          </p:grpSpPr>
          <p:sp>
            <p:nvSpPr>
              <p:cNvPr id="73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09" name="Picture 9"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ffffff"/>
              </a:solidFill>
              <a:latin typeface="Times New Roman"/>
            </a:endParaRPr>
          </a:p>
        </p:txBody>
      </p:sp>
      <p:grpSp>
        <p:nvGrpSpPr>
          <p:cNvPr id="7311" name="Group 2"/>
          <p:cNvGrpSpPr/>
          <p:nvPr/>
        </p:nvGrpSpPr>
        <p:grpSpPr>
          <a:xfrm>
            <a:off x="0" y="115920"/>
            <a:ext cx="9140760" cy="6548400"/>
            <a:chOff x="0" y="115920"/>
            <a:chExt cx="9140760" cy="6548400"/>
          </a:xfrm>
        </p:grpSpPr>
        <p:grpSp>
          <p:nvGrpSpPr>
            <p:cNvPr id="7312" name="Group 3"/>
            <p:cNvGrpSpPr/>
            <p:nvPr/>
          </p:nvGrpSpPr>
          <p:grpSpPr>
            <a:xfrm>
              <a:off x="0" y="115920"/>
              <a:ext cx="9140760" cy="6548400"/>
              <a:chOff x="0" y="115920"/>
              <a:chExt cx="9140760" cy="6548400"/>
            </a:xfrm>
          </p:grpSpPr>
          <p:sp>
            <p:nvSpPr>
              <p:cNvPr id="73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18" name="Picture 9"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ffffff"/>
              </a:solidFill>
              <a:latin typeface="Times New Roman"/>
            </a:endParaRPr>
          </a:p>
        </p:txBody>
      </p:sp>
      <p:grpSp>
        <p:nvGrpSpPr>
          <p:cNvPr id="7320" name="Group 2"/>
          <p:cNvGrpSpPr/>
          <p:nvPr/>
        </p:nvGrpSpPr>
        <p:grpSpPr>
          <a:xfrm>
            <a:off x="0" y="115920"/>
            <a:ext cx="9140760" cy="6548400"/>
            <a:chOff x="0" y="115920"/>
            <a:chExt cx="9140760" cy="6548400"/>
          </a:xfrm>
        </p:grpSpPr>
        <p:grpSp>
          <p:nvGrpSpPr>
            <p:cNvPr id="7321" name="Group 3"/>
            <p:cNvGrpSpPr/>
            <p:nvPr/>
          </p:nvGrpSpPr>
          <p:grpSpPr>
            <a:xfrm>
              <a:off x="0" y="115920"/>
              <a:ext cx="9140760" cy="6548400"/>
              <a:chOff x="0" y="115920"/>
              <a:chExt cx="9140760" cy="6548400"/>
            </a:xfrm>
          </p:grpSpPr>
          <p:sp>
            <p:nvSpPr>
              <p:cNvPr id="73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27" name="Picture 9"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ffffff"/>
              </a:solidFill>
              <a:latin typeface="Times New Roman"/>
            </a:endParaRPr>
          </a:p>
        </p:txBody>
      </p:sp>
      <p:grpSp>
        <p:nvGrpSpPr>
          <p:cNvPr id="7329" name="Group 2"/>
          <p:cNvGrpSpPr/>
          <p:nvPr/>
        </p:nvGrpSpPr>
        <p:grpSpPr>
          <a:xfrm>
            <a:off x="0" y="115920"/>
            <a:ext cx="9140760" cy="6548400"/>
            <a:chOff x="0" y="115920"/>
            <a:chExt cx="9140760" cy="6548400"/>
          </a:xfrm>
        </p:grpSpPr>
        <p:grpSp>
          <p:nvGrpSpPr>
            <p:cNvPr id="7330" name="Group 3"/>
            <p:cNvGrpSpPr/>
            <p:nvPr/>
          </p:nvGrpSpPr>
          <p:grpSpPr>
            <a:xfrm>
              <a:off x="0" y="115920"/>
              <a:ext cx="9140760" cy="6548400"/>
              <a:chOff x="0" y="115920"/>
              <a:chExt cx="9140760" cy="6548400"/>
            </a:xfrm>
          </p:grpSpPr>
          <p:sp>
            <p:nvSpPr>
              <p:cNvPr id="73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36" name="Picture 9"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7"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ffffff"/>
              </a:solidFill>
              <a:latin typeface="Times New Roman"/>
            </a:endParaRPr>
          </a:p>
        </p:txBody>
      </p:sp>
      <p:grpSp>
        <p:nvGrpSpPr>
          <p:cNvPr id="7338" name="Group 2"/>
          <p:cNvGrpSpPr/>
          <p:nvPr/>
        </p:nvGrpSpPr>
        <p:grpSpPr>
          <a:xfrm>
            <a:off x="0" y="115920"/>
            <a:ext cx="9140760" cy="6548400"/>
            <a:chOff x="0" y="115920"/>
            <a:chExt cx="9140760" cy="6548400"/>
          </a:xfrm>
        </p:grpSpPr>
        <p:grpSp>
          <p:nvGrpSpPr>
            <p:cNvPr id="7339" name="Group 3"/>
            <p:cNvGrpSpPr/>
            <p:nvPr/>
          </p:nvGrpSpPr>
          <p:grpSpPr>
            <a:xfrm>
              <a:off x="0" y="115920"/>
              <a:ext cx="9140760" cy="6548400"/>
              <a:chOff x="0" y="115920"/>
              <a:chExt cx="9140760" cy="6548400"/>
            </a:xfrm>
          </p:grpSpPr>
          <p:sp>
            <p:nvSpPr>
              <p:cNvPr id="73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45" name="Picture 9"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ffffff"/>
              </a:solidFill>
              <a:latin typeface="Times New Roman"/>
            </a:endParaRPr>
          </a:p>
        </p:txBody>
      </p:sp>
      <p:grpSp>
        <p:nvGrpSpPr>
          <p:cNvPr id="7347" name="Group 2"/>
          <p:cNvGrpSpPr/>
          <p:nvPr/>
        </p:nvGrpSpPr>
        <p:grpSpPr>
          <a:xfrm>
            <a:off x="0" y="115920"/>
            <a:ext cx="9140760" cy="6548400"/>
            <a:chOff x="0" y="115920"/>
            <a:chExt cx="9140760" cy="6548400"/>
          </a:xfrm>
        </p:grpSpPr>
        <p:grpSp>
          <p:nvGrpSpPr>
            <p:cNvPr id="7348" name="Group 3"/>
            <p:cNvGrpSpPr/>
            <p:nvPr/>
          </p:nvGrpSpPr>
          <p:grpSpPr>
            <a:xfrm>
              <a:off x="0" y="115920"/>
              <a:ext cx="9140760" cy="6548400"/>
              <a:chOff x="0" y="115920"/>
              <a:chExt cx="9140760" cy="6548400"/>
            </a:xfrm>
          </p:grpSpPr>
          <p:sp>
            <p:nvSpPr>
              <p:cNvPr id="73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54" name="Picture 9"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ffffff"/>
              </a:solidFill>
              <a:latin typeface="Times New Roman"/>
            </a:endParaRPr>
          </a:p>
        </p:txBody>
      </p:sp>
      <p:grpSp>
        <p:nvGrpSpPr>
          <p:cNvPr id="7356" name="Group 2"/>
          <p:cNvGrpSpPr/>
          <p:nvPr/>
        </p:nvGrpSpPr>
        <p:grpSpPr>
          <a:xfrm>
            <a:off x="0" y="115920"/>
            <a:ext cx="9140760" cy="6548400"/>
            <a:chOff x="0" y="115920"/>
            <a:chExt cx="9140760" cy="6548400"/>
          </a:xfrm>
        </p:grpSpPr>
        <p:grpSp>
          <p:nvGrpSpPr>
            <p:cNvPr id="7357" name="Group 3"/>
            <p:cNvGrpSpPr/>
            <p:nvPr/>
          </p:nvGrpSpPr>
          <p:grpSpPr>
            <a:xfrm>
              <a:off x="0" y="115920"/>
              <a:ext cx="9140760" cy="6548400"/>
              <a:chOff x="0" y="115920"/>
              <a:chExt cx="9140760" cy="6548400"/>
            </a:xfrm>
          </p:grpSpPr>
          <p:sp>
            <p:nvSpPr>
              <p:cNvPr id="73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63" name="Picture 9"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4" name="Text Box 1"/>
          <p:cNvSpPr/>
          <p:nvPr/>
        </p:nvSpPr>
        <p:spPr>
          <a:xfrm>
            <a:off x="468360" y="1052640"/>
            <a:ext cx="849636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7365" name="Group 2"/>
          <p:cNvGrpSpPr/>
          <p:nvPr/>
        </p:nvGrpSpPr>
        <p:grpSpPr>
          <a:xfrm>
            <a:off x="0" y="115920"/>
            <a:ext cx="9140760" cy="6548400"/>
            <a:chOff x="0" y="115920"/>
            <a:chExt cx="9140760" cy="6548400"/>
          </a:xfrm>
        </p:grpSpPr>
        <p:grpSp>
          <p:nvGrpSpPr>
            <p:cNvPr id="7366" name="Group 3"/>
            <p:cNvGrpSpPr/>
            <p:nvPr/>
          </p:nvGrpSpPr>
          <p:grpSpPr>
            <a:xfrm>
              <a:off x="0" y="115920"/>
              <a:ext cx="9140760" cy="6548400"/>
              <a:chOff x="0" y="115920"/>
              <a:chExt cx="9140760" cy="6548400"/>
            </a:xfrm>
          </p:grpSpPr>
          <p:sp>
            <p:nvSpPr>
              <p:cNvPr id="73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2"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0" y="1392120"/>
            <a:ext cx="874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ffffff"/>
              </a:solidFill>
              <a:latin typeface="Times New Roman"/>
            </a:endParaRPr>
          </a:p>
        </p:txBody>
      </p:sp>
      <p:grpSp>
        <p:nvGrpSpPr>
          <p:cNvPr id="7374" name="Group 2"/>
          <p:cNvGrpSpPr/>
          <p:nvPr/>
        </p:nvGrpSpPr>
        <p:grpSpPr>
          <a:xfrm>
            <a:off x="0" y="115920"/>
            <a:ext cx="9140760" cy="6548400"/>
            <a:chOff x="0" y="115920"/>
            <a:chExt cx="9140760" cy="6548400"/>
          </a:xfrm>
        </p:grpSpPr>
        <p:grpSp>
          <p:nvGrpSpPr>
            <p:cNvPr id="7375" name="Group 3"/>
            <p:cNvGrpSpPr/>
            <p:nvPr/>
          </p:nvGrpSpPr>
          <p:grpSpPr>
            <a:xfrm>
              <a:off x="0" y="115920"/>
              <a:ext cx="9140760" cy="6548400"/>
              <a:chOff x="0" y="115920"/>
              <a:chExt cx="9140760" cy="6548400"/>
            </a:xfrm>
          </p:grpSpPr>
          <p:sp>
            <p:nvSpPr>
              <p:cNvPr id="73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1" name="Picture 9"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2"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ffffff"/>
              </a:solidFill>
              <a:latin typeface="Times New Roman"/>
            </a:endParaRPr>
          </a:p>
        </p:txBody>
      </p:sp>
      <p:grpSp>
        <p:nvGrpSpPr>
          <p:cNvPr id="7383" name="Group 2"/>
          <p:cNvGrpSpPr/>
          <p:nvPr/>
        </p:nvGrpSpPr>
        <p:grpSpPr>
          <a:xfrm>
            <a:off x="0" y="115920"/>
            <a:ext cx="9140760" cy="6548400"/>
            <a:chOff x="0" y="115920"/>
            <a:chExt cx="9140760" cy="6548400"/>
          </a:xfrm>
        </p:grpSpPr>
        <p:grpSp>
          <p:nvGrpSpPr>
            <p:cNvPr id="7384" name="Group 3"/>
            <p:cNvGrpSpPr/>
            <p:nvPr/>
          </p:nvGrpSpPr>
          <p:grpSpPr>
            <a:xfrm>
              <a:off x="0" y="115920"/>
              <a:ext cx="9140760" cy="6548400"/>
              <a:chOff x="0" y="115920"/>
              <a:chExt cx="9140760" cy="6548400"/>
            </a:xfrm>
          </p:grpSpPr>
          <p:sp>
            <p:nvSpPr>
              <p:cNvPr id="73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90" name="Picture 9"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1"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ffffff"/>
              </a:solidFill>
              <a:latin typeface="Times New Roman"/>
            </a:endParaRPr>
          </a:p>
        </p:txBody>
      </p:sp>
      <p:grpSp>
        <p:nvGrpSpPr>
          <p:cNvPr id="7392" name="Group 2"/>
          <p:cNvGrpSpPr/>
          <p:nvPr/>
        </p:nvGrpSpPr>
        <p:grpSpPr>
          <a:xfrm>
            <a:off x="0" y="115920"/>
            <a:ext cx="9140760" cy="6548400"/>
            <a:chOff x="0" y="115920"/>
            <a:chExt cx="9140760" cy="6548400"/>
          </a:xfrm>
        </p:grpSpPr>
        <p:grpSp>
          <p:nvGrpSpPr>
            <p:cNvPr id="7393" name="Group 3"/>
            <p:cNvGrpSpPr/>
            <p:nvPr/>
          </p:nvGrpSpPr>
          <p:grpSpPr>
            <a:xfrm>
              <a:off x="0" y="115920"/>
              <a:ext cx="9140760" cy="6548400"/>
              <a:chOff x="0" y="115920"/>
              <a:chExt cx="9140760" cy="6548400"/>
            </a:xfrm>
          </p:grpSpPr>
          <p:sp>
            <p:nvSpPr>
              <p:cNvPr id="73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99" name="Picture 9"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0"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ffffff"/>
              </a:solidFill>
              <a:latin typeface="Times New Roman"/>
            </a:endParaRPr>
          </a:p>
        </p:txBody>
      </p:sp>
      <p:grpSp>
        <p:nvGrpSpPr>
          <p:cNvPr id="7401" name="Group 2"/>
          <p:cNvGrpSpPr/>
          <p:nvPr/>
        </p:nvGrpSpPr>
        <p:grpSpPr>
          <a:xfrm>
            <a:off x="0" y="115920"/>
            <a:ext cx="9140760" cy="6548400"/>
            <a:chOff x="0" y="115920"/>
            <a:chExt cx="9140760" cy="6548400"/>
          </a:xfrm>
        </p:grpSpPr>
        <p:grpSp>
          <p:nvGrpSpPr>
            <p:cNvPr id="7402" name="Group 3"/>
            <p:cNvGrpSpPr/>
            <p:nvPr/>
          </p:nvGrpSpPr>
          <p:grpSpPr>
            <a:xfrm>
              <a:off x="0" y="115920"/>
              <a:ext cx="9140760" cy="6548400"/>
              <a:chOff x="0" y="115920"/>
              <a:chExt cx="9140760" cy="6548400"/>
            </a:xfrm>
          </p:grpSpPr>
          <p:sp>
            <p:nvSpPr>
              <p:cNvPr id="74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08" name="Picture 9"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9" name="Text Box 1"/>
          <p:cNvSpPr/>
          <p:nvPr/>
        </p:nvSpPr>
        <p:spPr>
          <a:xfrm>
            <a:off x="53964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ffffff"/>
              </a:solidFill>
              <a:latin typeface="Times New Roman"/>
            </a:endParaRPr>
          </a:p>
        </p:txBody>
      </p:sp>
      <p:grpSp>
        <p:nvGrpSpPr>
          <p:cNvPr id="7410" name="Group 2"/>
          <p:cNvGrpSpPr/>
          <p:nvPr/>
        </p:nvGrpSpPr>
        <p:grpSpPr>
          <a:xfrm>
            <a:off x="0" y="115920"/>
            <a:ext cx="9140760" cy="6548400"/>
            <a:chOff x="0" y="115920"/>
            <a:chExt cx="9140760" cy="6548400"/>
          </a:xfrm>
        </p:grpSpPr>
        <p:grpSp>
          <p:nvGrpSpPr>
            <p:cNvPr id="7411" name="Group 3"/>
            <p:cNvGrpSpPr/>
            <p:nvPr/>
          </p:nvGrpSpPr>
          <p:grpSpPr>
            <a:xfrm>
              <a:off x="0" y="115920"/>
              <a:ext cx="9140760" cy="6548400"/>
              <a:chOff x="0" y="115920"/>
              <a:chExt cx="9140760" cy="6548400"/>
            </a:xfrm>
          </p:grpSpPr>
          <p:sp>
            <p:nvSpPr>
              <p:cNvPr id="74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17" name="Picture 9"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ffffff"/>
              </a:solidFill>
              <a:latin typeface="Times New Roman"/>
            </a:endParaRPr>
          </a:p>
        </p:txBody>
      </p:sp>
      <p:grpSp>
        <p:nvGrpSpPr>
          <p:cNvPr id="7419" name="Group 2"/>
          <p:cNvGrpSpPr/>
          <p:nvPr/>
        </p:nvGrpSpPr>
        <p:grpSpPr>
          <a:xfrm>
            <a:off x="0" y="115920"/>
            <a:ext cx="9140760" cy="6548400"/>
            <a:chOff x="0" y="115920"/>
            <a:chExt cx="9140760" cy="6548400"/>
          </a:xfrm>
        </p:grpSpPr>
        <p:grpSp>
          <p:nvGrpSpPr>
            <p:cNvPr id="7420" name="Group 3"/>
            <p:cNvGrpSpPr/>
            <p:nvPr/>
          </p:nvGrpSpPr>
          <p:grpSpPr>
            <a:xfrm>
              <a:off x="0" y="115920"/>
              <a:ext cx="9140760" cy="6548400"/>
              <a:chOff x="0" y="115920"/>
              <a:chExt cx="9140760" cy="6548400"/>
            </a:xfrm>
          </p:grpSpPr>
          <p:sp>
            <p:nvSpPr>
              <p:cNvPr id="74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26" name="Picture 9"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ffffff"/>
              </a:solidFill>
              <a:latin typeface="Times New Roman"/>
            </a:endParaRPr>
          </a:p>
        </p:txBody>
      </p:sp>
      <p:grpSp>
        <p:nvGrpSpPr>
          <p:cNvPr id="7428" name="Group 2"/>
          <p:cNvGrpSpPr/>
          <p:nvPr/>
        </p:nvGrpSpPr>
        <p:grpSpPr>
          <a:xfrm>
            <a:off x="0" y="115920"/>
            <a:ext cx="9140760" cy="6548400"/>
            <a:chOff x="0" y="115920"/>
            <a:chExt cx="9140760" cy="6548400"/>
          </a:xfrm>
        </p:grpSpPr>
        <p:grpSp>
          <p:nvGrpSpPr>
            <p:cNvPr id="7429" name="Group 3"/>
            <p:cNvGrpSpPr/>
            <p:nvPr/>
          </p:nvGrpSpPr>
          <p:grpSpPr>
            <a:xfrm>
              <a:off x="0" y="115920"/>
              <a:ext cx="9140760" cy="6548400"/>
              <a:chOff x="0" y="115920"/>
              <a:chExt cx="9140760" cy="6548400"/>
            </a:xfrm>
          </p:grpSpPr>
          <p:sp>
            <p:nvSpPr>
              <p:cNvPr id="74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35" name="Picture 9"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ffffff"/>
              </a:solidFill>
              <a:latin typeface="Times New Roman"/>
            </a:endParaRPr>
          </a:p>
        </p:txBody>
      </p:sp>
      <p:grpSp>
        <p:nvGrpSpPr>
          <p:cNvPr id="7437" name="Group 2"/>
          <p:cNvGrpSpPr/>
          <p:nvPr/>
        </p:nvGrpSpPr>
        <p:grpSpPr>
          <a:xfrm>
            <a:off x="0" y="115920"/>
            <a:ext cx="9140760" cy="6548400"/>
            <a:chOff x="0" y="115920"/>
            <a:chExt cx="9140760" cy="6548400"/>
          </a:xfrm>
        </p:grpSpPr>
        <p:grpSp>
          <p:nvGrpSpPr>
            <p:cNvPr id="7438" name="Group 3"/>
            <p:cNvGrpSpPr/>
            <p:nvPr/>
          </p:nvGrpSpPr>
          <p:grpSpPr>
            <a:xfrm>
              <a:off x="0" y="115920"/>
              <a:ext cx="9140760" cy="6548400"/>
              <a:chOff x="0" y="115920"/>
              <a:chExt cx="9140760" cy="6548400"/>
            </a:xfrm>
          </p:grpSpPr>
          <p:sp>
            <p:nvSpPr>
              <p:cNvPr id="74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44" name="Picture 9"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5" name="Text Box 1"/>
          <p:cNvSpPr/>
          <p:nvPr/>
        </p:nvSpPr>
        <p:spPr>
          <a:xfrm>
            <a:off x="611280" y="1392120"/>
            <a:ext cx="8281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ffffff"/>
              </a:solidFill>
              <a:latin typeface="Times New Roman"/>
            </a:endParaRPr>
          </a:p>
        </p:txBody>
      </p:sp>
      <p:grpSp>
        <p:nvGrpSpPr>
          <p:cNvPr id="7446" name="Group 2"/>
          <p:cNvGrpSpPr/>
          <p:nvPr/>
        </p:nvGrpSpPr>
        <p:grpSpPr>
          <a:xfrm>
            <a:off x="0" y="115920"/>
            <a:ext cx="9140760" cy="6548400"/>
            <a:chOff x="0" y="115920"/>
            <a:chExt cx="9140760" cy="6548400"/>
          </a:xfrm>
        </p:grpSpPr>
        <p:grpSp>
          <p:nvGrpSpPr>
            <p:cNvPr id="7447" name="Group 3"/>
            <p:cNvGrpSpPr/>
            <p:nvPr/>
          </p:nvGrpSpPr>
          <p:grpSpPr>
            <a:xfrm>
              <a:off x="0" y="115920"/>
              <a:ext cx="9140760" cy="6548400"/>
              <a:chOff x="0" y="115920"/>
              <a:chExt cx="9140760" cy="6548400"/>
            </a:xfrm>
          </p:grpSpPr>
          <p:sp>
            <p:nvSpPr>
              <p:cNvPr id="74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53" name="Picture 9"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ffffff"/>
              </a:solidFill>
              <a:latin typeface="Times New Roman"/>
            </a:endParaRPr>
          </a:p>
        </p:txBody>
      </p:sp>
      <p:grpSp>
        <p:nvGrpSpPr>
          <p:cNvPr id="7455" name="Group 2"/>
          <p:cNvGrpSpPr/>
          <p:nvPr/>
        </p:nvGrpSpPr>
        <p:grpSpPr>
          <a:xfrm>
            <a:off x="0" y="115920"/>
            <a:ext cx="9140760" cy="6548400"/>
            <a:chOff x="0" y="115920"/>
            <a:chExt cx="9140760" cy="6548400"/>
          </a:xfrm>
        </p:grpSpPr>
        <p:grpSp>
          <p:nvGrpSpPr>
            <p:cNvPr id="7456" name="Group 3"/>
            <p:cNvGrpSpPr/>
            <p:nvPr/>
          </p:nvGrpSpPr>
          <p:grpSpPr>
            <a:xfrm>
              <a:off x="0" y="115920"/>
              <a:ext cx="9140760" cy="6548400"/>
              <a:chOff x="0" y="115920"/>
              <a:chExt cx="9140760" cy="6548400"/>
            </a:xfrm>
          </p:grpSpPr>
          <p:sp>
            <p:nvSpPr>
              <p:cNvPr id="74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2"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3"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464" name="Picture 2" descr=""/>
          <p:cNvPicPr/>
          <p:nvPr/>
        </p:nvPicPr>
        <p:blipFill>
          <a:blip r:embed="rId1"/>
          <a:stretch/>
        </p:blipFill>
        <p:spPr>
          <a:xfrm>
            <a:off x="0" y="0"/>
            <a:ext cx="9144000" cy="1368360"/>
          </a:xfrm>
          <a:prstGeom prst="rect">
            <a:avLst/>
          </a:prstGeom>
          <a:ln w="0">
            <a:noFill/>
          </a:ln>
        </p:spPr>
      </p:pic>
      <p:pic>
        <p:nvPicPr>
          <p:cNvPr id="7465" name="Picture 3" descr=""/>
          <p:cNvPicPr/>
          <p:nvPr/>
        </p:nvPicPr>
        <p:blipFill>
          <a:blip r:embed="rId2"/>
          <a:stretch/>
        </p:blipFill>
        <p:spPr>
          <a:xfrm>
            <a:off x="1258920" y="2060640"/>
            <a:ext cx="1297080" cy="1528560"/>
          </a:xfrm>
          <a:prstGeom prst="rect">
            <a:avLst/>
          </a:prstGeom>
          <a:ln w="0">
            <a:noFill/>
          </a:ln>
        </p:spPr>
      </p:pic>
      <p:pic>
        <p:nvPicPr>
          <p:cNvPr id="7466" name="Picture 4" descr=""/>
          <p:cNvPicPr/>
          <p:nvPr/>
        </p:nvPicPr>
        <p:blipFill>
          <a:blip r:embed="rId3"/>
          <a:stretch/>
        </p:blipFill>
        <p:spPr>
          <a:xfrm>
            <a:off x="6948360" y="1989000"/>
            <a:ext cx="1444680" cy="1573200"/>
          </a:xfrm>
          <a:prstGeom prst="rect">
            <a:avLst/>
          </a:prstGeom>
          <a:ln w="0">
            <a:noFill/>
          </a:ln>
        </p:spPr>
      </p:pic>
      <p:sp>
        <p:nvSpPr>
          <p:cNvPr id="7467"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7468"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900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341360"/>
            <a:ext cx="7845480" cy="4751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br>
              <a:rPr sz="2800"/>
            </a:b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a:t>
            </a:r>
            <a:br>
              <a:rPr sz="2800"/>
            </a:br>
            <a:r>
              <a:rPr b="1" lang="el-GR" sz="2800" spc="-1" strike="noStrike">
                <a:solidFill>
                  <a:srgbClr val="000000"/>
                </a:solidFill>
                <a:latin typeface="Times New Roman"/>
              </a:rPr>
              <a:t>(one-track approach)</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611280" y="907920"/>
            <a:ext cx="828180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611280" y="907920"/>
            <a:ext cx="828180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η δεύτερη κατηγορία, </a:t>
            </a:r>
            <a:br>
              <a:rPr sz="2800"/>
            </a:br>
            <a:r>
              <a:rPr b="1" lang="el-GR" sz="2800" spc="-1" strike="noStrike">
                <a:solidFill>
                  <a:srgbClr val="000000"/>
                </a:solidFill>
                <a:latin typeface="Times New Roman"/>
              </a:rPr>
              <a:t>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a:t>
            </a:r>
            <a:br>
              <a:rPr sz="2800"/>
            </a:br>
            <a:r>
              <a:rPr b="0" lang="el-GR" sz="2800" spc="-1" strike="noStrike">
                <a:solidFill>
                  <a:srgbClr val="000000"/>
                </a:solidFill>
                <a:latin typeface="Times New Roman"/>
              </a:rPr>
              <a:t>φοιτούν τόσο σε γενικές τάξεις όσο και </a:t>
            </a:r>
            <a:br>
              <a:rPr sz="2800"/>
            </a:br>
            <a:r>
              <a:rPr b="0" lang="el-GR" sz="2800" spc="-1" strike="noStrike">
                <a:solidFill>
                  <a:srgbClr val="000000"/>
                </a:solidFill>
                <a:latin typeface="Times New Roman"/>
              </a:rPr>
              <a:t>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981000"/>
            <a:ext cx="76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έλος, στην κατηγορία</a:t>
            </a:r>
            <a:br>
              <a:rPr sz="2800"/>
            </a:br>
            <a:r>
              <a:rPr b="1" lang="el-GR" sz="2800" spc="-1" strike="noStrike">
                <a:solidFill>
                  <a:srgbClr val="000000"/>
                </a:solidFill>
                <a:latin typeface="Times New Roman"/>
              </a:rPr>
              <a:t>μοντέλων πολλαπλών διαδρομών</a:t>
            </a:r>
            <a:br>
              <a:rPr sz="2800"/>
            </a:br>
            <a:r>
              <a:rPr b="1" lang="el-GR" sz="2800" spc="-1" strike="noStrike">
                <a:solidFill>
                  <a:srgbClr val="000000"/>
                </a:solidFill>
                <a:latin typeface="Times New Roman"/>
              </a:rPr>
              <a:t> (multi-track approach)</a:t>
            </a:r>
            <a:br>
              <a:rPr sz="2800"/>
            </a:br>
            <a:r>
              <a:rPr b="0" lang="el-GR" sz="2800" spc="-1" strike="noStrike">
                <a:solidFill>
                  <a:srgbClr val="000000"/>
                </a:solidFill>
                <a:latin typeface="Times New Roman"/>
              </a:rPr>
              <a:t>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981000"/>
            <a:ext cx="76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981000"/>
            <a:ext cx="8101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395280" y="981000"/>
            <a:ext cx="8497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395280" y="1052640"/>
            <a:ext cx="8064360" cy="473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684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250920" y="1125360"/>
            <a:ext cx="864216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250920" y="981000"/>
            <a:ext cx="8497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250920" y="981000"/>
            <a:ext cx="8497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395280" y="1052640"/>
            <a:ext cx="8064360" cy="473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a:t>
            </a:r>
            <a:br>
              <a:rPr sz="2800"/>
            </a:br>
            <a:r>
              <a:rPr b="0" lang="el-GR" sz="2800" spc="-1" strike="noStrike">
                <a:solidFill>
                  <a:srgbClr val="000000"/>
                </a:solidFill>
                <a:latin typeface="Times New Roman"/>
              </a:rPr>
              <a:t>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468360" y="981000"/>
            <a:ext cx="8424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468360" y="981000"/>
            <a:ext cx="8424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250920" y="1052640"/>
            <a:ext cx="871380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32400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32400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a:t>
            </a:r>
            <a:r>
              <a:rPr b="0" i="1" lang="el-GR" sz="2800" spc="-1" strike="noStrike">
                <a:solidFill>
                  <a:srgbClr val="000000"/>
                </a:solidFill>
                <a:latin typeface="Times New Roman"/>
              </a:rPr>
              <a:t>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a:t>
            </a: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250920" y="1052640"/>
            <a:ext cx="849780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32400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46836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a:t>
            </a:r>
            <a:r>
              <a:rPr b="0" i="1" lang="el-GR" sz="2800" spc="-1" strike="noStrike">
                <a:solidFill>
                  <a:srgbClr val="000000"/>
                </a:solidFill>
                <a:latin typeface="Times New Roman"/>
              </a:rPr>
              <a:t>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r>
              <a:rPr b="0" lang="el-GR" sz="2800" spc="-1" strike="noStrike">
                <a:solidFill>
                  <a:srgbClr val="000000"/>
                </a:solidFill>
                <a:latin typeface="Times New Roman"/>
              </a:rPr>
              <a:t>Τα διαφορετικά πλαίσια στήριξης </a:t>
            </a:r>
            <a:br>
              <a:rPr sz="2800"/>
            </a:br>
            <a:r>
              <a:rPr b="0" lang="el-GR" sz="2800" spc="-1" strike="noStrike">
                <a:solidFill>
                  <a:srgbClr val="000000"/>
                </a:solidFill>
                <a:latin typeface="Times New Roman"/>
              </a:rPr>
              <a:t>(π.</a:t>
            </a:r>
            <a:r>
              <a:rPr b="0" lang="en-US" sz="2800" spc="-1" strike="noStrike">
                <a:solidFill>
                  <a:srgbClr val="000000"/>
                </a:solidFill>
                <a:latin typeface="Times New Roman"/>
              </a:rPr>
              <a:t> </a:t>
            </a:r>
            <a:r>
              <a:rPr b="0" lang="el-GR" sz="2800" spc="-1" strike="noStrike">
                <a:solidFill>
                  <a:srgbClr val="000000"/>
                </a:solidFill>
                <a:latin typeface="Times New Roman"/>
              </a:rPr>
              <a:t>χ Ειδικές Τάξει(παλιότερα )ή Τμήματα Ένταξης </a:t>
            </a:r>
            <a:br>
              <a:rPr sz="2800"/>
            </a:br>
            <a:r>
              <a:rPr b="0" lang="el-GR" sz="2800" spc="-1" strike="noStrike">
                <a:solidFill>
                  <a:srgbClr val="000000"/>
                </a:solidFill>
                <a:latin typeface="Times New Roman"/>
              </a:rPr>
              <a:t>δεν λειτουργούν απαγορευτικά για την κοινωνική συνύπαρξη των μαθητών με αναπηρία.</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611280" y="1392120"/>
            <a:ext cx="7848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ffffff"/>
              </a:solidFill>
              <a:latin typeface="Times New Roman"/>
            </a:endParaRPr>
          </a:p>
        </p:txBody>
      </p:sp>
      <p:grpSp>
        <p:nvGrpSpPr>
          <p:cNvPr id="7014" name="Group 2"/>
          <p:cNvGrpSpPr/>
          <p:nvPr/>
        </p:nvGrpSpPr>
        <p:grpSpPr>
          <a:xfrm>
            <a:off x="0" y="115920"/>
            <a:ext cx="9140760" cy="6548400"/>
            <a:chOff x="0" y="115920"/>
            <a:chExt cx="9140760" cy="6548400"/>
          </a:xfrm>
        </p:grpSpPr>
        <p:grpSp>
          <p:nvGrpSpPr>
            <p:cNvPr id="7015" name="Group 3"/>
            <p:cNvGrpSpPr/>
            <p:nvPr/>
          </p:nvGrpSpPr>
          <p:grpSpPr>
            <a:xfrm>
              <a:off x="0" y="115920"/>
              <a:ext cx="9140760" cy="6548400"/>
              <a:chOff x="0" y="115920"/>
              <a:chExt cx="9140760" cy="6548400"/>
            </a:xfrm>
          </p:grpSpPr>
          <p:sp>
            <p:nvSpPr>
              <p:cNvPr id="70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1"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ffffff"/>
              </a:solidFill>
              <a:latin typeface="Times New Roman"/>
            </a:endParaRPr>
          </a:p>
        </p:txBody>
      </p:sp>
      <p:grpSp>
        <p:nvGrpSpPr>
          <p:cNvPr id="7023" name="Group 2"/>
          <p:cNvGrpSpPr/>
          <p:nvPr/>
        </p:nvGrpSpPr>
        <p:grpSpPr>
          <a:xfrm>
            <a:off x="0" y="115920"/>
            <a:ext cx="9140760" cy="6548400"/>
            <a:chOff x="0" y="115920"/>
            <a:chExt cx="9140760" cy="6548400"/>
          </a:xfrm>
        </p:grpSpPr>
        <p:grpSp>
          <p:nvGrpSpPr>
            <p:cNvPr id="7024" name="Group 3"/>
            <p:cNvGrpSpPr/>
            <p:nvPr/>
          </p:nvGrpSpPr>
          <p:grpSpPr>
            <a:xfrm>
              <a:off x="0" y="115920"/>
              <a:ext cx="9140760" cy="6548400"/>
              <a:chOff x="0" y="115920"/>
              <a:chExt cx="9140760" cy="6548400"/>
            </a:xfrm>
          </p:grpSpPr>
          <p:sp>
            <p:nvSpPr>
              <p:cNvPr id="70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0"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1"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ffffff"/>
              </a:solidFill>
              <a:latin typeface="Times New Roman"/>
            </a:endParaRPr>
          </a:p>
        </p:txBody>
      </p:sp>
      <p:grpSp>
        <p:nvGrpSpPr>
          <p:cNvPr id="7032" name="Group 2"/>
          <p:cNvGrpSpPr/>
          <p:nvPr/>
        </p:nvGrpSpPr>
        <p:grpSpPr>
          <a:xfrm>
            <a:off x="0" y="115920"/>
            <a:ext cx="9140760" cy="6548400"/>
            <a:chOff x="0" y="115920"/>
            <a:chExt cx="9140760" cy="6548400"/>
          </a:xfrm>
        </p:grpSpPr>
        <p:grpSp>
          <p:nvGrpSpPr>
            <p:cNvPr id="7033" name="Group 3"/>
            <p:cNvGrpSpPr/>
            <p:nvPr/>
          </p:nvGrpSpPr>
          <p:grpSpPr>
            <a:xfrm>
              <a:off x="0" y="115920"/>
              <a:ext cx="9140760" cy="6548400"/>
              <a:chOff x="0" y="115920"/>
              <a:chExt cx="9140760" cy="6548400"/>
            </a:xfrm>
          </p:grpSpPr>
          <p:sp>
            <p:nvSpPr>
              <p:cNvPr id="70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9"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ffffff"/>
              </a:solidFill>
              <a:latin typeface="Times New Roman"/>
            </a:endParaRPr>
          </a:p>
        </p:txBody>
      </p:sp>
      <p:grpSp>
        <p:nvGrpSpPr>
          <p:cNvPr id="7041" name="Group 2"/>
          <p:cNvGrpSpPr/>
          <p:nvPr/>
        </p:nvGrpSpPr>
        <p:grpSpPr>
          <a:xfrm>
            <a:off x="0" y="115920"/>
            <a:ext cx="9140760" cy="6548400"/>
            <a:chOff x="0" y="115920"/>
            <a:chExt cx="9140760" cy="6548400"/>
          </a:xfrm>
        </p:grpSpPr>
        <p:grpSp>
          <p:nvGrpSpPr>
            <p:cNvPr id="7042" name="Group 3"/>
            <p:cNvGrpSpPr/>
            <p:nvPr/>
          </p:nvGrpSpPr>
          <p:grpSpPr>
            <a:xfrm>
              <a:off x="0" y="115920"/>
              <a:ext cx="9140760" cy="6548400"/>
              <a:chOff x="0" y="115920"/>
              <a:chExt cx="9140760" cy="6548400"/>
            </a:xfrm>
          </p:grpSpPr>
          <p:sp>
            <p:nvSpPr>
              <p:cNvPr id="70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48"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9"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ffffff"/>
              </a:solidFill>
              <a:latin typeface="Times New Roman"/>
            </a:endParaRPr>
          </a:p>
        </p:txBody>
      </p:sp>
      <p:grpSp>
        <p:nvGrpSpPr>
          <p:cNvPr id="7050" name="Group 2"/>
          <p:cNvGrpSpPr/>
          <p:nvPr/>
        </p:nvGrpSpPr>
        <p:grpSpPr>
          <a:xfrm>
            <a:off x="0" y="115920"/>
            <a:ext cx="9140760" cy="6548400"/>
            <a:chOff x="0" y="115920"/>
            <a:chExt cx="9140760" cy="6548400"/>
          </a:xfrm>
        </p:grpSpPr>
        <p:grpSp>
          <p:nvGrpSpPr>
            <p:cNvPr id="7051" name="Group 3"/>
            <p:cNvGrpSpPr/>
            <p:nvPr/>
          </p:nvGrpSpPr>
          <p:grpSpPr>
            <a:xfrm>
              <a:off x="0" y="115920"/>
              <a:ext cx="9140760" cy="6548400"/>
              <a:chOff x="0" y="115920"/>
              <a:chExt cx="9140760" cy="6548400"/>
            </a:xfrm>
          </p:grpSpPr>
          <p:sp>
            <p:nvSpPr>
              <p:cNvPr id="70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57"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ffffff"/>
              </a:solidFill>
              <a:latin typeface="Times New Roman"/>
            </a:endParaRPr>
          </a:p>
        </p:txBody>
      </p:sp>
      <p:grpSp>
        <p:nvGrpSpPr>
          <p:cNvPr id="7059" name="Group 2"/>
          <p:cNvGrpSpPr/>
          <p:nvPr/>
        </p:nvGrpSpPr>
        <p:grpSpPr>
          <a:xfrm>
            <a:off x="0" y="115920"/>
            <a:ext cx="9140760" cy="6548400"/>
            <a:chOff x="0" y="115920"/>
            <a:chExt cx="9140760" cy="6548400"/>
          </a:xfrm>
        </p:grpSpPr>
        <p:grpSp>
          <p:nvGrpSpPr>
            <p:cNvPr id="7060" name="Group 3"/>
            <p:cNvGrpSpPr/>
            <p:nvPr/>
          </p:nvGrpSpPr>
          <p:grpSpPr>
            <a:xfrm>
              <a:off x="0" y="115920"/>
              <a:ext cx="9140760" cy="6548400"/>
              <a:chOff x="0" y="115920"/>
              <a:chExt cx="9140760" cy="6548400"/>
            </a:xfrm>
          </p:grpSpPr>
          <p:sp>
            <p:nvSpPr>
              <p:cNvPr id="70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66"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7"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ffffff"/>
              </a:solidFill>
              <a:latin typeface="Times New Roman"/>
            </a:endParaRPr>
          </a:p>
        </p:txBody>
      </p:sp>
      <p:grpSp>
        <p:nvGrpSpPr>
          <p:cNvPr id="7068" name="Group 2"/>
          <p:cNvGrpSpPr/>
          <p:nvPr/>
        </p:nvGrpSpPr>
        <p:grpSpPr>
          <a:xfrm>
            <a:off x="0" y="115920"/>
            <a:ext cx="9140760" cy="6548400"/>
            <a:chOff x="0" y="115920"/>
            <a:chExt cx="9140760" cy="6548400"/>
          </a:xfrm>
        </p:grpSpPr>
        <p:grpSp>
          <p:nvGrpSpPr>
            <p:cNvPr id="7069" name="Group 3"/>
            <p:cNvGrpSpPr/>
            <p:nvPr/>
          </p:nvGrpSpPr>
          <p:grpSpPr>
            <a:xfrm>
              <a:off x="0" y="115920"/>
              <a:ext cx="9140760" cy="6548400"/>
              <a:chOff x="0" y="115920"/>
              <a:chExt cx="9140760" cy="6548400"/>
            </a:xfrm>
          </p:grpSpPr>
          <p:sp>
            <p:nvSpPr>
              <p:cNvPr id="70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75"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ffffff"/>
              </a:solidFill>
              <a:latin typeface="Times New Roman"/>
            </a:endParaRPr>
          </a:p>
        </p:txBody>
      </p:sp>
      <p:grpSp>
        <p:nvGrpSpPr>
          <p:cNvPr id="7077" name="Group 2"/>
          <p:cNvGrpSpPr/>
          <p:nvPr/>
        </p:nvGrpSpPr>
        <p:grpSpPr>
          <a:xfrm>
            <a:off x="0" y="115920"/>
            <a:ext cx="9140760" cy="6548400"/>
            <a:chOff x="0" y="115920"/>
            <a:chExt cx="9140760" cy="6548400"/>
          </a:xfrm>
        </p:grpSpPr>
        <p:grpSp>
          <p:nvGrpSpPr>
            <p:cNvPr id="7078" name="Group 3"/>
            <p:cNvGrpSpPr/>
            <p:nvPr/>
          </p:nvGrpSpPr>
          <p:grpSpPr>
            <a:xfrm>
              <a:off x="0" y="115920"/>
              <a:ext cx="9140760" cy="6548400"/>
              <a:chOff x="0" y="115920"/>
              <a:chExt cx="9140760" cy="6548400"/>
            </a:xfrm>
          </p:grpSpPr>
          <p:sp>
            <p:nvSpPr>
              <p:cNvPr id="70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84"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ffffff"/>
              </a:solidFill>
              <a:latin typeface="Times New Roman"/>
            </a:endParaRPr>
          </a:p>
        </p:txBody>
      </p:sp>
      <p:grpSp>
        <p:nvGrpSpPr>
          <p:cNvPr id="7086" name="Group 2"/>
          <p:cNvGrpSpPr/>
          <p:nvPr/>
        </p:nvGrpSpPr>
        <p:grpSpPr>
          <a:xfrm>
            <a:off x="0" y="115920"/>
            <a:ext cx="9140760" cy="6548400"/>
            <a:chOff x="0" y="115920"/>
            <a:chExt cx="9140760" cy="6548400"/>
          </a:xfrm>
        </p:grpSpPr>
        <p:grpSp>
          <p:nvGrpSpPr>
            <p:cNvPr id="7087" name="Group 3"/>
            <p:cNvGrpSpPr/>
            <p:nvPr/>
          </p:nvGrpSpPr>
          <p:grpSpPr>
            <a:xfrm>
              <a:off x="0" y="115920"/>
              <a:ext cx="9140760" cy="6548400"/>
              <a:chOff x="0" y="115920"/>
              <a:chExt cx="9140760" cy="6548400"/>
            </a:xfrm>
          </p:grpSpPr>
          <p:sp>
            <p:nvSpPr>
              <p:cNvPr id="70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93" name="Picture 9"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ffffff"/>
              </a:solidFill>
              <a:latin typeface="Times New Roman"/>
            </a:endParaRPr>
          </a:p>
        </p:txBody>
      </p:sp>
      <p:grpSp>
        <p:nvGrpSpPr>
          <p:cNvPr id="7095" name="Group 2"/>
          <p:cNvGrpSpPr/>
          <p:nvPr/>
        </p:nvGrpSpPr>
        <p:grpSpPr>
          <a:xfrm>
            <a:off x="0" y="115920"/>
            <a:ext cx="9140760" cy="6548400"/>
            <a:chOff x="0" y="115920"/>
            <a:chExt cx="9140760" cy="6548400"/>
          </a:xfrm>
        </p:grpSpPr>
        <p:grpSp>
          <p:nvGrpSpPr>
            <p:cNvPr id="7096" name="Group 3"/>
            <p:cNvGrpSpPr/>
            <p:nvPr/>
          </p:nvGrpSpPr>
          <p:grpSpPr>
            <a:xfrm>
              <a:off x="0" y="115920"/>
              <a:ext cx="9140760" cy="6548400"/>
              <a:chOff x="0" y="115920"/>
              <a:chExt cx="9140760" cy="6548400"/>
            </a:xfrm>
          </p:grpSpPr>
          <p:sp>
            <p:nvSpPr>
              <p:cNvPr id="70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ffffff"/>
              </a:solidFill>
              <a:latin typeface="Times New Roman"/>
            </a:endParaRPr>
          </a:p>
        </p:txBody>
      </p:sp>
      <p:grpSp>
        <p:nvGrpSpPr>
          <p:cNvPr id="7104" name="Group 2"/>
          <p:cNvGrpSpPr/>
          <p:nvPr/>
        </p:nvGrpSpPr>
        <p:grpSpPr>
          <a:xfrm>
            <a:off x="0" y="115920"/>
            <a:ext cx="9140760" cy="6548400"/>
            <a:chOff x="0" y="115920"/>
            <a:chExt cx="9140760" cy="6548400"/>
          </a:xfrm>
        </p:grpSpPr>
        <p:grpSp>
          <p:nvGrpSpPr>
            <p:cNvPr id="7105" name="Group 3"/>
            <p:cNvGrpSpPr/>
            <p:nvPr/>
          </p:nvGrpSpPr>
          <p:grpSpPr>
            <a:xfrm>
              <a:off x="0" y="115920"/>
              <a:ext cx="9140760" cy="6548400"/>
              <a:chOff x="0" y="115920"/>
              <a:chExt cx="9140760" cy="6548400"/>
            </a:xfrm>
          </p:grpSpPr>
          <p:sp>
            <p:nvSpPr>
              <p:cNvPr id="71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1" name="Picture 9"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ffffff"/>
              </a:solidFill>
              <a:latin typeface="Times New Roman"/>
            </a:endParaRPr>
          </a:p>
        </p:txBody>
      </p:sp>
      <p:grpSp>
        <p:nvGrpSpPr>
          <p:cNvPr id="7113" name="Group 2"/>
          <p:cNvGrpSpPr/>
          <p:nvPr/>
        </p:nvGrpSpPr>
        <p:grpSpPr>
          <a:xfrm>
            <a:off x="0" y="115920"/>
            <a:ext cx="9140760" cy="6548400"/>
            <a:chOff x="0" y="115920"/>
            <a:chExt cx="9140760" cy="6548400"/>
          </a:xfrm>
        </p:grpSpPr>
        <p:grpSp>
          <p:nvGrpSpPr>
            <p:cNvPr id="7114" name="Group 3"/>
            <p:cNvGrpSpPr/>
            <p:nvPr/>
          </p:nvGrpSpPr>
          <p:grpSpPr>
            <a:xfrm>
              <a:off x="0" y="115920"/>
              <a:ext cx="9140760" cy="6548400"/>
              <a:chOff x="0" y="115920"/>
              <a:chExt cx="9140760" cy="6548400"/>
            </a:xfrm>
          </p:grpSpPr>
          <p:sp>
            <p:nvSpPr>
              <p:cNvPr id="71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0" name="Picture 9"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1" name="Text Box 1"/>
          <p:cNvSpPr/>
          <p:nvPr/>
        </p:nvSpPr>
        <p:spPr>
          <a:xfrm>
            <a:off x="611280" y="1413000"/>
            <a:ext cx="820872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ffffff"/>
              </a:solidFill>
              <a:latin typeface="Times New Roman"/>
            </a:endParaRPr>
          </a:p>
        </p:txBody>
      </p:sp>
      <p:grpSp>
        <p:nvGrpSpPr>
          <p:cNvPr id="7122" name="Group 2"/>
          <p:cNvGrpSpPr/>
          <p:nvPr/>
        </p:nvGrpSpPr>
        <p:grpSpPr>
          <a:xfrm>
            <a:off x="0" y="115920"/>
            <a:ext cx="9140760" cy="6548400"/>
            <a:chOff x="0" y="115920"/>
            <a:chExt cx="9140760" cy="6548400"/>
          </a:xfrm>
        </p:grpSpPr>
        <p:grpSp>
          <p:nvGrpSpPr>
            <p:cNvPr id="7123" name="Group 3"/>
            <p:cNvGrpSpPr/>
            <p:nvPr/>
          </p:nvGrpSpPr>
          <p:grpSpPr>
            <a:xfrm>
              <a:off x="0" y="115920"/>
              <a:ext cx="9140760" cy="6548400"/>
              <a:chOff x="0" y="115920"/>
              <a:chExt cx="9140760" cy="6548400"/>
            </a:xfrm>
          </p:grpSpPr>
          <p:sp>
            <p:nvSpPr>
              <p:cNvPr id="71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9" name="Picture 9"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ffffff"/>
              </a:solidFill>
              <a:latin typeface="Times New Roman"/>
            </a:endParaRPr>
          </a:p>
        </p:txBody>
      </p:sp>
      <p:grpSp>
        <p:nvGrpSpPr>
          <p:cNvPr id="7131" name="Group 2"/>
          <p:cNvGrpSpPr/>
          <p:nvPr/>
        </p:nvGrpSpPr>
        <p:grpSpPr>
          <a:xfrm>
            <a:off x="0" y="115920"/>
            <a:ext cx="9140760" cy="6548400"/>
            <a:chOff x="0" y="115920"/>
            <a:chExt cx="9140760" cy="6548400"/>
          </a:xfrm>
        </p:grpSpPr>
        <p:grpSp>
          <p:nvGrpSpPr>
            <p:cNvPr id="7132" name="Group 3"/>
            <p:cNvGrpSpPr/>
            <p:nvPr/>
          </p:nvGrpSpPr>
          <p:grpSpPr>
            <a:xfrm>
              <a:off x="0" y="115920"/>
              <a:ext cx="9140760" cy="6548400"/>
              <a:chOff x="0" y="115920"/>
              <a:chExt cx="9140760" cy="6548400"/>
            </a:xfrm>
          </p:grpSpPr>
          <p:sp>
            <p:nvSpPr>
              <p:cNvPr id="71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38" name="Picture 9"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ffffff"/>
              </a:solidFill>
              <a:latin typeface="Times New Roman"/>
            </a:endParaRPr>
          </a:p>
        </p:txBody>
      </p:sp>
      <p:grpSp>
        <p:nvGrpSpPr>
          <p:cNvPr id="7140" name="Group 2"/>
          <p:cNvGrpSpPr/>
          <p:nvPr/>
        </p:nvGrpSpPr>
        <p:grpSpPr>
          <a:xfrm>
            <a:off x="0" y="115920"/>
            <a:ext cx="9140760" cy="6548400"/>
            <a:chOff x="0" y="115920"/>
            <a:chExt cx="9140760" cy="6548400"/>
          </a:xfrm>
        </p:grpSpPr>
        <p:grpSp>
          <p:nvGrpSpPr>
            <p:cNvPr id="7141" name="Group 3"/>
            <p:cNvGrpSpPr/>
            <p:nvPr/>
          </p:nvGrpSpPr>
          <p:grpSpPr>
            <a:xfrm>
              <a:off x="0" y="115920"/>
              <a:ext cx="9140760" cy="6548400"/>
              <a:chOff x="0" y="115920"/>
              <a:chExt cx="9140760" cy="6548400"/>
            </a:xfrm>
          </p:grpSpPr>
          <p:sp>
            <p:nvSpPr>
              <p:cNvPr id="71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47" name="Picture 9"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8" name="Text Box 1"/>
          <p:cNvSpPr/>
          <p:nvPr/>
        </p:nvSpPr>
        <p:spPr>
          <a:xfrm>
            <a:off x="539640" y="836640"/>
            <a:ext cx="8280360" cy="4948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ffffff"/>
              </a:solidFill>
              <a:latin typeface="Times New Roman"/>
            </a:endParaRPr>
          </a:p>
        </p:txBody>
      </p:sp>
      <p:grpSp>
        <p:nvGrpSpPr>
          <p:cNvPr id="7149" name="Group 2"/>
          <p:cNvGrpSpPr/>
          <p:nvPr/>
        </p:nvGrpSpPr>
        <p:grpSpPr>
          <a:xfrm>
            <a:off x="0" y="115920"/>
            <a:ext cx="9140760" cy="6548400"/>
            <a:chOff x="0" y="115920"/>
            <a:chExt cx="9140760" cy="6548400"/>
          </a:xfrm>
        </p:grpSpPr>
        <p:grpSp>
          <p:nvGrpSpPr>
            <p:cNvPr id="7150" name="Group 3"/>
            <p:cNvGrpSpPr/>
            <p:nvPr/>
          </p:nvGrpSpPr>
          <p:grpSpPr>
            <a:xfrm>
              <a:off x="0" y="115920"/>
              <a:ext cx="9140760" cy="6548400"/>
              <a:chOff x="0" y="115920"/>
              <a:chExt cx="9140760" cy="6548400"/>
            </a:xfrm>
          </p:grpSpPr>
          <p:sp>
            <p:nvSpPr>
              <p:cNvPr id="71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56" name="Picture 9"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ffffff"/>
              </a:solidFill>
              <a:latin typeface="Times New Roman"/>
            </a:endParaRPr>
          </a:p>
        </p:txBody>
      </p:sp>
      <p:grpSp>
        <p:nvGrpSpPr>
          <p:cNvPr id="7158" name="Group 2"/>
          <p:cNvGrpSpPr/>
          <p:nvPr/>
        </p:nvGrpSpPr>
        <p:grpSpPr>
          <a:xfrm>
            <a:off x="0" y="115920"/>
            <a:ext cx="9140760" cy="6548400"/>
            <a:chOff x="0" y="115920"/>
            <a:chExt cx="9140760" cy="6548400"/>
          </a:xfrm>
        </p:grpSpPr>
        <p:grpSp>
          <p:nvGrpSpPr>
            <p:cNvPr id="7159" name="Group 3"/>
            <p:cNvGrpSpPr/>
            <p:nvPr/>
          </p:nvGrpSpPr>
          <p:grpSpPr>
            <a:xfrm>
              <a:off x="0" y="115920"/>
              <a:ext cx="9140760" cy="6548400"/>
              <a:chOff x="0" y="115920"/>
              <a:chExt cx="9140760" cy="6548400"/>
            </a:xfrm>
          </p:grpSpPr>
          <p:sp>
            <p:nvSpPr>
              <p:cNvPr id="71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64" name="Rectangle 8"/>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65" name="Picture 9"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7167" name="Group 2"/>
          <p:cNvGrpSpPr/>
          <p:nvPr/>
        </p:nvGrpSpPr>
        <p:grpSpPr>
          <a:xfrm>
            <a:off x="0" y="115920"/>
            <a:ext cx="9140760" cy="6548400"/>
            <a:chOff x="0" y="115920"/>
            <a:chExt cx="9140760" cy="6548400"/>
          </a:xfrm>
        </p:grpSpPr>
        <p:grpSp>
          <p:nvGrpSpPr>
            <p:cNvPr id="7168" name="Group 3"/>
            <p:cNvGrpSpPr/>
            <p:nvPr/>
          </p:nvGrpSpPr>
          <p:grpSpPr>
            <a:xfrm>
              <a:off x="0" y="115920"/>
              <a:ext cx="9140760" cy="6548400"/>
              <a:chOff x="0" y="115920"/>
              <a:chExt cx="9140760" cy="6548400"/>
            </a:xfrm>
          </p:grpSpPr>
          <p:sp>
            <p:nvSpPr>
              <p:cNvPr id="71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74" name="Picture 9"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5" name="Text Box 1"/>
          <p:cNvSpPr/>
          <p:nvPr/>
        </p:nvSpPr>
        <p:spPr>
          <a:xfrm>
            <a:off x="324000" y="1052640"/>
            <a:ext cx="828036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ffffff"/>
              </a:solidFill>
              <a:latin typeface="Times New Roman"/>
            </a:endParaRPr>
          </a:p>
        </p:txBody>
      </p:sp>
      <p:grpSp>
        <p:nvGrpSpPr>
          <p:cNvPr id="7176" name="Group 2"/>
          <p:cNvGrpSpPr/>
          <p:nvPr/>
        </p:nvGrpSpPr>
        <p:grpSpPr>
          <a:xfrm>
            <a:off x="0" y="115920"/>
            <a:ext cx="9140760" cy="6548400"/>
            <a:chOff x="0" y="115920"/>
            <a:chExt cx="9140760" cy="6548400"/>
          </a:xfrm>
        </p:grpSpPr>
        <p:grpSp>
          <p:nvGrpSpPr>
            <p:cNvPr id="7177" name="Group 3"/>
            <p:cNvGrpSpPr/>
            <p:nvPr/>
          </p:nvGrpSpPr>
          <p:grpSpPr>
            <a:xfrm>
              <a:off x="0" y="115920"/>
              <a:ext cx="9140760" cy="6548400"/>
              <a:chOff x="0" y="115920"/>
              <a:chExt cx="9140760" cy="6548400"/>
            </a:xfrm>
          </p:grpSpPr>
          <p:sp>
            <p:nvSpPr>
              <p:cNvPr id="71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83" name="Picture 9"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ffffff"/>
              </a:solidFill>
              <a:latin typeface="Times New Roman"/>
            </a:endParaRPr>
          </a:p>
        </p:txBody>
      </p:sp>
      <p:grpSp>
        <p:nvGrpSpPr>
          <p:cNvPr id="7185" name="Group 2"/>
          <p:cNvGrpSpPr/>
          <p:nvPr/>
        </p:nvGrpSpPr>
        <p:grpSpPr>
          <a:xfrm>
            <a:off x="0" y="115920"/>
            <a:ext cx="9140760" cy="6548400"/>
            <a:chOff x="0" y="115920"/>
            <a:chExt cx="9140760" cy="6548400"/>
          </a:xfrm>
        </p:grpSpPr>
        <p:grpSp>
          <p:nvGrpSpPr>
            <p:cNvPr id="7186" name="Group 3"/>
            <p:cNvGrpSpPr/>
            <p:nvPr/>
          </p:nvGrpSpPr>
          <p:grpSpPr>
            <a:xfrm>
              <a:off x="0" y="115920"/>
              <a:ext cx="9140760" cy="6548400"/>
              <a:chOff x="0" y="115920"/>
              <a:chExt cx="9140760" cy="6548400"/>
            </a:xfrm>
          </p:grpSpPr>
          <p:sp>
            <p:nvSpPr>
              <p:cNvPr id="71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2"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250920" y="1052640"/>
            <a:ext cx="864216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a:t>
            </a:r>
            <a:br>
              <a:rPr sz="2800"/>
            </a:br>
            <a:r>
              <a:rPr b="0" lang="el-GR" sz="2800" spc="-1" strike="noStrike">
                <a:solidFill>
                  <a:srgbClr val="000000"/>
                </a:solidFill>
                <a:latin typeface="Times New Roman"/>
              </a:rPr>
              <a:t>συγκεκριμένα </a:t>
            </a:r>
            <a:r>
              <a:rPr b="0" lang="en-US" sz="2800" spc="-1" strike="noStrike">
                <a:solidFill>
                  <a:srgbClr val="000000"/>
                </a:solidFill>
                <a:latin typeface="Times New Roman"/>
              </a:rPr>
              <a:t> </a:t>
            </a:r>
            <a:r>
              <a:rPr b="1" lang="el-GR" sz="2800" spc="-1" strike="noStrike">
                <a:solidFill>
                  <a:srgbClr val="000000"/>
                </a:solidFill>
                <a:latin typeface="Times New Roman"/>
              </a:rPr>
              <a:t>από τον Norwich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611280" y="1916280"/>
            <a:ext cx="827712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ffffff"/>
              </a:solidFill>
              <a:latin typeface="Times New Roman"/>
            </a:endParaRPr>
          </a:p>
        </p:txBody>
      </p:sp>
      <p:grpSp>
        <p:nvGrpSpPr>
          <p:cNvPr id="7194" name="Group 2"/>
          <p:cNvGrpSpPr/>
          <p:nvPr/>
        </p:nvGrpSpPr>
        <p:grpSpPr>
          <a:xfrm>
            <a:off x="0" y="115920"/>
            <a:ext cx="9140760" cy="6548400"/>
            <a:chOff x="0" y="115920"/>
            <a:chExt cx="9140760" cy="6548400"/>
          </a:xfrm>
        </p:grpSpPr>
        <p:grpSp>
          <p:nvGrpSpPr>
            <p:cNvPr id="7195" name="Group 3"/>
            <p:cNvGrpSpPr/>
            <p:nvPr/>
          </p:nvGrpSpPr>
          <p:grpSpPr>
            <a:xfrm>
              <a:off x="0" y="115920"/>
              <a:ext cx="9140760" cy="6548400"/>
              <a:chOff x="0" y="115920"/>
              <a:chExt cx="9140760" cy="6548400"/>
            </a:xfrm>
          </p:grpSpPr>
          <p:sp>
            <p:nvSpPr>
              <p:cNvPr id="71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1" name="Picture 9"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ffffff"/>
              </a:solidFill>
              <a:latin typeface="Times New Roman"/>
            </a:endParaRPr>
          </a:p>
        </p:txBody>
      </p:sp>
      <p:grpSp>
        <p:nvGrpSpPr>
          <p:cNvPr id="7203" name="Group 2"/>
          <p:cNvGrpSpPr/>
          <p:nvPr/>
        </p:nvGrpSpPr>
        <p:grpSpPr>
          <a:xfrm>
            <a:off x="0" y="115920"/>
            <a:ext cx="9140760" cy="6548400"/>
            <a:chOff x="0" y="115920"/>
            <a:chExt cx="9140760" cy="6548400"/>
          </a:xfrm>
        </p:grpSpPr>
        <p:grpSp>
          <p:nvGrpSpPr>
            <p:cNvPr id="7204" name="Group 3"/>
            <p:cNvGrpSpPr/>
            <p:nvPr/>
          </p:nvGrpSpPr>
          <p:grpSpPr>
            <a:xfrm>
              <a:off x="0" y="115920"/>
              <a:ext cx="9140760" cy="6548400"/>
              <a:chOff x="0" y="115920"/>
              <a:chExt cx="9140760" cy="6548400"/>
            </a:xfrm>
          </p:grpSpPr>
          <p:sp>
            <p:nvSpPr>
              <p:cNvPr id="72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0" name="Picture 9"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ffffff"/>
              </a:solidFill>
              <a:latin typeface="Times New Roman"/>
            </a:endParaRPr>
          </a:p>
        </p:txBody>
      </p:sp>
      <p:grpSp>
        <p:nvGrpSpPr>
          <p:cNvPr id="7212" name="Group 2"/>
          <p:cNvGrpSpPr/>
          <p:nvPr/>
        </p:nvGrpSpPr>
        <p:grpSpPr>
          <a:xfrm>
            <a:off x="0" y="115920"/>
            <a:ext cx="9140760" cy="6548400"/>
            <a:chOff x="0" y="115920"/>
            <a:chExt cx="9140760" cy="6548400"/>
          </a:xfrm>
        </p:grpSpPr>
        <p:grpSp>
          <p:nvGrpSpPr>
            <p:cNvPr id="7213" name="Group 3"/>
            <p:cNvGrpSpPr/>
            <p:nvPr/>
          </p:nvGrpSpPr>
          <p:grpSpPr>
            <a:xfrm>
              <a:off x="0" y="115920"/>
              <a:ext cx="9140760" cy="6548400"/>
              <a:chOff x="0" y="115920"/>
              <a:chExt cx="9140760" cy="6548400"/>
            </a:xfrm>
          </p:grpSpPr>
          <p:sp>
            <p:nvSpPr>
              <p:cNvPr id="72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9" name="Picture 9"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ffffff"/>
              </a:solidFill>
              <a:latin typeface="Times New Roman"/>
            </a:endParaRPr>
          </a:p>
        </p:txBody>
      </p:sp>
      <p:grpSp>
        <p:nvGrpSpPr>
          <p:cNvPr id="7221" name="Group 2"/>
          <p:cNvGrpSpPr/>
          <p:nvPr/>
        </p:nvGrpSpPr>
        <p:grpSpPr>
          <a:xfrm>
            <a:off x="0" y="115920"/>
            <a:ext cx="9140760" cy="6548400"/>
            <a:chOff x="0" y="115920"/>
            <a:chExt cx="9140760" cy="6548400"/>
          </a:xfrm>
        </p:grpSpPr>
        <p:grpSp>
          <p:nvGrpSpPr>
            <p:cNvPr id="7222" name="Group 3"/>
            <p:cNvGrpSpPr/>
            <p:nvPr/>
          </p:nvGrpSpPr>
          <p:grpSpPr>
            <a:xfrm>
              <a:off x="0" y="115920"/>
              <a:ext cx="9140760" cy="6548400"/>
              <a:chOff x="0" y="115920"/>
              <a:chExt cx="9140760" cy="6548400"/>
            </a:xfrm>
          </p:grpSpPr>
          <p:sp>
            <p:nvSpPr>
              <p:cNvPr id="72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28" name="Picture 9"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ffffff"/>
              </a:solidFill>
              <a:latin typeface="Times New Roman"/>
            </a:endParaRPr>
          </a:p>
        </p:txBody>
      </p:sp>
      <p:grpSp>
        <p:nvGrpSpPr>
          <p:cNvPr id="7230" name="Group 2"/>
          <p:cNvGrpSpPr/>
          <p:nvPr/>
        </p:nvGrpSpPr>
        <p:grpSpPr>
          <a:xfrm>
            <a:off x="0" y="115920"/>
            <a:ext cx="9140760" cy="6548400"/>
            <a:chOff x="0" y="115920"/>
            <a:chExt cx="9140760" cy="6548400"/>
          </a:xfrm>
        </p:grpSpPr>
        <p:grpSp>
          <p:nvGrpSpPr>
            <p:cNvPr id="7231" name="Group 3"/>
            <p:cNvGrpSpPr/>
            <p:nvPr/>
          </p:nvGrpSpPr>
          <p:grpSpPr>
            <a:xfrm>
              <a:off x="0" y="115920"/>
              <a:ext cx="9140760" cy="6548400"/>
              <a:chOff x="0" y="115920"/>
              <a:chExt cx="9140760" cy="6548400"/>
            </a:xfrm>
          </p:grpSpPr>
          <p:sp>
            <p:nvSpPr>
              <p:cNvPr id="72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37" name="Picture 9"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ffffff"/>
              </a:solidFill>
              <a:latin typeface="Times New Roman"/>
            </a:endParaRPr>
          </a:p>
        </p:txBody>
      </p:sp>
      <p:grpSp>
        <p:nvGrpSpPr>
          <p:cNvPr id="7239" name="Group 2"/>
          <p:cNvGrpSpPr/>
          <p:nvPr/>
        </p:nvGrpSpPr>
        <p:grpSpPr>
          <a:xfrm>
            <a:off x="0" y="115920"/>
            <a:ext cx="9140760" cy="6548400"/>
            <a:chOff x="0" y="115920"/>
            <a:chExt cx="9140760" cy="6548400"/>
          </a:xfrm>
        </p:grpSpPr>
        <p:grpSp>
          <p:nvGrpSpPr>
            <p:cNvPr id="7240" name="Group 3"/>
            <p:cNvGrpSpPr/>
            <p:nvPr/>
          </p:nvGrpSpPr>
          <p:grpSpPr>
            <a:xfrm>
              <a:off x="0" y="115920"/>
              <a:ext cx="9140760" cy="6548400"/>
              <a:chOff x="0" y="115920"/>
              <a:chExt cx="9140760" cy="6548400"/>
            </a:xfrm>
          </p:grpSpPr>
          <p:sp>
            <p:nvSpPr>
              <p:cNvPr id="72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46" name="Picture 9"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7"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ffffff"/>
              </a:solidFill>
              <a:latin typeface="Times New Roman"/>
            </a:endParaRPr>
          </a:p>
        </p:txBody>
      </p:sp>
      <p:grpSp>
        <p:nvGrpSpPr>
          <p:cNvPr id="7248" name="Group 2"/>
          <p:cNvGrpSpPr/>
          <p:nvPr/>
        </p:nvGrpSpPr>
        <p:grpSpPr>
          <a:xfrm>
            <a:off x="0" y="115920"/>
            <a:ext cx="9140760" cy="6548400"/>
            <a:chOff x="0" y="115920"/>
            <a:chExt cx="9140760" cy="6548400"/>
          </a:xfrm>
        </p:grpSpPr>
        <p:grpSp>
          <p:nvGrpSpPr>
            <p:cNvPr id="7249" name="Group 3"/>
            <p:cNvGrpSpPr/>
            <p:nvPr/>
          </p:nvGrpSpPr>
          <p:grpSpPr>
            <a:xfrm>
              <a:off x="0" y="115920"/>
              <a:ext cx="9140760" cy="6548400"/>
              <a:chOff x="0" y="115920"/>
              <a:chExt cx="9140760" cy="6548400"/>
            </a:xfrm>
          </p:grpSpPr>
          <p:sp>
            <p:nvSpPr>
              <p:cNvPr id="72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55" name="Picture 9"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ffffff"/>
              </a:solidFill>
              <a:latin typeface="Times New Roman"/>
            </a:endParaRPr>
          </a:p>
        </p:txBody>
      </p:sp>
      <p:grpSp>
        <p:nvGrpSpPr>
          <p:cNvPr id="7257" name="Group 2"/>
          <p:cNvGrpSpPr/>
          <p:nvPr/>
        </p:nvGrpSpPr>
        <p:grpSpPr>
          <a:xfrm>
            <a:off x="0" y="115920"/>
            <a:ext cx="9140760" cy="6548400"/>
            <a:chOff x="0" y="115920"/>
            <a:chExt cx="9140760" cy="6548400"/>
          </a:xfrm>
        </p:grpSpPr>
        <p:grpSp>
          <p:nvGrpSpPr>
            <p:cNvPr id="7258" name="Group 3"/>
            <p:cNvGrpSpPr/>
            <p:nvPr/>
          </p:nvGrpSpPr>
          <p:grpSpPr>
            <a:xfrm>
              <a:off x="0" y="115920"/>
              <a:ext cx="9140760" cy="6548400"/>
              <a:chOff x="0" y="115920"/>
              <a:chExt cx="9140760" cy="6548400"/>
            </a:xfrm>
          </p:grpSpPr>
          <p:sp>
            <p:nvSpPr>
              <p:cNvPr id="72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64" name="Picture 9"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ffffff"/>
              </a:solidFill>
              <a:latin typeface="Times New Roman"/>
            </a:endParaRPr>
          </a:p>
        </p:txBody>
      </p:sp>
      <p:grpSp>
        <p:nvGrpSpPr>
          <p:cNvPr id="7266" name="Group 2"/>
          <p:cNvGrpSpPr/>
          <p:nvPr/>
        </p:nvGrpSpPr>
        <p:grpSpPr>
          <a:xfrm>
            <a:off x="0" y="115920"/>
            <a:ext cx="9140760" cy="6548400"/>
            <a:chOff x="0" y="115920"/>
            <a:chExt cx="9140760" cy="6548400"/>
          </a:xfrm>
        </p:grpSpPr>
        <p:grpSp>
          <p:nvGrpSpPr>
            <p:cNvPr id="7267" name="Group 3"/>
            <p:cNvGrpSpPr/>
            <p:nvPr/>
          </p:nvGrpSpPr>
          <p:grpSpPr>
            <a:xfrm>
              <a:off x="0" y="115920"/>
              <a:ext cx="9140760" cy="6548400"/>
              <a:chOff x="0" y="115920"/>
              <a:chExt cx="9140760" cy="6548400"/>
            </a:xfrm>
          </p:grpSpPr>
          <p:sp>
            <p:nvSpPr>
              <p:cNvPr id="72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73" name="Picture 9"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ffffff"/>
              </a:solidFill>
              <a:latin typeface="Times New Roman"/>
            </a:endParaRPr>
          </a:p>
        </p:txBody>
      </p:sp>
      <p:grpSp>
        <p:nvGrpSpPr>
          <p:cNvPr id="7275" name="Group 2"/>
          <p:cNvGrpSpPr/>
          <p:nvPr/>
        </p:nvGrpSpPr>
        <p:grpSpPr>
          <a:xfrm>
            <a:off x="0" y="115920"/>
            <a:ext cx="9140760" cy="6548400"/>
            <a:chOff x="0" y="115920"/>
            <a:chExt cx="9140760" cy="6548400"/>
          </a:xfrm>
        </p:grpSpPr>
        <p:grpSp>
          <p:nvGrpSpPr>
            <p:cNvPr id="7276" name="Group 3"/>
            <p:cNvGrpSpPr/>
            <p:nvPr/>
          </p:nvGrpSpPr>
          <p:grpSpPr>
            <a:xfrm>
              <a:off x="0" y="115920"/>
              <a:ext cx="9140760" cy="6548400"/>
              <a:chOff x="0" y="115920"/>
              <a:chExt cx="9140760" cy="6548400"/>
            </a:xfrm>
          </p:grpSpPr>
          <p:sp>
            <p:nvSpPr>
              <p:cNvPr id="72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2:38Z</dcterms:modified>
  <cp:revision>1</cp:revision>
  <dc:subject/>
  <dc:title/>
</cp:coreProperties>
</file>